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355-69F8-4727-ABAB-61DA181F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20D-DA38-48B8-8AAB-F446A8F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E9B9-2DEA-4352-8E62-275E2A73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1E9F4-9260-499C-9D07-C19BDDB7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C9385-B2D7-4F51-BAAA-3A35285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AD57-4D41-4608-8F07-991E58C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62F4F-324C-4284-8594-8104083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39F1F-0E04-4435-89F8-942C2AE9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0DD81-A015-4C9F-B02B-0CD65D97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5088-F4D9-47ED-8670-9FB4ECCA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93225-6679-4EBF-8134-3119FC99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B644-2195-4DB0-A065-7E29619B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7C8-0173-4248-9E06-8EAB0675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C893F-305D-4534-A016-52416EB0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C5C23-FB8A-4C5A-A107-0D315E3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907D-2C55-4107-996F-8344BC6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1EB7E-5A8C-43E6-94F1-35752AF2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0CF4E-848B-410F-B512-0F0E8320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1D9C5-D411-402A-A90D-BCEA46A7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FD251-857E-4DEC-B8AF-6105457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E61A7-500B-41FE-B4FD-F32CFAC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744F9-823C-4D2A-8742-D0EDA03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48901-9FFA-4AD2-B91E-7D10BDD3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FFF-D017-49F0-A9B5-7D1E9C38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89243-FF73-433E-AF0A-92FCD701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2CC9F-90B1-4A14-A682-18B39070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07706-76E1-4925-A21B-6E999B3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2F138-0E4F-4EB2-A6B3-17A5070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FBF9-1A80-4CE6-A558-CFC57E88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EB05D-8392-4159-8169-2B63DFA6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83B90-F7C3-40C3-92AA-3FBCF73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76D56-2B96-4FC5-B024-4965A8A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E970F-7544-497B-B4F6-A55D93F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AA1EA-6A93-44A6-828B-96304BE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7739-DD3F-4AF0-B874-10CFA095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4F64-F3C9-43BF-97E8-9A8BFD6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20B6-524F-487D-9B64-49DCC0F5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4D12A-667A-431C-B63B-77A04DC5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1C156-87EA-47EE-8B13-E27EBA0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8C6A-D906-4F12-989D-66C46D7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AC9C5-23D2-41F4-88FB-8859368C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86F8-850A-4CF4-B918-EFBC3B2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FAA30-5322-4F14-ABD5-6BC461EA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F9AE-E29E-4834-8E78-7AB3680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79BAB-932D-436E-B896-1B2EC66F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84C-B59F-4938-977C-6481B565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22E53-99FD-4F00-8B81-1134E4F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B8C7-4F40-4BED-B03A-ED9BDEC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E9BCB-9268-4313-865B-A8DA80D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9D2A0-77B1-4F7E-963F-34A3785F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4F7B7-C5F7-4BE3-B8B6-47DA0F87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6CD8E-ED5B-4E5C-A05A-066B712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D948D-B83F-4DDA-95BF-6B97B7A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FFF6F-EE56-4D8E-8453-59E156F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5492D-67B7-4682-AF0C-5068872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7F92E-4CB3-43C3-9DBD-7BB0BA62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FF79-7725-4DB0-85BC-2C79DE9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24E81-05A2-4BAF-B59A-11C88F00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2A9B5-2D38-4485-B852-18D09D2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439D3-5678-4617-A11B-114BE07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12558-DAE4-4B6F-A887-AC77589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5A9F3-FBD8-4A53-9362-997F403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D5459-FF84-4B22-AE24-B73CFE59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9BA45-8D08-4DF5-914E-033D2EC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EEBC-959F-4895-898B-F64FCFB9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85E1-D3F0-4AFE-957C-B6636C5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0FF1-5B14-48E7-B34D-02F70167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7CE7-F84B-4157-A1EC-2078EBB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35C-2640-4806-ABF6-1DB9148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E7B-EE65-4C68-BA2C-DE1DF43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3CC-8CD5-4CC0-9100-84BD7F7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027-0322-4AF2-9A58-A0E857FE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1932-98DF-4C55-8481-FAD0E4D0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5C1C-7EA6-47B1-A24E-33417AB8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1DE5-8B71-4300-B447-925EFA0A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FF22-4BDE-4F24-BF0C-9F69FC2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357D-11B1-4708-A8C0-1B1F2227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5D70-0D67-4A84-B64D-999BF160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6CC4-FDD6-41DA-8993-06DAC8D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309-C553-4D97-8AF1-F3BB8C8B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4A72-E9DA-4808-8400-D21F8FEA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B496-5F85-4656-821D-ECBC2CF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C00C-777C-49D1-9C17-6DC4DE6D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9B6C-6350-4596-ABF3-F410421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9F03-4D46-4920-A3EC-54C5154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A501-CC6C-465B-849A-F596ECC8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6FEC-14AE-4690-92F1-AC6AF9A9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834B-1585-4B54-853E-0D612B11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C996-54E9-4B28-8258-2B7291FC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46A3-DAC8-4C9F-BA3E-6A7055E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60D-9C3A-449E-82EF-C7EA5645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8C8B-8759-4142-A303-367843F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F939-0612-4213-90FD-CE5925FB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518D-18AD-4E19-8FCD-115A58E9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B151-90E4-44E4-ACB4-5274EF5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6BB6-D2EE-4025-A269-D3B3F31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0E12E-4ED9-40FB-93E6-E91C246F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FF9D-47E7-4B1E-AD04-F9A6699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C2E5-C924-4A69-8948-C92C2416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5EF4-F9D7-4D15-A152-9F9B476F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28BF-BE83-4D8B-A485-69BEB8AB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E07-8601-447D-B4DE-350B73A2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2463-A7EF-4E11-A251-DD751B3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47B4-8421-423E-A345-3E6058D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F155-F5A1-43EE-9882-E2278D6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1238-0A6B-43E0-AD8D-E1DBBA8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9994-DC09-4DFD-BD50-4736730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39824-AF6F-46C7-9D25-0723AD1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55B4-2072-4936-B5A4-2D3BE40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CF40-F8A2-4F35-B503-8C636BE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42A0-D95A-467F-AD68-CAD9C8E1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EF78-6210-40ED-AE67-5611C6D6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2E2-BF24-477C-B8E9-831D890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B0BE-6435-4DAF-9494-DDC08D3A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485F-E76F-421B-8555-62F60CF3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7B71-E985-439B-B2A7-62EFF7AD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BA50-F73B-41CF-99CC-5D34BC2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BBEA-530A-4581-9988-999BBE1E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DA74-2CE8-4B5D-A365-D2FB67A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9A71-A2A0-45CC-87A3-9BABE20C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DB06-9084-4CF1-B90D-50B6994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419B-E4A6-4CFD-B457-E5CA2FE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15F5-4B7F-49E4-8FA6-F9F3C6D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41C-21AC-4C11-9765-AD8EDF5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5573-532C-4268-8C3B-072A1E85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8C35D-F553-428F-A0BA-49F11CE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18D3-CA1D-4C15-A3BD-EFDD93EF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8D38-B3A8-4CF8-BA7C-86C0C8DD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A079-DEED-49EC-8A70-6F39F7B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EEAE-2823-43FC-992B-05A77326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4AC76-A843-4960-BD45-C1A149B2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1208B-9F53-4244-9998-618858AF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CDF9-F7DE-427F-9629-D71C31C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D1989-DE67-4619-806D-AC97162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AEA-3D68-4A26-9A29-715392C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9FBD-8422-43C6-9EC4-FA4E4E9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CE78-92F7-407E-ABAA-BAE826E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90B5-E4EC-48C9-A973-5EF5B4C3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2475-3F3C-4CAB-A9E0-FE08ACB5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6093E-4731-48E8-BDD0-23AACAB1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990D-5758-499D-974A-C27AAD85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3F13-7CDC-4DF8-B30C-D378E27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5AA4-A1F8-49C1-86CB-A08C3EA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A237-BDC7-4BF5-B2A9-EF374A2A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3D7B8-C57D-4762-A443-A70EB15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E36-819B-4C1E-AE45-AE84A6E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4F2A-FDD1-45CA-B2A5-B93EB1E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6FA4-0EC9-475A-9B42-C958F754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2A08D-4423-49F0-9411-FC4A19B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BAC13-B1A4-40BB-9B0A-51B2F03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CED1-B6EF-48B3-ADB8-2E4A8104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5FB1-B2B5-46AE-AF00-72BFF0A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7454-A0B5-4D36-A146-E55EFFC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D0E51-C495-42E5-ABC2-82058CE7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BF6E-19A3-4C94-8330-DBE6D80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F307-BB26-4E17-B613-97F9AEBF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2624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2624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2624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3A3-8C86-4F7B-ADB6-795EE326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70C-B4A0-430A-87C0-2CE3AFF71FFE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11B-BCE5-4589-9999-78299119C1D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D1A6-C378-4FAF-B67D-CFA295FA489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2EE-1DB4-4B1E-B8A1-EA7EEDEC7BF5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574-05AC-4BD6-A752-FE56C7B609C1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915-DE2C-49EF-9DF6-A26C54FF8498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F86-594A-4AC4-A53C-333B3ECFEDB9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A30-9684-4AC2-90F9-58B42CB169FD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A02-0C51-400B-B566-EADE1E8069E5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85B-5A5E-4F31-A96D-6D018ABB5D44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DF5-9345-46DD-8ACD-6294DB71B972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A941-8106-4EF8-B9EC-CC78231D15F7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图形1"/>
          <p:cNvPicPr/>
          <p:nvPr/>
        </p:nvPicPr>
        <p:blipFill>
          <a:blip r:embed="rId1"/>
          <a:stretch/>
        </p:blipFill>
        <p:spPr>
          <a:xfrm>
            <a:off x="2881440" y="2035080"/>
            <a:ext cx="699840" cy="696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图形2"/>
          <p:cNvPicPr/>
          <p:nvPr/>
        </p:nvPicPr>
        <p:blipFill>
          <a:blip r:embed="rId2"/>
          <a:stretch/>
        </p:blipFill>
        <p:spPr>
          <a:xfrm>
            <a:off x="3933720" y="1349280"/>
            <a:ext cx="2238480" cy="40176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8"/>
          <p:cNvSpPr/>
          <p:nvPr/>
        </p:nvSpPr>
        <p:spPr>
          <a:xfrm>
            <a:off x="8229600" y="20628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8305920" y="58752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7924680" y="81612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8229600" y="96840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8458200" y="112068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8305920" y="142560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8381880" y="16542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8153280" y="20350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8534520" y="73980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8001000" y="127332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8" descr="4"/>
          <p:cNvPicPr/>
          <p:nvPr/>
        </p:nvPicPr>
        <p:blipFill>
          <a:blip r:embed="rId3"/>
          <a:stretch/>
        </p:blipFill>
        <p:spPr>
          <a:xfrm>
            <a:off x="3909960" y="2352600"/>
            <a:ext cx="2290680" cy="403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9" descr="3"/>
          <p:cNvPicPr/>
          <p:nvPr/>
        </p:nvPicPr>
        <p:blipFill>
          <a:blip r:embed="rId4"/>
          <a:stretch/>
        </p:blipFill>
        <p:spPr>
          <a:xfrm>
            <a:off x="3914640" y="1854360"/>
            <a:ext cx="2286000" cy="399960"/>
          </a:xfrm>
          <a:prstGeom prst="rect">
            <a:avLst/>
          </a:prstGeom>
          <a:ln w="0">
            <a:noFill/>
          </a:ln>
        </p:spPr>
      </p:pic>
      <p:sp>
        <p:nvSpPr>
          <p:cNvPr id="547" name="Line 20"/>
          <p:cNvSpPr/>
          <p:nvPr/>
        </p:nvSpPr>
        <p:spPr>
          <a:xfrm>
            <a:off x="3733920" y="1349280"/>
            <a:ext cx="0" cy="1447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1" descr="6b653bfdc48a6c60d7887d3f"/>
          <p:cNvPicPr/>
          <p:nvPr/>
        </p:nvPicPr>
        <p:blipFill>
          <a:blip r:embed="rId5"/>
          <a:srcRect l="0" t="43750" r="0" b="49587"/>
          <a:stretch/>
        </p:blipFill>
        <p:spPr>
          <a:xfrm>
            <a:off x="0" y="4245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49" name="YIRUMA-雨的印记.wma" descr=""/>
          <p:cNvPicPr/>
          <p:nvPr/>
        </p:nvPicPr>
        <p:blipFill>
          <a:blip r:embed="rId6"/>
          <a:stretch/>
        </p:blipFill>
        <p:spPr>
          <a:xfrm>
            <a:off x="4495680" y="2416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矩形 1"/>
          <p:cNvSpPr/>
          <p:nvPr/>
        </p:nvSpPr>
        <p:spPr>
          <a:xfrm>
            <a:off x="1992600" y="272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9"/>
          <p:cNvSpPr/>
          <p:nvPr/>
        </p:nvSpPr>
        <p:spPr>
          <a:xfrm>
            <a:off x="347400" y="3841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8"/>
          <p:cNvPicPr/>
          <p:nvPr/>
        </p:nvPicPr>
        <p:blipFill>
          <a:blip r:embed="rId1"/>
          <a:srcRect l="0" t="0" r="0" b="10272"/>
          <a:stretch/>
        </p:blipFill>
        <p:spPr>
          <a:xfrm>
            <a:off x="1752480" y="669960"/>
            <a:ext cx="5461200" cy="32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7"/>
          <p:cNvPicPr/>
          <p:nvPr/>
        </p:nvPicPr>
        <p:blipFill>
          <a:blip r:embed="rId1"/>
          <a:srcRect l="0" t="0" r="0" b="10272"/>
          <a:stretch/>
        </p:blipFill>
        <p:spPr>
          <a:xfrm>
            <a:off x="1752480" y="669960"/>
            <a:ext cx="5461200" cy="32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71560" y="128160"/>
            <a:ext cx="560088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25680" y="866520"/>
            <a:ext cx="609264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6424560" y="227160"/>
            <a:ext cx="947880" cy="23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066680" y="1744560"/>
            <a:ext cx="36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6600"/>
                </a:solidFill>
                <a:latin typeface="Arial"/>
                <a:ea typeface="微软雅黑"/>
              </a:rPr>
              <a:t>生态环保、绿色生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1857240" y="2354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微软雅黑"/>
              </a:rPr>
              <a:t>让绿色成为一种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"/>
          <p:cNvSpPr/>
          <p:nvPr/>
        </p:nvSpPr>
        <p:spPr>
          <a:xfrm>
            <a:off x="4724280" y="1168560"/>
            <a:ext cx="0" cy="2133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6b653bfdc48a6c60d7887d3f"/>
          <p:cNvPicPr/>
          <p:nvPr/>
        </p:nvPicPr>
        <p:blipFill>
          <a:blip r:embed="rId1"/>
          <a:srcRect l="0" t="447" r="0" b="10682"/>
          <a:stretch/>
        </p:blipFill>
        <p:spPr>
          <a:xfrm>
            <a:off x="5257800" y="1247760"/>
            <a:ext cx="2895480" cy="193032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  <p:pic>
        <p:nvPicPr>
          <p:cNvPr id="613" name="Picture 6" descr="6b653bfdc48a6c60d7887d3f"/>
          <p:cNvPicPr/>
          <p:nvPr/>
        </p:nvPicPr>
        <p:blipFill>
          <a:blip r:embed="rId2"/>
          <a:srcRect l="0" t="43750" r="0" b="49587"/>
          <a:stretch/>
        </p:blipFill>
        <p:spPr>
          <a:xfrm>
            <a:off x="0" y="424512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5"/>
          <p:cNvPicPr/>
          <p:nvPr/>
        </p:nvPicPr>
        <p:blipFill>
          <a:blip r:embed="rId1"/>
          <a:stretch/>
        </p:blipFill>
        <p:spPr>
          <a:xfrm>
            <a:off x="5257800" y="920880"/>
            <a:ext cx="2743200" cy="2057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15" name="Line 6"/>
          <p:cNvSpPr/>
          <p:nvPr/>
        </p:nvSpPr>
        <p:spPr>
          <a:xfrm>
            <a:off x="4876920" y="892080"/>
            <a:ext cx="0" cy="2133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914400" y="17589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微软雅黑"/>
              </a:rPr>
              <a:t>最后强烈呼吁大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2514600" y="1530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微软雅黑"/>
              </a:rPr>
              <a:t>戒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248520" y="4332240"/>
            <a:ext cx="33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家： 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eeppt.com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2666880" y="2111400"/>
            <a:ext cx="30492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3200400" y="16542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962520" y="157788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5181480" y="1349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5105520" y="1806480"/>
            <a:ext cx="15228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4191120" y="25686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5410080" y="2568600"/>
            <a:ext cx="15264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4"/>
          <p:cNvSpPr/>
          <p:nvPr/>
        </p:nvSpPr>
        <p:spPr>
          <a:xfrm>
            <a:off x="6172200" y="195912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324480" y="2492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图形2"/>
          <p:cNvPicPr/>
          <p:nvPr/>
        </p:nvPicPr>
        <p:blipFill>
          <a:blip r:embed="rId1"/>
          <a:stretch/>
        </p:blipFill>
        <p:spPr>
          <a:xfrm>
            <a:off x="3048120" y="2035080"/>
            <a:ext cx="3124080" cy="5605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6"/>
          <p:cNvSpPr/>
          <p:nvPr/>
        </p:nvSpPr>
        <p:spPr>
          <a:xfrm>
            <a:off x="0" y="-3143160"/>
            <a:ext cx="9296280" cy="3124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0" y="4702320"/>
            <a:ext cx="9296280" cy="3047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0"/>
          <p:cNvSpPr/>
          <p:nvPr/>
        </p:nvSpPr>
        <p:spPr>
          <a:xfrm rot="16200000">
            <a:off x="3067200" y="-460800"/>
            <a:ext cx="2895480" cy="5295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1924E-006 L -3.33333E-006 0.54472 E">
                                      <p:cBhvr>
                                        <p:cTn id="147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85908E-007 L -3.33333E-006 -0.52032 E">
                                      <p:cBhvr>
                                        <p:cTn id="149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2666880" y="2111400"/>
            <a:ext cx="30492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3200400" y="16542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3962520" y="157788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5181480" y="1349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5105520" y="1806480"/>
            <a:ext cx="15228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4191120" y="25686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5410080" y="2568600"/>
            <a:ext cx="15264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6172200" y="195912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6324480" y="2492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3"/>
          <p:cNvPicPr/>
          <p:nvPr/>
        </p:nvPicPr>
        <p:blipFill>
          <a:blip r:embed="rId1"/>
          <a:stretch/>
        </p:blipFill>
        <p:spPr>
          <a:xfrm>
            <a:off x="3048120" y="1959120"/>
            <a:ext cx="312408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28600" y="84600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00"/>
                </a:solidFill>
                <a:latin typeface="微软雅黑"/>
                <a:ea typeface="微软雅黑"/>
              </a:rPr>
              <a:t>新鲜时尚 环保人的低碳婚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5" descr="1"/>
          <p:cNvPicPr/>
          <p:nvPr/>
        </p:nvPicPr>
        <p:blipFill>
          <a:blip r:embed="rId1"/>
          <a:stretch/>
        </p:blipFill>
        <p:spPr>
          <a:xfrm>
            <a:off x="1219320" y="1440000"/>
            <a:ext cx="3504960" cy="233496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578" name="Picture 6" descr="2"/>
          <p:cNvPicPr/>
          <p:nvPr/>
        </p:nvPicPr>
        <p:blipFill>
          <a:blip r:embed="rId2"/>
          <a:stretch/>
        </p:blipFill>
        <p:spPr>
          <a:xfrm>
            <a:off x="4800600" y="1454040"/>
            <a:ext cx="3505320" cy="233388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6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1066680" y="43488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6600"/>
                </a:solidFill>
                <a:latin typeface="微软雅黑"/>
                <a:ea typeface="微软雅黑"/>
              </a:rPr>
              <a:t>十年树木 百年树人 </a:t>
            </a:r>
            <a:r>
              <a:rPr b="0" lang="en-US" sz="2200" spc="-1" strike="noStrike">
                <a:solidFill>
                  <a:srgbClr val="006600"/>
                </a:solidFill>
                <a:latin typeface="微软雅黑"/>
                <a:ea typeface="微软雅黑"/>
              </a:rPr>
              <a:t>Honda</a:t>
            </a:r>
            <a:r>
              <a:rPr b="0" lang="zh-CN" sz="2200" spc="-1" strike="noStrike">
                <a:solidFill>
                  <a:srgbClr val="006600"/>
                </a:solidFill>
                <a:latin typeface="微软雅黑"/>
                <a:ea typeface="微软雅黑"/>
              </a:rPr>
              <a:t>再赴内蒙古开展植树活动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3"/>
          <p:cNvPicPr/>
          <p:nvPr/>
        </p:nvPicPr>
        <p:blipFill>
          <a:blip r:embed="rId1"/>
          <a:stretch/>
        </p:blipFill>
        <p:spPr>
          <a:xfrm>
            <a:off x="2438280" y="1062000"/>
            <a:ext cx="4343400" cy="30304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582" name="Picture 4" descr="4"/>
          <p:cNvPicPr/>
          <p:nvPr/>
        </p:nvPicPr>
        <p:blipFill>
          <a:blip r:embed="rId2"/>
          <a:srcRect l="0" t="0" r="0" b="2818"/>
          <a:stretch/>
        </p:blipFill>
        <p:spPr>
          <a:xfrm>
            <a:off x="2438280" y="1044720"/>
            <a:ext cx="4343400" cy="3124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666880" y="2111400"/>
            <a:ext cx="30492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3200400" y="16542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962520" y="157788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5181480" y="1349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5105520" y="1806480"/>
            <a:ext cx="15228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4191120" y="2568600"/>
            <a:ext cx="2286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5410080" y="2568600"/>
            <a:ext cx="15264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6172200" y="1959120"/>
            <a:ext cx="152280" cy="1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6324480" y="2492280"/>
            <a:ext cx="152640" cy="1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2" descr="4"/>
          <p:cNvPicPr/>
          <p:nvPr/>
        </p:nvPicPr>
        <p:blipFill>
          <a:blip r:embed="rId1"/>
          <a:stretch/>
        </p:blipFill>
        <p:spPr>
          <a:xfrm>
            <a:off x="2967120" y="1959120"/>
            <a:ext cx="3128760" cy="5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5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6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"/>
          <p:cNvSpPr/>
          <p:nvPr/>
        </p:nvSpPr>
        <p:spPr>
          <a:xfrm>
            <a:off x="914400" y="469800"/>
            <a:ext cx="746748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美国墨西哥湾，英国石油公司租用的“深水地平线”钻井平台井喷爆炸着火。大约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后，平台沉入墨西哥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914400" y="1239840"/>
            <a:ext cx="746748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大连新港输油管道爆炸事故发生后，泄漏原油伴随海水冲刷到海滩上，海岸线旅游环境、近海养殖和居民生活受到威胁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914400" y="2073240"/>
            <a:ext cx="746748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各地区、各部门积极贯彻落实党中央、国务院关于节能减排工作的决策部署，综合运用法律、经济、技术、行政等手段，切实加大工作力度，推动污染减排取得重大进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919080" y="3102120"/>
            <a:ext cx="746784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针对两部委联合下发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国际烟草控制框架公约协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G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员吴宜群昨日表示，对教师提出这样的要求就是要动员他们戒烟。尽管抽烟是自由，但老师抽烟的话就无法劝学生，学生可能会问，“你自己就抽烟，怎么让我戒烟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" descr="6"/>
          <p:cNvPicPr/>
          <p:nvPr/>
        </p:nvPicPr>
        <p:blipFill>
          <a:blip r:embed="rId1"/>
          <a:srcRect l="0" t="0" r="0" b="10272"/>
          <a:stretch/>
        </p:blipFill>
        <p:spPr>
          <a:xfrm>
            <a:off x="1752480" y="669960"/>
            <a:ext cx="5461200" cy="32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 rot="16200000">
            <a:off x="2246400" y="-2232000"/>
            <a:ext cx="4680000" cy="9144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006600"/>
              </a:gs>
            </a:gsLst>
            <a:lin ang="108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9"/>
          <p:cNvPicPr/>
          <p:nvPr/>
        </p:nvPicPr>
        <p:blipFill>
          <a:blip r:embed="rId1"/>
          <a:srcRect l="0" t="0" r="0" b="10272"/>
          <a:stretch/>
        </p:blipFill>
        <p:spPr>
          <a:xfrm>
            <a:off x="1752480" y="669960"/>
            <a:ext cx="5461200" cy="327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幻灯片之家 http:/www.eeppt.com</cp:keywords>
  <dc:language>en-US</dc:language>
  <cp:lastModifiedBy/>
  <dcterms:modified xsi:type="dcterms:W3CDTF">2015-07-20T06:36:34Z</dcterms:modified>
  <cp:revision>0</cp:revision>
  <dc:subject/>
  <dc:title/>
</cp:coreProperties>
</file>