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4765-CD3C-4FC3-8D4B-605856C7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5943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00200" y="3964680"/>
            <a:ext cx="5943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75245-5B9A-4226-B2CB-C81F0BB3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5800" y="213372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00200" y="396468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5800" y="396468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F118F-3049-4684-A158-A86B758F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19137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0080" y="2133720"/>
            <a:ext cx="19137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19960" y="2133720"/>
            <a:ext cx="19137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00200" y="3964680"/>
            <a:ext cx="19137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0080" y="3964680"/>
            <a:ext cx="19137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19960" y="3964680"/>
            <a:ext cx="19137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90E86-09C4-47DA-9716-9621C889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413B-86BE-452D-8B62-8A861A97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00200" y="2133720"/>
            <a:ext cx="59436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8EAF-0B43-4173-990A-A7E1070D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5943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BF1F-74D3-4BC9-8F48-8EDC8D3A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2900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5800" y="2133720"/>
            <a:ext cx="2900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419E-1D93-457B-9F20-FBC91970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AC92-2FFC-4DB8-B4E6-BC85AF28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900D-936E-482C-A20A-D8526366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5800" y="2133720"/>
            <a:ext cx="2900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00200" y="396468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52A4-F16B-4FDD-A01A-FF84A2DE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00200" y="2133720"/>
            <a:ext cx="594360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7885-D9E8-4598-8873-64EC8AC4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2900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5800" y="213372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45800" y="396468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7753-BB46-47BF-B0F3-1A8426E4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213372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964680"/>
            <a:ext cx="5943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86EE-9986-4F3B-9B8C-5F590C0A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5943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00200" y="3964680"/>
            <a:ext cx="5943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6A93-5CE6-4924-9E90-9586006B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5800" y="213372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00200" y="396468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45800" y="396468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C4AE-9F39-484D-9E66-25F0897E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19137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0080" y="2133720"/>
            <a:ext cx="19137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19960" y="2133720"/>
            <a:ext cx="19137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00200" y="3964680"/>
            <a:ext cx="19137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0080" y="3964680"/>
            <a:ext cx="19137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19960" y="3964680"/>
            <a:ext cx="19137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F384-FE86-4F4C-A85E-A4B96413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5943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983F-D8C3-402E-A2BF-32536D43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2900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5800" y="2133720"/>
            <a:ext cx="2900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422C-7FFE-4076-9DF8-554DA749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DABD-48AF-40C9-B59D-DE6CB725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26C8B-8D07-406F-98D9-7ACF602C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5800" y="2133720"/>
            <a:ext cx="2900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00200" y="396468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C2FA7-66B9-4543-9BCC-8979FCED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29001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5800" y="213372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5800" y="396468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D8BC-A4FE-4F7F-906C-DF7621CE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0200" y="213372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5800" y="2133720"/>
            <a:ext cx="29001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00200" y="3964680"/>
            <a:ext cx="5943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D9735-6AD9-4217-B24E-53EBEF83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23526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600200" y="2133720"/>
            <a:ext cx="5943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2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cc33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  <a:p>
            <a:pPr lvl="1" marL="720720" indent="-277200">
              <a:spcBef>
                <a:spcPts val="624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cc33"/>
                </a:solidFill>
                <a:latin typeface="Verdana"/>
              </a:rPr>
              <a:t>Second Outline Level</a:t>
            </a: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  <a:p>
            <a:pPr lvl="2" marL="1108440" indent="-221400">
              <a:spcBef>
                <a:spcPts val="624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cc33"/>
                </a:solidFill>
                <a:latin typeface="Verdana"/>
              </a:rPr>
              <a:t>Third Outline Level</a:t>
            </a: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  <a:p>
            <a:pPr lvl="3" marL="1551960" indent="-2214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cc33"/>
                </a:solidFill>
                <a:latin typeface="Verdana"/>
              </a:rPr>
              <a:t>Fourth Outline Level</a:t>
            </a: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  <a:p>
            <a:pPr lvl="4" marL="1995480" indent="-221400">
              <a:spcBef>
                <a:spcPts val="624"/>
              </a:spcBef>
              <a:buClr>
                <a:srgbClr val="33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cc33"/>
                </a:solidFill>
                <a:latin typeface="Verdana"/>
              </a:rPr>
              <a:t>Fifth Outline Level</a:t>
            </a: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  <a:p>
            <a:pPr lvl="5" marL="1995480" indent="-2214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cc33"/>
                </a:solidFill>
                <a:latin typeface="Verdana"/>
              </a:rPr>
              <a:t>Sixth Outline Level</a:t>
            </a: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  <a:p>
            <a:pPr lvl="6" marL="1995480" indent="-2214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cc33"/>
                </a:solidFill>
                <a:latin typeface="Verdana"/>
              </a:rPr>
              <a:t>Seventh Outline Level</a:t>
            </a: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483840" y="61480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501B-348D-461E-BDBB-E0FA433449E1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3"/>
          </p:nvPr>
        </p:nvSpPr>
        <p:spPr>
          <a:xfrm>
            <a:off x="6041880" y="640728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8"/>
          <p:cNvSpPr/>
          <p:nvPr/>
        </p:nvSpPr>
        <p:spPr>
          <a:xfrm>
            <a:off x="7658280" y="1157400"/>
            <a:ext cx="1122120" cy="7030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7504200" y="12970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견고딕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7482960" y="6186600"/>
            <a:ext cx="139104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HY견고딕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1333440"/>
            <a:ext cx="5048280" cy="525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0" y="0"/>
            <a:ext cx="9144000" cy="20844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5100480" y="1333440"/>
            <a:ext cx="117720" cy="525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57200" y="5614920"/>
            <a:ext cx="1122480" cy="70344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316080" y="575460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HY견고딕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600200" y="2133720"/>
            <a:ext cx="59436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2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cc33"/>
                </a:solidFill>
                <a:latin typeface="Verdana"/>
              </a:rPr>
              <a:t>Click to edit the outline text format</a:t>
            </a: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  <a:p>
            <a:pPr lvl="1" marL="720720" indent="-277200">
              <a:spcBef>
                <a:spcPts val="624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cc33"/>
                </a:solidFill>
                <a:latin typeface="Verdana"/>
              </a:rPr>
              <a:t>Second Outline Level</a:t>
            </a: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  <a:p>
            <a:pPr lvl="2" marL="1108440" indent="-221400">
              <a:spcBef>
                <a:spcPts val="624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cc33"/>
                </a:solidFill>
                <a:latin typeface="Verdana"/>
              </a:rPr>
              <a:t>Third Outline Level</a:t>
            </a: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  <a:p>
            <a:pPr lvl="3" marL="1551960" indent="-2214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cc33"/>
                </a:solidFill>
                <a:latin typeface="Verdana"/>
              </a:rPr>
              <a:t>Fourth Outline Level</a:t>
            </a: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  <a:p>
            <a:pPr lvl="4" marL="1995480" indent="-221400">
              <a:spcBef>
                <a:spcPts val="624"/>
              </a:spcBef>
              <a:buClr>
                <a:srgbClr val="33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cc33"/>
                </a:solidFill>
                <a:latin typeface="Verdana"/>
              </a:rPr>
              <a:t>Fifth Outline Level</a:t>
            </a: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  <a:p>
            <a:pPr lvl="5" marL="1995480" indent="-2214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cc33"/>
                </a:solidFill>
                <a:latin typeface="Verdana"/>
              </a:rPr>
              <a:t>Sixth Outline Level</a:t>
            </a: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  <a:p>
            <a:pPr lvl="6" marL="1995480" indent="-221400">
              <a:spcBef>
                <a:spcPts val="624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cc33"/>
                </a:solidFill>
                <a:latin typeface="Verdana"/>
              </a:rPr>
              <a:t>Seventh Outline Level</a:t>
            </a:r>
            <a:endParaRPr b="1" lang="en-US" sz="25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EC09-4264-4D4F-A859-09BC62527E8C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28680" y="137448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ff99"/>
                </a:solidFill>
                <a:latin typeface="Verdana"/>
                <a:ea typeface="Gulim"/>
              </a:rPr>
              <a:t>Add your company slogan</a:t>
            </a:r>
            <a:endParaRPr b="1" lang="en-US" sz="2200" spc="-1" strike="noStrike">
              <a:solidFill>
                <a:srgbClr val="33cc33"/>
              </a:solidFill>
              <a:latin typeface="Verdana"/>
            </a:endParaRPr>
          </a:p>
        </p:txBody>
      </p:sp>
      <p:pic>
        <p:nvPicPr>
          <p:cNvPr id="90" name="Picture 4" descr="knot_ani_green_last"/>
          <p:cNvPicPr/>
          <p:nvPr/>
        </p:nvPicPr>
        <p:blipFill>
          <a:blip r:embed="rId1"/>
          <a:stretch/>
        </p:blipFill>
        <p:spPr>
          <a:xfrm>
            <a:off x="2352600" y="2395440"/>
            <a:ext cx="4592880" cy="3530520"/>
          </a:xfrm>
          <a:prstGeom prst="rect">
            <a:avLst/>
          </a:prstGeom>
          <a:ln w="0">
            <a:noFill/>
          </a:ln>
        </p:spPr>
      </p:pic>
      <p:sp>
        <p:nvSpPr>
          <p:cNvPr id="91" name="矩形 1"/>
          <p:cNvSpPr/>
          <p:nvPr/>
        </p:nvSpPr>
        <p:spPr>
          <a:xfrm>
            <a:off x="1457280" y="423720"/>
            <a:ext cx="37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绿色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3D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600200" y="2400480"/>
            <a:ext cx="5943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  <a:ea typeface="Gulim"/>
              </a:rPr>
              <a:t>Competitors </a:t>
            </a:r>
            <a:endParaRPr b="1" lang="en-US" sz="2000" spc="-1" strike="noStrike">
              <a:solidFill>
                <a:srgbClr val="33cc33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cc33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  <a:ea typeface="Gulim"/>
              </a:rPr>
              <a:t>Strengths </a:t>
            </a:r>
            <a:endParaRPr b="1" lang="en-US" sz="2000" spc="-1" strike="noStrike">
              <a:solidFill>
                <a:srgbClr val="33cc33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r strengths relative to competi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Verdana"/>
                <a:ea typeface="Gulim"/>
              </a:rPr>
              <a:t>Weaknesses</a:t>
            </a:r>
            <a:endParaRPr b="1" lang="en-US" sz="2000" spc="-1" strike="noStrike">
              <a:solidFill>
                <a:srgbClr val="33cc33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Your weaknesses relative to competi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91600" y="19044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943280" y="2428920"/>
            <a:ext cx="5133960" cy="644400"/>
            <a:chOff x="1943280" y="2428920"/>
            <a:chExt cx="5133960" cy="644400"/>
          </a:xfrm>
        </p:grpSpPr>
        <p:sp>
          <p:nvSpPr>
            <p:cNvPr id="96" name="AutoShape 3"/>
            <p:cNvSpPr/>
            <p:nvPr/>
          </p:nvSpPr>
          <p:spPr>
            <a:xfrm>
              <a:off x="1943280" y="2428920"/>
              <a:ext cx="5133960" cy="644400"/>
            </a:xfrm>
            <a:custGeom>
              <a:avLst/>
              <a:gdLst>
                <a:gd name="textAreaLeft" fmla="*/ 75960 w 5133960"/>
                <a:gd name="textAreaRight" fmla="*/ 5058000 w 513396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7200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68404" y="21600"/>
                  </a:lnTo>
                  <a:arcTo wR="3600" hR="3600" stAng="10800000" swAng="5400000"/>
                  <a:lnTo>
                    <a:pt x="172004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50000">
                  <a:srgbClr val="33cc33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"/>
            <p:cNvSpPr/>
            <p:nvPr/>
          </p:nvSpPr>
          <p:spPr>
            <a:xfrm>
              <a:off x="2274840" y="2549520"/>
              <a:ext cx="446292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1. Introduc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Group 5"/>
          <p:cNvGrpSpPr/>
          <p:nvPr/>
        </p:nvGrpSpPr>
        <p:grpSpPr>
          <a:xfrm>
            <a:off x="1943280" y="3267000"/>
            <a:ext cx="5133960" cy="644400"/>
            <a:chOff x="1943280" y="3267000"/>
            <a:chExt cx="5133960" cy="644400"/>
          </a:xfrm>
        </p:grpSpPr>
        <p:sp>
          <p:nvSpPr>
            <p:cNvPr id="99" name="AutoShape 6"/>
            <p:cNvSpPr/>
            <p:nvPr/>
          </p:nvSpPr>
          <p:spPr>
            <a:xfrm>
              <a:off x="1943280" y="3267000"/>
              <a:ext cx="5133960" cy="644400"/>
            </a:xfrm>
            <a:custGeom>
              <a:avLst/>
              <a:gdLst>
                <a:gd name="textAreaLeft" fmla="*/ 75960 w 5133960"/>
                <a:gd name="textAreaRight" fmla="*/ 5058000 w 513396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7200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68404" y="21600"/>
                  </a:lnTo>
                  <a:arcTo wR="3600" hR="3600" stAng="10800000" swAng="5400000"/>
                  <a:lnTo>
                    <a:pt x="172004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50000">
                  <a:srgbClr val="33cc33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Rectangle 7"/>
            <p:cNvSpPr/>
            <p:nvPr/>
          </p:nvSpPr>
          <p:spPr>
            <a:xfrm>
              <a:off x="2274840" y="3387600"/>
              <a:ext cx="446292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2. Strateg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1943280" y="4105440"/>
            <a:ext cx="5133960" cy="644400"/>
            <a:chOff x="1943280" y="4105440"/>
            <a:chExt cx="5133960" cy="644400"/>
          </a:xfrm>
        </p:grpSpPr>
        <p:sp>
          <p:nvSpPr>
            <p:cNvPr id="102" name="AutoShape 9"/>
            <p:cNvSpPr/>
            <p:nvPr/>
          </p:nvSpPr>
          <p:spPr>
            <a:xfrm>
              <a:off x="1943280" y="4105440"/>
              <a:ext cx="5133960" cy="644400"/>
            </a:xfrm>
            <a:custGeom>
              <a:avLst/>
              <a:gdLst>
                <a:gd name="textAreaLeft" fmla="*/ 75960 w 5133960"/>
                <a:gd name="textAreaRight" fmla="*/ 5058000 w 513396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7200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68404" y="21600"/>
                  </a:lnTo>
                  <a:arcTo wR="3600" hR="3600" stAng="10800000" swAng="5400000"/>
                  <a:lnTo>
                    <a:pt x="172004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50000">
                  <a:srgbClr val="33cc33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2274840" y="4226040"/>
              <a:ext cx="446292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3. Challenges forwar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Group 11"/>
          <p:cNvGrpSpPr/>
          <p:nvPr/>
        </p:nvGrpSpPr>
        <p:grpSpPr>
          <a:xfrm>
            <a:off x="1943280" y="4943520"/>
            <a:ext cx="5133960" cy="644400"/>
            <a:chOff x="1943280" y="4943520"/>
            <a:chExt cx="5133960" cy="644400"/>
          </a:xfrm>
        </p:grpSpPr>
        <p:sp>
          <p:nvSpPr>
            <p:cNvPr id="105" name="AutoShape 12"/>
            <p:cNvSpPr/>
            <p:nvPr/>
          </p:nvSpPr>
          <p:spPr>
            <a:xfrm>
              <a:off x="1943280" y="4943520"/>
              <a:ext cx="5133960" cy="644400"/>
            </a:xfrm>
            <a:custGeom>
              <a:avLst/>
              <a:gdLst>
                <a:gd name="textAreaLeft" fmla="*/ 75960 w 5133960"/>
                <a:gd name="textAreaRight" fmla="*/ 5058000 w 513396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72004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68404" y="21600"/>
                  </a:lnTo>
                  <a:arcTo wR="3600" hR="3600" stAng="10800000" swAng="5400000"/>
                  <a:lnTo>
                    <a:pt x="172004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50000">
                  <a:srgbClr val="33cc33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13"/>
            <p:cNvSpPr/>
            <p:nvPr/>
          </p:nvSpPr>
          <p:spPr>
            <a:xfrm>
              <a:off x="2274840" y="5064120"/>
              <a:ext cx="446292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4. Conclus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600" y="19044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1557360" y="2949480"/>
            <a:ext cx="6111720" cy="3500640"/>
            <a:chOff x="1557360" y="2949480"/>
            <a:chExt cx="6111720" cy="3500640"/>
          </a:xfrm>
        </p:grpSpPr>
        <p:sp>
          <p:nvSpPr>
            <p:cNvPr id="109" name="Oval 3"/>
            <p:cNvSpPr/>
            <p:nvPr/>
          </p:nvSpPr>
          <p:spPr>
            <a:xfrm>
              <a:off x="1557360" y="2949480"/>
              <a:ext cx="6111720" cy="350064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381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4"/>
            <p:cNvSpPr/>
            <p:nvPr/>
          </p:nvSpPr>
          <p:spPr>
            <a:xfrm>
              <a:off x="3562200" y="3259080"/>
              <a:ext cx="205740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1.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AutoShape 5"/>
          <p:cNvSpPr/>
          <p:nvPr/>
        </p:nvSpPr>
        <p:spPr>
          <a:xfrm>
            <a:off x="2492280" y="2109960"/>
            <a:ext cx="4206960" cy="644400"/>
          </a:xfrm>
          <a:custGeom>
            <a:avLst/>
            <a:gdLst>
              <a:gd name="textAreaLeft" fmla="*/ 75960 w 4206960"/>
              <a:gd name="textAreaRight" fmla="*/ 4131000 w 4206960"/>
              <a:gd name="textAreaTop" fmla="*/ 75960 h 644400"/>
              <a:gd name="textAreaBottom" fmla="*/ 568440 h 644400"/>
            </a:gdLst>
            <a:ahLst/>
            <a:rect l="textAreaLeft" t="textAreaTop" r="textAreaRight" b="textAreaBottom"/>
            <a:pathLst>
              <a:path w="1409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37349" y="21600"/>
                </a:lnTo>
                <a:arcTo wR="3600" hR="3600" stAng="10800000" swAng="5400000"/>
                <a:lnTo>
                  <a:pt x="14094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50000">
                <a:srgbClr val="33cc33"/>
              </a:gs>
              <a:gs pos="100000">
                <a:srgbClr val="006600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763720" y="2230560"/>
            <a:ext cx="3657600" cy="4190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DotumChe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DotumChe"/>
              </a:rPr>
              <a:t>Sub Tit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1600" y="19044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1357200" y="2984400"/>
            <a:ext cx="6386760" cy="1517760"/>
            <a:chOff x="1357200" y="2984400"/>
            <a:chExt cx="6386760" cy="1517760"/>
          </a:xfrm>
        </p:grpSpPr>
        <p:sp>
          <p:nvSpPr>
            <p:cNvPr id="115" name="Oval 3"/>
            <p:cNvSpPr/>
            <p:nvPr/>
          </p:nvSpPr>
          <p:spPr>
            <a:xfrm>
              <a:off x="1357200" y="2991600"/>
              <a:ext cx="6386760" cy="151056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381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3852360" y="2984400"/>
              <a:ext cx="125820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1.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Group 5"/>
          <p:cNvGrpSpPr/>
          <p:nvPr/>
        </p:nvGrpSpPr>
        <p:grpSpPr>
          <a:xfrm>
            <a:off x="1353960" y="4400640"/>
            <a:ext cx="6386760" cy="1517400"/>
            <a:chOff x="1353960" y="4400640"/>
            <a:chExt cx="6386760" cy="1517400"/>
          </a:xfrm>
        </p:grpSpPr>
        <p:sp>
          <p:nvSpPr>
            <p:cNvPr id="118" name="Oval 6"/>
            <p:cNvSpPr/>
            <p:nvPr/>
          </p:nvSpPr>
          <p:spPr>
            <a:xfrm>
              <a:off x="1353960" y="4407840"/>
              <a:ext cx="6386760" cy="151020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381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Rectangle 7"/>
            <p:cNvSpPr/>
            <p:nvPr/>
          </p:nvSpPr>
          <p:spPr>
            <a:xfrm>
              <a:off x="3849120" y="4400640"/>
              <a:ext cx="125820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2.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8"/>
          <p:cNvGrpSpPr/>
          <p:nvPr/>
        </p:nvGrpSpPr>
        <p:grpSpPr>
          <a:xfrm>
            <a:off x="2492280" y="2109960"/>
            <a:ext cx="4206960" cy="644400"/>
            <a:chOff x="2492280" y="2109960"/>
            <a:chExt cx="4206960" cy="644400"/>
          </a:xfrm>
        </p:grpSpPr>
        <p:sp>
          <p:nvSpPr>
            <p:cNvPr id="121" name="AutoShape 9"/>
            <p:cNvSpPr/>
            <p:nvPr/>
          </p:nvSpPr>
          <p:spPr>
            <a:xfrm>
              <a:off x="2492280" y="2109960"/>
              <a:ext cx="4206960" cy="644400"/>
            </a:xfrm>
            <a:custGeom>
              <a:avLst/>
              <a:gdLst>
                <a:gd name="textAreaLeft" fmla="*/ 75960 w 4206960"/>
                <a:gd name="textAreaRight" fmla="*/ 4131000 w 420696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4094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37349" y="21600"/>
                  </a:lnTo>
                  <a:arcTo wR="3600" hR="3600" stAng="10800000" swAng="5400000"/>
                  <a:lnTo>
                    <a:pt x="140949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50000">
                  <a:srgbClr val="33cc33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Rectangle 10"/>
            <p:cNvSpPr/>
            <p:nvPr/>
          </p:nvSpPr>
          <p:spPr>
            <a:xfrm>
              <a:off x="2764080" y="2230560"/>
              <a:ext cx="365724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Sub Tit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1600" y="19044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1089000" y="3110040"/>
            <a:ext cx="2171880" cy="2779560"/>
            <a:chOff x="1089000" y="3110040"/>
            <a:chExt cx="2171880" cy="2779560"/>
          </a:xfrm>
        </p:grpSpPr>
        <p:sp>
          <p:nvSpPr>
            <p:cNvPr id="125" name="Oval 3"/>
            <p:cNvSpPr/>
            <p:nvPr/>
          </p:nvSpPr>
          <p:spPr>
            <a:xfrm>
              <a:off x="1089000" y="3110040"/>
              <a:ext cx="2171880" cy="277956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381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4"/>
            <p:cNvSpPr/>
            <p:nvPr/>
          </p:nvSpPr>
          <p:spPr>
            <a:xfrm>
              <a:off x="1514520" y="3268800"/>
              <a:ext cx="1319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1.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Group 5"/>
          <p:cNvGrpSpPr/>
          <p:nvPr/>
        </p:nvGrpSpPr>
        <p:grpSpPr>
          <a:xfrm>
            <a:off x="3448080" y="3110040"/>
            <a:ext cx="2171520" cy="2779560"/>
            <a:chOff x="3448080" y="3110040"/>
            <a:chExt cx="2171520" cy="2779560"/>
          </a:xfrm>
        </p:grpSpPr>
        <p:sp>
          <p:nvSpPr>
            <p:cNvPr id="128" name="Oval 6"/>
            <p:cNvSpPr/>
            <p:nvPr/>
          </p:nvSpPr>
          <p:spPr>
            <a:xfrm>
              <a:off x="3448080" y="3110040"/>
              <a:ext cx="2171520" cy="277956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381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3873240" y="3268800"/>
              <a:ext cx="1318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2.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Group 8"/>
          <p:cNvGrpSpPr/>
          <p:nvPr/>
        </p:nvGrpSpPr>
        <p:grpSpPr>
          <a:xfrm>
            <a:off x="5819760" y="3110040"/>
            <a:ext cx="2171880" cy="2779560"/>
            <a:chOff x="5819760" y="3110040"/>
            <a:chExt cx="2171880" cy="2779560"/>
          </a:xfrm>
        </p:grpSpPr>
        <p:sp>
          <p:nvSpPr>
            <p:cNvPr id="131" name="Oval 9"/>
            <p:cNvSpPr/>
            <p:nvPr/>
          </p:nvSpPr>
          <p:spPr>
            <a:xfrm>
              <a:off x="5819760" y="3110040"/>
              <a:ext cx="2171880" cy="277956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0000">
                    <a:alpha val="50196"/>
                  </a:srgbClr>
                </a:gs>
              </a:gsLst>
              <a:lin ang="5400000"/>
            </a:gradFill>
            <a:ln w="3816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6245280" y="3268800"/>
              <a:ext cx="1319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3.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3" name="Group 11"/>
          <p:cNvGrpSpPr/>
          <p:nvPr/>
        </p:nvGrpSpPr>
        <p:grpSpPr>
          <a:xfrm>
            <a:off x="2492280" y="2109960"/>
            <a:ext cx="4206960" cy="644400"/>
            <a:chOff x="2492280" y="2109960"/>
            <a:chExt cx="4206960" cy="644400"/>
          </a:xfrm>
        </p:grpSpPr>
        <p:sp>
          <p:nvSpPr>
            <p:cNvPr id="134" name="AutoShape 12"/>
            <p:cNvSpPr/>
            <p:nvPr/>
          </p:nvSpPr>
          <p:spPr>
            <a:xfrm>
              <a:off x="2492280" y="2109960"/>
              <a:ext cx="4206960" cy="644400"/>
            </a:xfrm>
            <a:custGeom>
              <a:avLst/>
              <a:gdLst>
                <a:gd name="textAreaLeft" fmla="*/ 75960 w 4206960"/>
                <a:gd name="textAreaRight" fmla="*/ 4131000 w 420696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4094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37349" y="21600"/>
                  </a:lnTo>
                  <a:arcTo wR="3600" hR="3600" stAng="10800000" swAng="5400000"/>
                  <a:lnTo>
                    <a:pt x="140949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50000">
                  <a:srgbClr val="33cc33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Rectangle 13"/>
            <p:cNvSpPr/>
            <p:nvPr/>
          </p:nvSpPr>
          <p:spPr>
            <a:xfrm>
              <a:off x="2764080" y="2230560"/>
              <a:ext cx="365724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Sub Tit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1600" y="19044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1319040" y="2932200"/>
          <a:ext cx="6320160" cy="301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9040" y="2932200"/>
                    <a:ext cx="6320160" cy="30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Group 3"/>
          <p:cNvGrpSpPr/>
          <p:nvPr/>
        </p:nvGrpSpPr>
        <p:grpSpPr>
          <a:xfrm>
            <a:off x="2492280" y="2109960"/>
            <a:ext cx="4206960" cy="644400"/>
            <a:chOff x="2492280" y="2109960"/>
            <a:chExt cx="4206960" cy="644400"/>
          </a:xfrm>
        </p:grpSpPr>
        <p:sp>
          <p:nvSpPr>
            <p:cNvPr id="140" name="AutoShape 4"/>
            <p:cNvSpPr/>
            <p:nvPr/>
          </p:nvSpPr>
          <p:spPr>
            <a:xfrm>
              <a:off x="2492280" y="2109960"/>
              <a:ext cx="4206960" cy="644400"/>
            </a:xfrm>
            <a:custGeom>
              <a:avLst/>
              <a:gdLst>
                <a:gd name="textAreaLeft" fmla="*/ 75960 w 4206960"/>
                <a:gd name="textAreaRight" fmla="*/ 4131000 w 420696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40949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37349" y="21600"/>
                  </a:lnTo>
                  <a:arcTo wR="3600" hR="3600" stAng="10800000" swAng="5400000"/>
                  <a:lnTo>
                    <a:pt x="140949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50000">
                  <a:srgbClr val="33cc33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2764080" y="2230560"/>
              <a:ext cx="3657240" cy="4190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Sub Tit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00" y="19044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站点介绍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  <a:ea typeface="宋体"/>
              </a:rPr>
              <a:t>www.eeppt.com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  <a:ea typeface="宋体"/>
              </a:rPr>
              <a:t>助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该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模板收集于网络，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Verdana"/>
                <a:ea typeface="宋体"/>
              </a:rPr>
              <a:t>栏目推荐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cc33"/>
              </a:solidFill>
              <a:latin typeface="Verdana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06:41:28Z</dcterms:created>
  <dc:creator/>
  <dc:description/>
  <cp:keywords/>
  <dc:language>en-US</dc:language>
  <cp:lastModifiedBy>a</cp:lastModifiedBy>
  <dcterms:modified xsi:type="dcterms:W3CDTF">2015-07-21T01:39:21Z</dcterms:modified>
  <cp:revision>3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