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E8A-C3EA-4E64-8A15-5445CD88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92F-E7AA-4F0A-B294-05FC49B1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E50-784F-4E47-8B2C-568F6E4F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9CA-4EFE-47E8-A273-1DC9E73D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9467-5A7F-40B4-BE42-DAAFD9D1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D62-8F44-485F-AD15-078BF20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E671-1226-4EBC-B7EC-94CF554F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80C4-F001-4DD6-93D1-AD99606A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86BC-ADFB-48E7-8448-06FE47A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EA92-FAFC-4F65-AE3B-3A4F1B6B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AEBD-8281-4E0F-BCC6-B2277C3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F93-AE21-4177-948C-1483212B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661-BB97-468E-9C6E-1A850B7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4936-238D-47B6-A475-1DF6AF7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3851-E7B1-40EF-8569-9E27E41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BF2D-5DFE-4DF4-8466-353D474A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B056-3C68-44D9-A9B9-D046D619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775-80FD-4BB6-B08E-7FFCA831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511-4D3C-4DEE-981D-8DE03531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F62-E6B0-475E-BCFB-B16AC56F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A20-B9E9-4AA3-A6C4-DEBA220A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23A-2104-429A-8FCE-102C387F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484-4539-46FC-BF99-5BC402D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127-FA67-4835-A467-723D883E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88E-BED7-4BC2-88CB-80D6053E3451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0" t="0" r="0" b="-294"/>
          <a:stretch/>
        </p:blipFill>
        <p:spPr>
          <a:xfrm>
            <a:off x="0" y="0"/>
            <a:ext cx="9144000" cy="80820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8"/>
          <p:cNvSpPr/>
          <p:nvPr/>
        </p:nvSpPr>
        <p:spPr>
          <a:xfrm>
            <a:off x="0" y="808200"/>
            <a:ext cx="9144000" cy="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rcRect l="0" t="0" r="0" b="-294"/>
          <a:stretch/>
        </p:blipFill>
        <p:spPr>
          <a:xfrm>
            <a:off x="0" y="0"/>
            <a:ext cx="9144000" cy="8082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8"/>
          <p:cNvSpPr/>
          <p:nvPr/>
        </p:nvSpPr>
        <p:spPr>
          <a:xfrm>
            <a:off x="0" y="808200"/>
            <a:ext cx="9144000" cy="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0" r="0" b="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-4680" y="4230720"/>
            <a:ext cx="9155160" cy="2633760"/>
            <a:chOff x="-4680" y="4230720"/>
            <a:chExt cx="9155160" cy="2633760"/>
          </a:xfrm>
        </p:grpSpPr>
        <p:pic>
          <p:nvPicPr>
            <p:cNvPr id="47" name="Right Triangle 7" descr=""/>
            <p:cNvPicPr/>
            <p:nvPr/>
          </p:nvPicPr>
          <p:blipFill>
            <a:blip r:embed="rId4"/>
            <a:stretch/>
          </p:blipFill>
          <p:spPr>
            <a:xfrm>
              <a:off x="-4680" y="4230720"/>
              <a:ext cx="915516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7"/>
            <p:cNvSpPr/>
            <p:nvPr/>
          </p:nvSpPr>
          <p:spPr>
            <a:xfrm>
              <a:off x="0" y="4237200"/>
              <a:ext cx="9144360" cy="26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Freeform 8"/>
          <p:cNvSpPr/>
          <p:nvPr/>
        </p:nvSpPr>
        <p:spPr>
          <a:xfrm>
            <a:off x="-9360" y="4243320"/>
            <a:ext cx="9153360" cy="2621160"/>
          </a:xfrm>
          <a:custGeom>
            <a:avLst/>
            <a:gdLst/>
            <a:ahLst/>
            <a:rect l="l" t="t" r="r" b="b"/>
            <a:pathLst>
              <a:path w="9155875" h="2620586">
                <a:moveTo>
                  <a:pt x="0" y="8014"/>
                </a:moveTo>
                <a:cubicBezTo>
                  <a:pt x="2366159" y="-37509"/>
                  <a:pt x="3829792" y="106975"/>
                  <a:pt x="5355771" y="542404"/>
                </a:cubicBezTo>
                <a:cubicBezTo>
                  <a:pt x="6881750" y="977833"/>
                  <a:pt x="8736280" y="1858586"/>
                  <a:pt x="9155875" y="2620586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2853-8598-4D0A-8882-05A8560F23A5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4846680"/>
            <a:ext cx="68580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2255400" y="512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红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38120" y="-17640"/>
            <a:ext cx="40114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1:47:34Z</dcterms:modified>
  <cp:revision>1</cp:revision>
  <dc:subject/>
  <dc:title>PowerPoint 演示文稿</dc:title>
</cp:coreProperties>
</file>