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746-F2F4-4EF5-ABFD-FC6E7DA2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A11-EA74-45CA-9B8A-8FB62C68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1E4-1DEF-4F31-B7B3-0E660251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E9E-5F1A-4590-B1F2-8D636AE3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893-4D71-4EBC-8E10-CC20697C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D06-5CAC-40C0-B7B3-B8AE3BE3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C44-BCA5-49AC-85B6-2E320BEE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F0A-4565-439F-9E04-C65F7F97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40D-4D65-4FA5-9483-E87C4D79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DB3-26D4-433E-A6E1-3CCB577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983-6335-447D-A08A-FC21936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203-A077-417A-8C10-7D9ABF5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6BBB-A7CE-4A9E-9E67-D4B8681E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66960" y="-896760"/>
            <a:ext cx="9210960" cy="2615760"/>
            <a:chOff x="-66960" y="-896760"/>
            <a:chExt cx="9210960" cy="2615760"/>
          </a:xfrm>
        </p:grpSpPr>
        <p:sp>
          <p:nvSpPr>
            <p:cNvPr id="5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 rot="9014400">
              <a:off x="322920" y="-603000"/>
              <a:ext cx="17211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627280" y="836640"/>
              <a:ext cx="6516720" cy="14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836640"/>
              <a:ext cx="295272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sp>
          <p:nvSpPr>
            <p:cNvPr id="47" name=""/>
            <p:cNvSpPr/>
            <p:nvPr/>
          </p:nvSpPr>
          <p:spPr>
            <a:xfrm>
              <a:off x="0" y="504720"/>
              <a:ext cx="9144000" cy="5732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>
                    <a:alpha val="78039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635280" y="1989000"/>
              <a:ext cx="48243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36360" y="620640"/>
            <a:ext cx="9144000" cy="5732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>
                  <a:alpha val="7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459" t="51340" r="1720" b="1729"/>
          <a:stretch/>
        </p:blipFill>
        <p:spPr>
          <a:xfrm>
            <a:off x="3635280" y="1484280"/>
            <a:ext cx="5472360" cy="476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27280" y="63817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1480" y="692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梅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4572000" y="1989000"/>
            <a:ext cx="4572000" cy="1943280"/>
            <a:chOff x="4572000" y="1989000"/>
            <a:chExt cx="4572000" cy="1943280"/>
          </a:xfrm>
        </p:grpSpPr>
        <p:sp>
          <p:nvSpPr>
            <p:cNvPr id="297" name=""/>
            <p:cNvSpPr/>
            <p:nvPr/>
          </p:nvSpPr>
          <p:spPr>
            <a:xfrm>
              <a:off x="4716360" y="350028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1440" y="299700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16360" y="2492280"/>
              <a:ext cx="4427640" cy="431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1989000"/>
              <a:ext cx="4427640" cy="431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 flipH="1">
            <a:off x="2085480" y="3464280"/>
            <a:ext cx="872640" cy="504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71640" y="1844640"/>
            <a:ext cx="2449800" cy="2303640"/>
          </a:xfrm>
          <a:prstGeom prst="ellipse">
            <a:avLst/>
          </a:prstGeom>
          <a:gradFill rotWithShape="0">
            <a:gsLst>
              <a:gs pos="0">
                <a:srgbClr val="e0f0f1"/>
              </a:gs>
              <a:gs pos="100000">
                <a:srgbClr val="80c5c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16080" y="2079720"/>
            <a:ext cx="1959120" cy="18320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0" t="0" r="58351" b="35897"/>
          <a:stretch/>
        </p:blipFill>
        <p:spPr>
          <a:xfrm rot="6268200">
            <a:off x="3492000" y="2508120"/>
            <a:ext cx="1093680" cy="1811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>
            <a:off x="1763640" y="2924280"/>
            <a:ext cx="1008000" cy="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2492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263520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3500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80000" y="3928320"/>
            <a:ext cx="504000" cy="873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60360" y="447192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95640" y="4148280"/>
            <a:ext cx="0" cy="1008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5080" y="497664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59280" y="1916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11640" y="242100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8360" y="2924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59280" y="34750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A3F-D454-4212-A2F2-61D5AFF073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66960" y="-896760"/>
            <a:ext cx="9210960" cy="2615760"/>
            <a:chOff x="-66960" y="-896760"/>
            <a:chExt cx="9210960" cy="261576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 rot="9014400">
              <a:off x="322920" y="-603000"/>
              <a:ext cx="17211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627280" y="836640"/>
              <a:ext cx="6516720" cy="14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836640"/>
              <a:ext cx="295272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836720" y="2349360"/>
            <a:ext cx="518472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92520" y="1892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6720" y="3141720"/>
            <a:ext cx="5184720" cy="7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92520" y="268452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6720" y="4005360"/>
            <a:ext cx="5184720" cy="7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92520" y="3548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6720" y="4870440"/>
            <a:ext cx="5184720" cy="7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92520" y="44132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377040" y="4049640"/>
            <a:ext cx="2766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916280"/>
            <a:ext cx="7704360" cy="3744720"/>
          </a:xfrm>
          <a:prstGeom prst="roundRect">
            <a:avLst>
              <a:gd name="adj" fmla="val 5130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66960" y="-896760"/>
            <a:ext cx="9210960" cy="2615760"/>
            <a:chOff x="-66960" y="-896760"/>
            <a:chExt cx="9210960" cy="261576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 rot="9014400">
              <a:off x="322920" y="-603000"/>
              <a:ext cx="17211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627280" y="836640"/>
              <a:ext cx="6516720" cy="14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836640"/>
              <a:ext cx="295272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932000" y="1341360"/>
            <a:ext cx="721080" cy="950760"/>
            <a:chOff x="4932000" y="1341360"/>
            <a:chExt cx="721080" cy="950760"/>
          </a:xfrm>
        </p:grpSpPr>
        <p:sp>
          <p:nvSpPr>
            <p:cNvPr id="120" name=""/>
            <p:cNvSpPr/>
            <p:nvPr/>
          </p:nvSpPr>
          <p:spPr>
            <a:xfrm>
              <a:off x="4932360" y="1556640"/>
              <a:ext cx="720720" cy="735480"/>
            </a:xfrm>
            <a:prstGeom prst="flowChartDelay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rcRect l="0" t="0" r="58319" b="0"/>
            <a:stretch/>
          </p:blipFill>
          <p:spPr>
            <a:xfrm flipH="1">
              <a:off x="4932000" y="1341360"/>
              <a:ext cx="647640" cy="9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1042920" y="1557360"/>
            <a:ext cx="388944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170028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492280"/>
            <a:ext cx="72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11280" y="1989000"/>
            <a:ext cx="8086320" cy="1584360"/>
            <a:chOff x="611280" y="1989000"/>
            <a:chExt cx="8086320" cy="1584360"/>
          </a:xfrm>
        </p:grpSpPr>
        <p:sp>
          <p:nvSpPr>
            <p:cNvPr id="128" name=""/>
            <p:cNvSpPr/>
            <p:nvPr/>
          </p:nvSpPr>
          <p:spPr>
            <a:xfrm>
              <a:off x="611280" y="1989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854040" y="2314800"/>
              <a:ext cx="1843560" cy="1258560"/>
              <a:chOff x="6854040" y="2314800"/>
              <a:chExt cx="1843560" cy="1258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380000" y="2349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1"/>
              <a:srcRect l="0" t="0" r="58351" b="35897"/>
              <a:stretch/>
            </p:blipFill>
            <p:spPr>
              <a:xfrm rot="5266200">
                <a:off x="7199280" y="2025360"/>
                <a:ext cx="115236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2" name=""/>
          <p:cNvGrpSpPr/>
          <p:nvPr/>
        </p:nvGrpSpPr>
        <p:grpSpPr>
          <a:xfrm>
            <a:off x="611280" y="4437000"/>
            <a:ext cx="8086320" cy="1584360"/>
            <a:chOff x="611280" y="4437000"/>
            <a:chExt cx="8086320" cy="1584360"/>
          </a:xfrm>
        </p:grpSpPr>
        <p:sp>
          <p:nvSpPr>
            <p:cNvPr id="133" name=""/>
            <p:cNvSpPr/>
            <p:nvPr/>
          </p:nvSpPr>
          <p:spPr>
            <a:xfrm>
              <a:off x="611280" y="4437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854040" y="4762800"/>
              <a:ext cx="1843560" cy="1258560"/>
              <a:chOff x="6854040" y="4762800"/>
              <a:chExt cx="1843560" cy="1258560"/>
            </a:xfrm>
          </p:grpSpPr>
          <p:sp>
            <p:nvSpPr>
              <p:cNvPr id="135" name=""/>
              <p:cNvSpPr/>
              <p:nvPr/>
            </p:nvSpPr>
            <p:spPr>
              <a:xfrm>
                <a:off x="7380000" y="4797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2"/>
              <a:srcRect l="0" t="0" r="58351" b="35897"/>
              <a:stretch/>
            </p:blipFill>
            <p:spPr>
              <a:xfrm rot="5266200">
                <a:off x="7199280" y="4473360"/>
                <a:ext cx="115236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7" name=""/>
          <p:cNvGrpSpPr/>
          <p:nvPr/>
        </p:nvGrpSpPr>
        <p:grpSpPr>
          <a:xfrm>
            <a:off x="684360" y="3789360"/>
            <a:ext cx="2089080" cy="503280"/>
            <a:chOff x="684360" y="3789360"/>
            <a:chExt cx="2089080" cy="503280"/>
          </a:xfrm>
        </p:grpSpPr>
        <p:sp>
          <p:nvSpPr>
            <p:cNvPr id="138" name=""/>
            <p:cNvSpPr/>
            <p:nvPr/>
          </p:nvSpPr>
          <p:spPr>
            <a:xfrm>
              <a:off x="684360" y="3789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d0e9eb"/>
                </a:gs>
                <a:gs pos="50000">
                  <a:srgbClr val="bbe0e3"/>
                </a:gs>
                <a:gs pos="100000">
                  <a:srgbClr val="d0e9eb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755640" y="3860640"/>
              <a:ext cx="43200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682560" y="1341360"/>
            <a:ext cx="2089080" cy="503280"/>
            <a:chOff x="682560" y="1341360"/>
            <a:chExt cx="2089080" cy="503280"/>
          </a:xfrm>
        </p:grpSpPr>
        <p:sp>
          <p:nvSpPr>
            <p:cNvPr id="141" name=""/>
            <p:cNvSpPr/>
            <p:nvPr/>
          </p:nvSpPr>
          <p:spPr>
            <a:xfrm>
              <a:off x="682560" y="1341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d0e9eb"/>
                </a:gs>
                <a:gs pos="50000">
                  <a:srgbClr val="bbe0e3"/>
                </a:gs>
                <a:gs pos="100000">
                  <a:srgbClr val="d0e9eb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753840" y="1412640"/>
              <a:ext cx="432000" cy="3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1187280" y="14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38545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220680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65300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595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27160" y="1141560"/>
            <a:ext cx="6684840" cy="1711080"/>
            <a:chOff x="1127160" y="1141560"/>
            <a:chExt cx="6684840" cy="1711080"/>
          </a:xfrm>
        </p:grpSpPr>
        <p:sp>
          <p:nvSpPr>
            <p:cNvPr id="150" name=""/>
            <p:cNvSpPr/>
            <p:nvPr/>
          </p:nvSpPr>
          <p:spPr>
            <a:xfrm>
              <a:off x="1476360" y="170172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24000" y="126828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127160" y="1141560"/>
              <a:ext cx="807840" cy="633240"/>
              <a:chOff x="1127160" y="1141560"/>
              <a:chExt cx="807840" cy="63324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45960" y="141300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 rot="4667400">
                <a:off x="1496160" y="1268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 rot="20137800">
                <a:off x="1187280" y="119664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"/>
            <p:cNvSpPr/>
            <p:nvPr/>
          </p:nvSpPr>
          <p:spPr>
            <a:xfrm>
              <a:off x="1836720" y="14860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36720" y="14860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852720" y="148392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76360" y="285264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12000" y="148428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547640" y="17002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27160" y="2868840"/>
            <a:ext cx="6684840" cy="1711080"/>
            <a:chOff x="1127160" y="2868840"/>
            <a:chExt cx="6684840" cy="1711080"/>
          </a:xfrm>
        </p:grpSpPr>
        <p:sp>
          <p:nvSpPr>
            <p:cNvPr id="163" name=""/>
            <p:cNvSpPr/>
            <p:nvPr/>
          </p:nvSpPr>
          <p:spPr>
            <a:xfrm>
              <a:off x="1476360" y="342900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4000" y="29955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127160" y="2868840"/>
              <a:ext cx="807840" cy="633240"/>
              <a:chOff x="1127160" y="2868840"/>
              <a:chExt cx="807840" cy="633240"/>
            </a:xfrm>
          </p:grpSpPr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45960" y="3140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5"/>
              <a:stretch/>
            </p:blipFill>
            <p:spPr>
              <a:xfrm rot="4667400">
                <a:off x="1496160" y="299556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6"/>
              <a:stretch/>
            </p:blipFill>
            <p:spPr>
              <a:xfrm rot="20137800">
                <a:off x="1187280" y="292392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"/>
            <p:cNvSpPr/>
            <p:nvPr/>
          </p:nvSpPr>
          <p:spPr>
            <a:xfrm>
              <a:off x="1836720" y="3213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36720" y="3213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52720" y="321120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6360" y="457992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12000" y="321156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547640" y="34275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27160" y="4668840"/>
            <a:ext cx="6684840" cy="1711080"/>
            <a:chOff x="1127160" y="4668840"/>
            <a:chExt cx="6684840" cy="1711080"/>
          </a:xfrm>
        </p:grpSpPr>
        <p:sp>
          <p:nvSpPr>
            <p:cNvPr id="176" name=""/>
            <p:cNvSpPr/>
            <p:nvPr/>
          </p:nvSpPr>
          <p:spPr>
            <a:xfrm>
              <a:off x="1476360" y="522900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24000" y="47955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127160" y="4668840"/>
              <a:ext cx="807840" cy="633240"/>
              <a:chOff x="1127160" y="4668840"/>
              <a:chExt cx="807840" cy="633240"/>
            </a:xfrm>
          </p:grpSpPr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45960" y="4940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8"/>
              <a:stretch/>
            </p:blipFill>
            <p:spPr>
              <a:xfrm rot="4667400">
                <a:off x="1496160" y="479556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9"/>
              <a:stretch/>
            </p:blipFill>
            <p:spPr>
              <a:xfrm rot="20137800">
                <a:off x="1187280" y="472392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1836720" y="5013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36720" y="5013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852720" y="501120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76360" y="637992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12000" y="501156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547640" y="52275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42920" y="1268280"/>
            <a:ext cx="7058160" cy="2016000"/>
            <a:chOff x="1042920" y="1268280"/>
            <a:chExt cx="7058160" cy="2016000"/>
          </a:xfrm>
        </p:grpSpPr>
        <p:sp>
          <p:nvSpPr>
            <p:cNvPr id="190" name=""/>
            <p:cNvSpPr/>
            <p:nvPr/>
          </p:nvSpPr>
          <p:spPr>
            <a:xfrm>
              <a:off x="1042920" y="1412640"/>
              <a:ext cx="7058160" cy="1871640"/>
            </a:xfrm>
            <a:prstGeom prst="rect">
              <a:avLst/>
            </a:pr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2"/>
            <a:srcRect l="945" t="0" r="68073" b="13339"/>
            <a:stretch/>
          </p:blipFill>
          <p:spPr>
            <a:xfrm>
              <a:off x="1042920" y="1268280"/>
              <a:ext cx="108108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195280" y="1557360"/>
              <a:ext cx="568980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114560" y="3573360"/>
            <a:ext cx="7057800" cy="2016000"/>
            <a:chOff x="1114560" y="3573360"/>
            <a:chExt cx="7057800" cy="2016000"/>
          </a:xfrm>
        </p:grpSpPr>
        <p:sp>
          <p:nvSpPr>
            <p:cNvPr id="194" name=""/>
            <p:cNvSpPr/>
            <p:nvPr/>
          </p:nvSpPr>
          <p:spPr>
            <a:xfrm>
              <a:off x="1114560" y="3717720"/>
              <a:ext cx="7057800" cy="1871640"/>
            </a:xfrm>
            <a:prstGeom prst="rect">
              <a:avLst/>
            </a:pr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4"/>
            <a:srcRect l="945" t="0" r="68073" b="13339"/>
            <a:stretch/>
          </p:blipFill>
          <p:spPr>
            <a:xfrm>
              <a:off x="1114560" y="3573360"/>
              <a:ext cx="108072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66560" y="3862440"/>
              <a:ext cx="568944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268360" y="177336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4095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631044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759280" y="3141720"/>
            <a:ext cx="3384720" cy="3240000"/>
          </a:xfrm>
          <a:prstGeom prst="ellipse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700360" y="1123920"/>
            <a:ext cx="3744360" cy="3529080"/>
            <a:chOff x="2700360" y="1123920"/>
            <a:chExt cx="3744360" cy="3529080"/>
          </a:xfrm>
        </p:grpSpPr>
        <p:grpSp>
          <p:nvGrpSpPr>
            <p:cNvPr id="203" name=""/>
            <p:cNvGrpSpPr/>
            <p:nvPr/>
          </p:nvGrpSpPr>
          <p:grpSpPr>
            <a:xfrm>
              <a:off x="4675320" y="3355920"/>
              <a:ext cx="1236600" cy="1079640"/>
              <a:chOff x="4675320" y="3355920"/>
              <a:chExt cx="1236600" cy="1079640"/>
            </a:xfrm>
          </p:grpSpPr>
          <p:sp>
            <p:nvSpPr>
              <p:cNvPr id="204" name=""/>
              <p:cNvSpPr/>
              <p:nvPr/>
            </p:nvSpPr>
            <p:spPr>
              <a:xfrm>
                <a:off x="4760640" y="3355920"/>
                <a:ext cx="1102320" cy="1079640"/>
              </a:xfrm>
              <a:prstGeom prst="ellipse">
                <a:avLst/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675320" y="3377520"/>
                <a:ext cx="1236600" cy="960480"/>
                <a:chOff x="4675320" y="3377520"/>
                <a:chExt cx="1236600" cy="96048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"/>
                <a:srcRect l="65761" t="0" r="0" b="50009"/>
                <a:stretch/>
              </p:blipFill>
              <p:spPr>
                <a:xfrm rot="17028000">
                  <a:off x="4681080" y="3512520"/>
                  <a:ext cx="747720" cy="59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2"/>
                <a:srcRect l="65761" t="0" r="0" b="50009"/>
                <a:stretch/>
              </p:blipFill>
              <p:spPr>
                <a:xfrm rot="19102800">
                  <a:off x="5027400" y="3571200"/>
                  <a:ext cx="762120" cy="58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3"/>
                <a:srcRect l="65761" t="0" r="0" b="50009"/>
                <a:stretch/>
              </p:blipFill>
              <p:spPr>
                <a:xfrm rot="20931600">
                  <a:off x="5100120" y="3632040"/>
                  <a:ext cx="762120" cy="587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9" name=""/>
            <p:cNvSpPr/>
            <p:nvPr/>
          </p:nvSpPr>
          <p:spPr>
            <a:xfrm>
              <a:off x="2700360" y="1123920"/>
              <a:ext cx="3744360" cy="3529080"/>
            </a:xfrm>
            <a:prstGeom prst="ellipse">
              <a:avLst/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433680" y="981000"/>
            <a:ext cx="2130480" cy="503280"/>
            <a:chOff x="3433680" y="981000"/>
            <a:chExt cx="2130480" cy="503280"/>
          </a:xfrm>
        </p:grpSpPr>
        <p:sp>
          <p:nvSpPr>
            <p:cNvPr id="211" name=""/>
            <p:cNvSpPr/>
            <p:nvPr/>
          </p:nvSpPr>
          <p:spPr>
            <a:xfrm>
              <a:off x="3433680" y="98100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28880" y="105228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4000" y="2924280"/>
            <a:ext cx="3384360" cy="3240000"/>
          </a:xfrm>
          <a:prstGeom prst="ellipse">
            <a:avLst/>
          </a:prstGeom>
          <a:solidFill>
            <a:srgbClr val="ffffff">
              <a:alpha val="78000"/>
            </a:srgbClr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45160" y="3068640"/>
            <a:ext cx="2130480" cy="503280"/>
            <a:chOff x="6545160" y="3068640"/>
            <a:chExt cx="2130480" cy="503280"/>
          </a:xfrm>
        </p:grpSpPr>
        <p:sp>
          <p:nvSpPr>
            <p:cNvPr id="215" name=""/>
            <p:cNvSpPr/>
            <p:nvPr/>
          </p:nvSpPr>
          <p:spPr>
            <a:xfrm>
              <a:off x="6545160" y="306864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40360" y="3139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01880" y="2854440"/>
            <a:ext cx="2130120" cy="503280"/>
            <a:chOff x="1001880" y="2854440"/>
            <a:chExt cx="2130120" cy="503280"/>
          </a:xfrm>
        </p:grpSpPr>
        <p:sp>
          <p:nvSpPr>
            <p:cNvPr id="218" name=""/>
            <p:cNvSpPr/>
            <p:nvPr/>
          </p:nvSpPr>
          <p:spPr>
            <a:xfrm>
              <a:off x="1001880" y="2854440"/>
              <a:ext cx="213012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6720" y="2925720"/>
              <a:ext cx="18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276720" y="162864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3500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71000" y="5157720"/>
            <a:ext cx="1237680" cy="1079640"/>
            <a:chOff x="7371000" y="5157720"/>
            <a:chExt cx="1237680" cy="1079640"/>
          </a:xfrm>
        </p:grpSpPr>
        <p:sp>
          <p:nvSpPr>
            <p:cNvPr id="224" name=""/>
            <p:cNvSpPr/>
            <p:nvPr/>
          </p:nvSpPr>
          <p:spPr>
            <a:xfrm>
              <a:off x="7456320" y="5157720"/>
              <a:ext cx="1103400" cy="107964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371000" y="5179320"/>
              <a:ext cx="1237680" cy="960480"/>
              <a:chOff x="7371000" y="5179320"/>
              <a:chExt cx="1237680" cy="960480"/>
            </a:xfrm>
          </p:grpSpPr>
          <p:pic>
            <p:nvPicPr>
              <p:cNvPr id="226" name="" descr=""/>
              <p:cNvPicPr/>
              <p:nvPr/>
            </p:nvPicPr>
            <p:blipFill>
              <a:blip r:embed="rId4"/>
              <a:srcRect l="65761" t="0" r="0" b="50009"/>
              <a:stretch/>
            </p:blipFill>
            <p:spPr>
              <a:xfrm rot="17028000">
                <a:off x="7377120" y="5313960"/>
                <a:ext cx="747720" cy="59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5"/>
              <a:srcRect l="65761" t="0" r="0" b="50009"/>
              <a:stretch/>
            </p:blipFill>
            <p:spPr>
              <a:xfrm rot="19102800">
                <a:off x="7723440" y="5373000"/>
                <a:ext cx="76284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6"/>
              <a:srcRect l="65761" t="0" r="0" b="50009"/>
              <a:stretch/>
            </p:blipFill>
            <p:spPr>
              <a:xfrm rot="20931600">
                <a:off x="7796160" y="5433480"/>
                <a:ext cx="762840" cy="5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1611720" y="5084640"/>
            <a:ext cx="1236960" cy="1079640"/>
            <a:chOff x="1611720" y="5084640"/>
            <a:chExt cx="1236960" cy="1079640"/>
          </a:xfrm>
        </p:grpSpPr>
        <p:sp>
          <p:nvSpPr>
            <p:cNvPr id="230" name=""/>
            <p:cNvSpPr/>
            <p:nvPr/>
          </p:nvSpPr>
          <p:spPr>
            <a:xfrm>
              <a:off x="1697040" y="5084640"/>
              <a:ext cx="1103040" cy="107964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611720" y="5106240"/>
              <a:ext cx="1236960" cy="960480"/>
              <a:chOff x="1611720" y="5106240"/>
              <a:chExt cx="1236960" cy="960480"/>
            </a:xfrm>
          </p:grpSpPr>
          <p:pic>
            <p:nvPicPr>
              <p:cNvPr id="232" name="" descr=""/>
              <p:cNvPicPr/>
              <p:nvPr/>
            </p:nvPicPr>
            <p:blipFill>
              <a:blip r:embed="rId7"/>
              <a:srcRect l="65761" t="0" r="0" b="50009"/>
              <a:stretch/>
            </p:blipFill>
            <p:spPr>
              <a:xfrm rot="17028000">
                <a:off x="1617840" y="5240880"/>
                <a:ext cx="7477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8"/>
              <a:srcRect l="65761" t="0" r="0" b="50009"/>
              <a:stretch/>
            </p:blipFill>
            <p:spPr>
              <a:xfrm rot="19102800">
                <a:off x="1963800" y="5299920"/>
                <a:ext cx="76248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9"/>
              <a:srcRect l="65761" t="0" r="0" b="50009"/>
              <a:stretch/>
            </p:blipFill>
            <p:spPr>
              <a:xfrm rot="20931600">
                <a:off x="2036520" y="5360760"/>
                <a:ext cx="762480" cy="5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3355920"/>
            <a:ext cx="431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718160" y="1125360"/>
            <a:ext cx="4101480" cy="4363920"/>
            <a:chOff x="4718160" y="1125360"/>
            <a:chExt cx="4101480" cy="4363920"/>
          </a:xfrm>
        </p:grpSpPr>
        <p:sp>
          <p:nvSpPr>
            <p:cNvPr id="238" name=""/>
            <p:cNvSpPr/>
            <p:nvPr/>
          </p:nvSpPr>
          <p:spPr>
            <a:xfrm>
              <a:off x="5131800" y="1758600"/>
              <a:ext cx="2692080" cy="1440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31800" y="4049640"/>
              <a:ext cx="2692080" cy="14396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718160" y="2465280"/>
              <a:ext cx="413280" cy="2303280"/>
              <a:chOff x="4718160" y="2465280"/>
              <a:chExt cx="413280" cy="230328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4883760" y="2465280"/>
                <a:ext cx="24768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883760" y="4768560"/>
                <a:ext cx="24768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83760" y="2465280"/>
                <a:ext cx="0" cy="230328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718160" y="3615840"/>
                <a:ext cx="16560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7204320" y="1125360"/>
              <a:ext cx="161532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7204320" y="3430440"/>
              <a:ext cx="1615320" cy="90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"/>
          <p:cNvSpPr/>
          <p:nvPr/>
        </p:nvSpPr>
        <p:spPr>
          <a:xfrm>
            <a:off x="2274840" y="342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1916280"/>
            <a:ext cx="266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9640" y="4292640"/>
            <a:ext cx="26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98560" y="1557360"/>
            <a:ext cx="6986520" cy="504720"/>
            <a:chOff x="898560" y="1557360"/>
            <a:chExt cx="6986520" cy="504720"/>
          </a:xfrm>
        </p:grpSpPr>
        <p:sp>
          <p:nvSpPr>
            <p:cNvPr id="253" name=""/>
            <p:cNvSpPr/>
            <p:nvPr/>
          </p:nvSpPr>
          <p:spPr>
            <a:xfrm>
              <a:off x="3565440" y="1557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898560" y="1557360"/>
              <a:ext cx="2089080" cy="503280"/>
              <a:chOff x="898560" y="1557360"/>
              <a:chExt cx="2089080" cy="503280"/>
            </a:xfrm>
          </p:grpSpPr>
          <p:sp>
            <p:nvSpPr>
              <p:cNvPr id="255" name=""/>
              <p:cNvSpPr/>
              <p:nvPr/>
            </p:nvSpPr>
            <p:spPr>
              <a:xfrm>
                <a:off x="898560" y="1557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69840" y="16286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7" name=""/>
            <p:cNvSpPr/>
            <p:nvPr/>
          </p:nvSpPr>
          <p:spPr>
            <a:xfrm>
              <a:off x="2987640" y="1844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162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37080" y="14842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03280" y="242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98560" y="2349360"/>
            <a:ext cx="6986520" cy="504720"/>
            <a:chOff x="898560" y="2349360"/>
            <a:chExt cx="6986520" cy="504720"/>
          </a:xfrm>
        </p:grpSpPr>
        <p:sp>
          <p:nvSpPr>
            <p:cNvPr id="262" name=""/>
            <p:cNvSpPr/>
            <p:nvPr/>
          </p:nvSpPr>
          <p:spPr>
            <a:xfrm>
              <a:off x="3565440" y="2349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98560" y="2349360"/>
              <a:ext cx="2089080" cy="503280"/>
              <a:chOff x="898560" y="2349360"/>
              <a:chExt cx="2089080" cy="503280"/>
            </a:xfrm>
          </p:grpSpPr>
          <p:sp>
            <p:nvSpPr>
              <p:cNvPr id="264" name=""/>
              <p:cNvSpPr/>
              <p:nvPr/>
            </p:nvSpPr>
            <p:spPr>
              <a:xfrm>
                <a:off x="898560" y="2349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69840" y="24206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6" name=""/>
            <p:cNvSpPr/>
            <p:nvPr/>
          </p:nvSpPr>
          <p:spPr>
            <a:xfrm>
              <a:off x="2987640" y="2636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332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7080" y="227664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03280" y="32828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898560" y="3211560"/>
            <a:ext cx="6986520" cy="504720"/>
            <a:chOff x="898560" y="3211560"/>
            <a:chExt cx="6986520" cy="504720"/>
          </a:xfrm>
        </p:grpSpPr>
        <p:sp>
          <p:nvSpPr>
            <p:cNvPr id="271" name=""/>
            <p:cNvSpPr/>
            <p:nvPr/>
          </p:nvSpPr>
          <p:spPr>
            <a:xfrm>
              <a:off x="3565440" y="32115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898560" y="3211560"/>
              <a:ext cx="2089080" cy="503280"/>
              <a:chOff x="898560" y="3211560"/>
              <a:chExt cx="2089080" cy="503280"/>
            </a:xfrm>
          </p:grpSpPr>
          <p:sp>
            <p:nvSpPr>
              <p:cNvPr id="273" name=""/>
              <p:cNvSpPr/>
              <p:nvPr/>
            </p:nvSpPr>
            <p:spPr>
              <a:xfrm>
                <a:off x="898560" y="32115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69840" y="32828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5" name=""/>
            <p:cNvSpPr/>
            <p:nvPr/>
          </p:nvSpPr>
          <p:spPr>
            <a:xfrm>
              <a:off x="2987640" y="34988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332000" y="3282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7080" y="31384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5080" y="4149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00000" y="4078440"/>
            <a:ext cx="6986520" cy="504720"/>
            <a:chOff x="900000" y="4078440"/>
            <a:chExt cx="6986520" cy="504720"/>
          </a:xfrm>
        </p:grpSpPr>
        <p:sp>
          <p:nvSpPr>
            <p:cNvPr id="280" name=""/>
            <p:cNvSpPr/>
            <p:nvPr/>
          </p:nvSpPr>
          <p:spPr>
            <a:xfrm>
              <a:off x="3566880" y="407844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900000" y="4078440"/>
              <a:ext cx="2089080" cy="503280"/>
              <a:chOff x="900000" y="4078440"/>
              <a:chExt cx="2089080" cy="503280"/>
            </a:xfrm>
          </p:grpSpPr>
          <p:sp>
            <p:nvSpPr>
              <p:cNvPr id="282" name=""/>
              <p:cNvSpPr/>
              <p:nvPr/>
            </p:nvSpPr>
            <p:spPr>
              <a:xfrm>
                <a:off x="900000" y="407844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280" y="414972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"/>
            <p:cNvSpPr/>
            <p:nvPr/>
          </p:nvSpPr>
          <p:spPr>
            <a:xfrm>
              <a:off x="2989080" y="436572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3334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8520" y="400536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5080" y="50864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00000" y="5014800"/>
            <a:ext cx="6986520" cy="504720"/>
            <a:chOff x="900000" y="5014800"/>
            <a:chExt cx="6986520" cy="504720"/>
          </a:xfrm>
        </p:grpSpPr>
        <p:sp>
          <p:nvSpPr>
            <p:cNvPr id="289" name=""/>
            <p:cNvSpPr/>
            <p:nvPr/>
          </p:nvSpPr>
          <p:spPr>
            <a:xfrm>
              <a:off x="3566880" y="501480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900000" y="5014800"/>
              <a:ext cx="2089080" cy="503280"/>
              <a:chOff x="900000" y="5014800"/>
              <a:chExt cx="2089080" cy="503280"/>
            </a:xfrm>
          </p:grpSpPr>
          <p:sp>
            <p:nvSpPr>
              <p:cNvPr id="291" name=""/>
              <p:cNvSpPr/>
              <p:nvPr/>
            </p:nvSpPr>
            <p:spPr>
              <a:xfrm>
                <a:off x="900000" y="501480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71280" y="508608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"/>
            <p:cNvSpPr/>
            <p:nvPr/>
          </p:nvSpPr>
          <p:spPr>
            <a:xfrm>
              <a:off x="2989080" y="530208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333440" y="508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8520" y="494172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1:33:21Z</dcterms:created>
  <dc:creator>user</dc:creator>
  <dc:description/>
  <dc:language>en-US</dc:language>
  <cp:lastModifiedBy>YL</cp:lastModifiedBy>
  <dcterms:modified xsi:type="dcterms:W3CDTF">2015-07-21T06:10:4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