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rojctor.wav" ContentType="audio/x-wav"/>
  <Override PartName="/ppt/media/image5.gif" ContentType="image/gif"/>
  <Override PartName="/ppt/media/image9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4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1BE-C39E-4D6B-9484-4481F169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410-1568-4FA5-B5FF-24928335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F87-602B-407F-9219-40AEF853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B46-7651-458D-859E-DD8240C7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D40-F761-4142-91B5-DA3C755D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EEF9-5A93-4FB7-8B5E-A758992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D93-148A-4818-9416-85C5F80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B411-3638-48E3-8EC2-33B63DF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D2CB-9F07-45F3-A7E6-DCC0C36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A769-A8EA-4AD2-B5AB-7939DF18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7F42-61B4-4DCA-A902-D0DAA46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45E-E414-45DC-8EA5-EDD811D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53D-CDDB-486F-8E2B-D631524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0172-7334-4265-9DD0-21721F7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BA2-345A-46CA-BA5E-E0E870A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AAE-4EEA-433C-ADB5-28A80AD6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2B86-6C0F-4FC7-8FE0-55A5D7D2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653-181D-4002-B64A-F6E44F9E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D13-5A19-49C8-9B4F-CD63A88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A77-3D9D-4F57-BB83-775509B6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9E2-16B9-420A-BF11-D9DAAFA2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FD4-AE73-4512-AA9E-D459763D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FF3-44D8-41A2-8580-130CF6F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452-A5B6-4A18-99AD-68F3AEB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4FE-8B11-4225-9B0E-DD71A5A2DA5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ADA-6488-441B-ADA1-1C5271696B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1.swf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5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1">
            <a:hlinkClick r:id="rId1" action="ppaction://hlinksldjump"/>
          </p:cNvPr>
          <p:cNvSpPr/>
          <p:nvPr/>
        </p:nvSpPr>
        <p:spPr>
          <a:xfrm>
            <a:off x="3859920" y="3976560"/>
            <a:ext cx="1278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袁宏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463840" y="2386080"/>
            <a:ext cx="43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满井游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注释   口头翻译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57"/>
          <p:cNvPicPr/>
          <p:nvPr/>
        </p:nvPicPr>
        <p:blipFill>
          <a:blip r:embed="rId1"/>
          <a:srcRect l="25579" t="0" r="0" b="0"/>
          <a:stretch/>
        </p:blipFill>
        <p:spPr>
          <a:xfrm>
            <a:off x="1908000" y="1341360"/>
            <a:ext cx="605016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8"/>
          <p:cNvSpPr/>
          <p:nvPr/>
        </p:nvSpPr>
        <p:spPr>
          <a:xfrm>
            <a:off x="6012000" y="5013360"/>
            <a:ext cx="1600200" cy="838080"/>
          </a:xfrm>
          <a:prstGeom prst="wedgeRoundRectCallout">
            <a:avLst>
              <a:gd name="adj1" fmla="val -48810"/>
              <a:gd name="adj2" fmla="val -19393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碎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5e62"/>
                </a:solidFill>
                <a:latin typeface="Arial"/>
                <a:ea typeface="方正琥珀简体"/>
              </a:rPr>
              <a:t>解释加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方正琥珀简体"/>
              </a:rPr>
              <a:t>红色</a:t>
            </a:r>
            <a:r>
              <a:rPr b="1" lang="zh-CN" sz="4000" spc="-1" strike="noStrike">
                <a:solidFill>
                  <a:srgbClr val="285e62"/>
                </a:solidFill>
                <a:latin typeface="Arial"/>
                <a:ea typeface="方正琥珀简体"/>
              </a:rPr>
              <a:t>的词语</a:t>
            </a:r>
            <a:br>
              <a:rPr sz="4000"/>
            </a:br>
            <a:r>
              <a:rPr b="1" lang="zh-CN" sz="3600" spc="-1" strike="noStrike">
                <a:solidFill>
                  <a:srgbClr val="285e62"/>
                </a:solidFill>
                <a:latin typeface="Arial"/>
                <a:ea typeface="方正琥珀简体"/>
              </a:rPr>
              <a:t>（加</a:t>
            </a:r>
            <a:r>
              <a:rPr b="1" lang="zh-CN" sz="3600" spc="-1" strike="noStrike" u="sng">
                <a:solidFill>
                  <a:srgbClr val="285e62"/>
                </a:solidFill>
                <a:uFillTx/>
                <a:latin typeface="Arial"/>
                <a:ea typeface="方正琥珀简体"/>
              </a:rPr>
              <a:t>下划线</a:t>
            </a:r>
            <a:r>
              <a:rPr b="1" lang="zh-CN" sz="3600" spc="-1" strike="noStrike">
                <a:solidFill>
                  <a:srgbClr val="285e62"/>
                </a:solidFill>
                <a:latin typeface="Arial"/>
                <a:ea typeface="方正琥珀简体"/>
              </a:rPr>
              <a:t>的课本已注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燕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地寒，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花朝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后，余寒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犹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厉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冻风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时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，作则飞沙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走砾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局促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一室之内，欲出不得。每冒风驰行，未百步辄返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7162920" y="1305000"/>
            <a:ext cx="1600200" cy="838080"/>
          </a:xfrm>
          <a:prstGeom prst="wedgeRoundRectCallout">
            <a:avLst>
              <a:gd name="adj1" fmla="val -25398"/>
              <a:gd name="adj2" fmla="val 9393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5e62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北京一带气候寒冷，花朝节过后，冬天的余寒还很厉害。冷风时常刮起，刮起就飞沙走石。拘束在一室之中，想出去却不能够。每次冒风疾行，不到百步就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被迫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返回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　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廿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二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天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稍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偕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数友出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东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至满井。高柳夹堤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土膏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微润，一望空阔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若笼脱之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于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冰皮始解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波色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乍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鳞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层层，清澈见底，晶晶然如镜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新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而冷光之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出于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匣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也。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山峦为晴雪所洗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娟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如拭，鲜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明媚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如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倩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女之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靧面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髻鬟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之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掠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516720" y="5445000"/>
            <a:ext cx="1600200" cy="838440"/>
          </a:xfrm>
          <a:prstGeom prst="wedgeRoundRectCallout">
            <a:avLst>
              <a:gd name="adj1" fmla="val 56546"/>
              <a:gd name="adj2" fmla="val -9488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5e62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91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　　二十二日天气略微暖和，偕同几个朋友出东直门，到满井。高大的柳树夹立堤旁，肥沃的土地有些湿润，一望空旷开阔，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觉得自己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好像是逃脱笼子的天鹅。这时河冰刚刚融化，水光才闪烁发亮，像鱼鳞似的浪纹一层一层，清澈得可以看到河底，亮晶晶的，好像明镜刚打开，清冷的光辉突然从镜匣中射出来一样。山峦被晴天融化的积雪洗过，纯净新鲜，好像刚擦过一样；娇艳明媚，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又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像美丽的少女洗了脸刚梳好发髻一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9"/>
          <p:cNvSpPr/>
          <p:nvPr/>
        </p:nvSpPr>
        <p:spPr>
          <a:xfrm>
            <a:off x="2268360" y="5589720"/>
            <a:ext cx="2664000" cy="649080"/>
          </a:xfrm>
          <a:prstGeom prst="wedgeRoundRectCallout">
            <a:avLst>
              <a:gd name="adj1" fmla="val -34981"/>
              <a:gd name="adj2" fmla="val -15513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才，方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柳条将舒未舒，柔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梢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披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麦田浅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鬣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寸许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游人虽未盛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泉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茗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者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罍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而歌者，红装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蹇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者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亦时时有。风力虽尚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劲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然徒步则汗出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浃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背。凡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曝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沙之鸟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呷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浪之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鳞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悠然自得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毛羽鳞鬣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之间皆有喜气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知郊田之外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未始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无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而城居者</a:t>
            </a:r>
            <a:r>
              <a:rPr b="1" lang="zh-CN" sz="36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未之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也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5003640" y="5300640"/>
            <a:ext cx="1729080" cy="649440"/>
          </a:xfrm>
          <a:prstGeom prst="wedgeRoundRectCallout">
            <a:avLst>
              <a:gd name="adj1" fmla="val 504"/>
              <a:gd name="adj2" fmla="val -11259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曾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5e62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柳条将要舒展却还没有舒展，柔软的梢头在风中飘荡，麦苗破土而出，短小如兽颈上的毛，才一寸左右。游人虽然还不算多，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但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用泉水煮茶喝的，拿着酒杯唱歌的，身着艳装骑驴的，也时时能看到。风力虽然还很强，但走路就汗流浃背。凡是在沙滩上晒太阳的鸟，浮到水面上吸水的鱼，都悠然自得，羽毛鳞鳍当中都透出喜悦的气息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我这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才知道郊野之外未尝没有春天，可住在城里的人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却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不知道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夫不能以游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堕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事，而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潇然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于山石草木之间者，惟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此官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也。而此地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与余近，余之游将自此始，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恶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能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无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纪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?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己亥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之二月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6858000" y="1411200"/>
            <a:ext cx="1905120" cy="838440"/>
          </a:xfrm>
          <a:prstGeom prst="wedgeRoundRectCallout">
            <a:avLst>
              <a:gd name="adj1" fmla="val -32916"/>
              <a:gd name="adj2" fmla="val 7973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潇洒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5e62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大概说是不能因为游玩而耽误公事的，流连忘返在山石草木之间的，只这个官儿罢了。而此地正好离我近，我将从现在开始出游，怎能没有记录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己亥年二月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答问   深入理解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57"/>
          <p:cNvPicPr/>
          <p:nvPr/>
        </p:nvPicPr>
        <p:blipFill>
          <a:blip r:embed="rId1"/>
          <a:srcRect l="25579" t="0" r="0" b="0"/>
          <a:stretch/>
        </p:blipFill>
        <p:spPr>
          <a:xfrm>
            <a:off x="2050920" y="1413000"/>
            <a:ext cx="59580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80960" y="12492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419640" y="692280"/>
            <a:ext cx="525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袁宏道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6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明代文学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中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湖广公安（今湖北省公安县）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兄宗道、弟中道，并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安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创始者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主张文学创作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独抒性灵，不拘格套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生性酷爱自然山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下了很多著名的山水游记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品语言清新流利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俊美潇洒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行云流水般舒徐自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sh1-5a"/>
          <p:cNvPicPr/>
          <p:nvPr/>
        </p:nvPicPr>
        <p:blipFill>
          <a:blip r:embed="rId1"/>
          <a:stretch/>
        </p:blipFill>
        <p:spPr>
          <a:xfrm>
            <a:off x="0" y="765000"/>
            <a:ext cx="3276720" cy="592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74312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792520" y="1746360"/>
            <a:ext cx="357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独抒性灵，不拘格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非从自己胸臆中流出，不肯下笔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111640" y="3860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------</a:t>
            </a: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袁宏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257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北京早春气候特征的词语是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924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余寒、犹厉、冻风、飞沙、走砾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251080" y="134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城中余寒景象表达作者什么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4360" y="2852640"/>
            <a:ext cx="777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表达作者</a:t>
            </a:r>
            <a:r>
              <a:rPr b="1" lang="zh-CN" sz="3600" spc="-1" strike="noStrike">
                <a:solidFill>
                  <a:srgbClr val="3399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局促一室之内，欲出不得</a:t>
            </a:r>
            <a:r>
              <a:rPr b="1" lang="zh-CN" sz="3600" spc="-1" strike="noStrike">
                <a:solidFill>
                  <a:srgbClr val="3399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的无奈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为“游记”，开头却写</a:t>
            </a: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不得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什么意图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烘托作者渴望出游的心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欲扬先抑，为后文做了铺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826920" y="407664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想游而不得出门，揭示出渴望出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与不能出游的矛盾，作者的懊丧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郁闷可想而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出游的时间、地点是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03040" y="2751120"/>
            <a:ext cx="758340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时间：廿二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地点：满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4365720"/>
            <a:ext cx="792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66"/>
                </a:solidFill>
                <a:latin typeface="Arial"/>
                <a:ea typeface="黑体"/>
              </a:rPr>
              <a:t>满井，是地名。在北京东直门外东北三里，明清两朝是京城近郊的一个风景区。因有一口古井，“井高于地，泉高于井，四时不落”所以得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写满井的句子是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1762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高柳夹堤，土膏微润，一望空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游时的愉快心情的句子是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若脱笼之鸪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233080" y="45082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作者从局促困居的境况下解脱出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满怀的喜悦之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句写水？哪句写山？哪句写田野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水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于时冰皮始解，波色乍明，鳞浪层层，清澈见底，晶晶然如镜之新开而冷光之乍出于匣也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山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山峦为晴雪所洗，娟然如拭，鲜妍明媚，如倩女之面而髻鬟之始掠也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田野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柳条将舒未舒，柔梢披风，麦田浅鬣寸许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游记写初春景物，抓住了“乍暖还寒”、万物复苏的特点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读课文，找出几句写景的话加以分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755640" y="2133720"/>
            <a:ext cx="864252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写景时，用词上处处突出了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早春的特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写麦田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句中类似的词还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7740720" y="3860640"/>
            <a:ext cx="95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003640" y="3860640"/>
            <a:ext cx="88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227640" y="3860640"/>
            <a:ext cx="99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2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7596360" y="6386400"/>
            <a:ext cx="1547640" cy="4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11280" y="134136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波色乍明，鳞浪层层，清澈见底”，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绘出初春水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娟然如拭，鲜妍明媚”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画出春山之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水如新开之镜，山如髻鬟始梳，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新奇而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写柳条突出其“将舒未舒”，写麦苗说其“浅鬣寸许”，都是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典型的早春景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102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文学常识：公安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　  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明代文学流派，代表人物为袁宗道、袁宏道、袁中道，因其籍贯为湖广公安，故世称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公安派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其重要成员还有江盈科、陶望龄、黄辉、雷思霈等人。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公安派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文学主张发端于袁宗道，袁宏道为中坚领军人物，袁中道进一步扩大了它的影响。文学主张：①反对盲目尊古，主张通变。袁宏道说：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世道既变，文亦因之。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②去伪存真，抒写性灵。袁宏道进一步指出：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独抒性灵，不拘格套，非从自己胸臆中流出，不肯下笔。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③推崇民歌小说，提倡通俗文学。缺点：作品缺乏深厚的社会内容，思想贫乏，风格轻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755640" y="549360"/>
            <a:ext cx="8137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柳夹堤，土膏微润，一望空阔，若脱笼之鹄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755640" y="620640"/>
            <a:ext cx="76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时冰皮始解，波色乍明，鳞浪层层，清澈见底，晶晶然如镜之新开而冷光之乍出于匣也。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332000" y="4581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山峦为晴雪所洗，娟然如拭，鲜妍明媚，如倩女之靧面而髻鬟之始掠也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763640" y="522936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麦田浅鬣寸许</a:t>
            </a:r>
            <a:r>
              <a:rPr b="1" lang="zh-CN" sz="32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1116000" y="549360"/>
            <a:ext cx="73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游人虽未盛，泉而茗者，罍而歌者，红装而蹇者，亦时时有。风力虽尚劲，然徒步则汗出浃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用了很多比喻句。有的是以物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有的是以人比物，有的是以物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。下列比喻句各属于哪一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略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分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50920" y="1341360"/>
            <a:ext cx="8459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若脱笼之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晶晶然如镜之新开而冷光之乍出于匣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如倩女之靧面而髻鬟之始掠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麦田浅鬣寸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11280" y="1844640"/>
            <a:ext cx="8172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物比人，表达了出城游玩的喜悦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物比物，写出了水光的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人比物，写出了春山的娟净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物比物，写出了麦苗初生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句写游人？哪句写动物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游人：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游人虽未盛，泉而茗者，罍而歌者，红装而蹇者，亦时时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动物：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凡曝沙之鸟，呷浪之鳞，悠然自得，毛羽鳞鬣之间皆有喜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凡曝沙之鸟，呷浪之鳞，悠然自得，毛羽鳞鬣之间皆有喜气。</a:t>
            </a:r>
            <a:br>
              <a:rPr sz="3600"/>
            </a:br>
            <a:br>
              <a:rPr sz="1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起什么作用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3212640"/>
            <a:ext cx="822960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曲折、巧妙地表达作者对春景的喜悦之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用 “曝沙之鸟，呷浪之鳞”的喜，表达自己心中的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755640" y="1845000"/>
            <a:ext cx="8137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人的感情与景物水乳交融，把无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情思化为有形的景物，曲折、巧妙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韵味十足地表达了作者对春景的欣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喜悦之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371600"/>
            <a:ext cx="79246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明神宗万历二十六年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59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，袁宏道收到在京城任职的哥哥袁宗道的信，让他进京，他只好收敛起游山玩水的兴致，来到北京，被授予顺天府教授，于是他终日又得和拜谒酬答打交道，这使他颇为苦闷，好在袁宏道所担任的职务比较清闲，有空暇就游览北京附近的名胜古迹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满井游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作于此时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10348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692280"/>
            <a:ext cx="266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鉴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11280" y="1773360"/>
            <a:ext cx="8964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写景时，作者先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角镜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扫视一下大场面，大景象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柳夹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膏微润，一望空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然后依次分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山、春水、柳条、麦苗、游人、动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理十分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611280" y="1197000"/>
            <a:ext cx="9144000" cy="470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景物中，有的是远景，有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景，有的是近景，还有的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种景物都突出其在早春天气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有景象；水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山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麦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游人的各种姿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静结合，高下相属，光鲜悦目，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缤纷，集中到一点，就是烘托了充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自然的春天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684360" y="2936880"/>
            <a:ext cx="8208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总括句，回应首段，是对自己冒寒出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的肯定，并对“城居者”困坐京城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大好春光表示惋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314440" y="1412640"/>
            <a:ext cx="47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始知郊田之外未始无春，而城居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未之知也。”  这一句有什么表达作用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夫不能以游堕事，而潇然于山石草木之间者，惟此官也”</a:t>
            </a:r>
            <a:br>
              <a:rPr sz="40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达了什么思想感情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表明自己寄情山水的兴趣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无意在政治上进取，而要“潇然于山石草木之间”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55640" y="1484280"/>
            <a:ext cx="669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表达了作者什么愿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11280" y="2637000"/>
            <a:ext cx="7632720" cy="206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表达自己将以这次游览满井为起点，在公事之余继续出游的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55640" y="1413000"/>
            <a:ext cx="30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心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26920" y="2205000"/>
            <a:ext cx="7686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本文以游览行踪为线索，以清新的笔调，历历如画地描写了北京近郊满井的早春景色。表达作者欢快、恬适的心情和喜爱郊游的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2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7596360" y="6386400"/>
            <a:ext cx="1547640" cy="4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63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袁宏道寄情山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63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袁宏道始终无意于仕途，他万历二十年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(1592)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就中了进士，但不愿做官，而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访师求学，游历山川。他曾辞去吴县县令，在苏杭一带游玩，写下了很多著名的游记。他把做官看作是“猢狲入笼中”，曾说 “与其死于床第，何若死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一片冷石也。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2043720" y="1389240"/>
            <a:ext cx="51184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写《满井游记》时，他任国子监助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虽然官务清闲，不像当吴中县令时“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瘦苦忙”“进退狼狈”，但污浊的官场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使他尝尽百暖百寒、乍阴乍阳的人间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趣。第二年他就告假回乡，过起隐居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活。四十二岁时病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050920" y="2060640"/>
            <a:ext cx="5327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景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195640" y="306756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赏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1600200"/>
            <a:ext cx="83059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土膏微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写冬去春来大地解冻复苏的情景，简练而传神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冰皮始解，波色乍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写天气转暖湖冰消融的情景，突出了初春的特点，令人精神为之一振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柳条将舒未舒，柔梢披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写出了初春柳枝初展的神韵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麦田浅鬣寸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写麦苗破土初芽的情景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准确而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685800"/>
            <a:ext cx="82296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抓住景物特征写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乍暖还寒，万物复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79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白描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写水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波色乍明，鳞浪层层，清澈见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写柳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舒未舒，柔梢披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这种表现方法，没有夸张、渲染和烘托，而形象却鲜明如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拟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者写山，用倩女新妆作喻，写鱼鸟，说它们洋溢着喜气，都是用了拟人的写法，增加了景物的动感和灵气，也融入作者的主观情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比喻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形容自己出城游玩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脱笼之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写水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晶晶然如镜之新开而冷光之乍出于匣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以新开明镜喻新绿水波，写出了水光的明丽，贴切而有新意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麦田浅鬣寸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以兽颈之毛比喻还没有长高的麦苗，简明而又形象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28600" y="228600"/>
            <a:ext cx="86104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运用多种修辞手法，使所写景物形象生动可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160520" y="1600200"/>
            <a:ext cx="73080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从不同的感官角度来描写，如视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听觉、 触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虚实结合，动静结合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正面描写和侧面烘托相结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6320" y="457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补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辨析下列三组短语中的“之”字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说说这些用法现在是否还在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41148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室之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脱笼之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倩女之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郊田之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曝沙之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髻鬟之始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067280" y="1989000"/>
            <a:ext cx="4647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示限定， “以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示修饰，“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示修饰，“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示修饰，“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示修饰，“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舒缓语气作用，不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品介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一篇记游小品。“满井”是明、清时代北京近郊的一个风景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当时作者为官清闲，于早春二月出城游玩，如脱笼之鸟，感受着春回大地的气息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文章写水光山色、柳枝麦苗、游人欢欣、鱼鸟之乐，无不流露出喜悦之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正音   正确朗读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57"/>
          <p:cNvPicPr/>
          <p:nvPr/>
        </p:nvPicPr>
        <p:blipFill>
          <a:blip r:embed="rId1"/>
          <a:srcRect l="25579" t="0" r="0" b="0"/>
          <a:stretch/>
        </p:blipFill>
        <p:spPr>
          <a:xfrm>
            <a:off x="1692360" y="1413000"/>
            <a:ext cx="5957640" cy="4464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516720" y="6226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152360" y="549360"/>
            <a:ext cx="7991640" cy="527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砾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髻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浃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呷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908000" y="1484280"/>
            <a:ext cx="130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84720" y="1484280"/>
            <a:ext cx="131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516720" y="1484280"/>
            <a:ext cx="133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050920" y="2205000"/>
            <a:ext cx="911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284720" y="220500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588000" y="2205000"/>
            <a:ext cx="131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195640" y="2924280"/>
            <a:ext cx="66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140360" y="2924280"/>
            <a:ext cx="15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516720" y="2924280"/>
            <a:ext cx="147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835280" y="3645000"/>
            <a:ext cx="145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m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211640" y="3716280"/>
            <a:ext cx="128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516720" y="3716280"/>
            <a:ext cx="136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050920" y="4437000"/>
            <a:ext cx="135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284720" y="4437000"/>
            <a:ext cx="10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6588000" y="4365720"/>
            <a:ext cx="112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4356000" y="5229360"/>
            <a:ext cx="140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9" descr="23">
            <a:hlinkClick r:id="rId1" action="ppaction://hlinksldjump"/>
          </p:cNvPr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7596360" y="6386400"/>
            <a:ext cx="1547640" cy="471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2007000" y="52293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再读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57"/>
          <p:cNvPicPr/>
          <p:nvPr/>
        </p:nvPicPr>
        <p:blipFill>
          <a:blip r:embed="rId1"/>
          <a:srcRect l="25579" t="0" r="0" b="0"/>
          <a:stretch/>
        </p:blipFill>
        <p:spPr>
          <a:xfrm>
            <a:off x="1692360" y="1413000"/>
            <a:ext cx="5957640" cy="4464000"/>
          </a:xfrm>
          <a:prstGeom prst="rect">
            <a:avLst/>
          </a:prstGeom>
          <a:ln w="0">
            <a:noFill/>
          </a:ln>
        </p:spPr>
      </p:pic>
      <p:pic>
        <p:nvPicPr>
          <p:cNvPr id="131" name="配乐.mp3" descr=""/>
          <p:cNvPicPr/>
          <p:nvPr/>
        </p:nvPicPr>
        <p:blipFill>
          <a:blip r:embed="rId2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3061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23Z</dcterms:created>
  <dc:creator/>
  <dc:description/>
  <cp:keywords>幻灯片之家 http:/www.eeppt.com</cp:keywords>
  <dc:language>en-US</dc:language>
  <cp:lastModifiedBy/>
  <dcterms:modified xsi:type="dcterms:W3CDTF">2015-07-20T06:37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