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A579-6A52-4806-A2EF-A4D6058C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74EC-BF9A-4F7C-8491-020C4A19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857-FB15-4CCF-A52E-9A7F275D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41E5-B421-46B1-A581-A18166DC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186C-5C73-4360-BBCF-FD63DC0D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D6FE-6D7A-42C0-9DD2-59B0CB34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192-4798-4E5F-AECB-561B6822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310D-9018-4853-AA26-05BBD231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9E7D-E78B-4130-941C-B6C0F178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327F-5D22-4B61-B894-1974F675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957C-62E1-4FE2-884B-2765B811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0A4-91AE-43D8-A985-6834FBEB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E939-554C-4558-80C7-FDF6E686465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1490-65E9-4E88-8FA5-D3968F93A25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77240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特粗光辉简体"/>
                <a:ea typeface="方正特粗光辉简体"/>
              </a:rPr>
              <a:t>米奇卡通</a:t>
            </a:r>
            <a:r>
              <a:rPr b="0" lang="zh-CN" sz="4000" spc="-1" strike="noStrike">
                <a:solidFill>
                  <a:srgbClr val="000000"/>
                </a:solidFill>
                <a:latin typeface="方正特粗光辉简体"/>
                <a:ea typeface="方正特粗光辉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特粗光辉简体"/>
                <a:ea typeface="方正特粗光辉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81080" y="645336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9CFD-246B-4E9C-A3DF-69382BB594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4T13:21:00Z</dcterms:created>
  <dc:creator>for_yang@qq.com</dc:creator>
  <dc:description>Made by Moyea Software. To find more free PowerPoint templates, please visit http://www.dvd-ppt-slideshow.com/powerpoint-knowledge/powerpoint-templates.html</dc:description>
  <cp:keywords>Disney free cartoon PowerPoint templates</cp:keywords>
  <dc:language>en-US</dc:language>
  <cp:lastModifiedBy>lenovo</cp:lastModifiedBy>
  <dcterms:modified xsi:type="dcterms:W3CDTF">2015-07-21T03:26:11Z</dcterms:modified>
  <cp:revision>7</cp:revision>
  <dc:subject>Disney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