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B48AB-9A28-4C55-AABD-AD98E9A33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D946A-C659-47AF-89C2-383993842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96F5F-6301-4D1E-A4A1-9412E9082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15B82-390D-43A7-8F89-8A5891E97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E9C77-A879-4467-BB60-320B2DFA7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71C9E-A5AE-468A-AECE-0ADADCC26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FA25C-6F6F-4823-BB67-112EC9A25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E86A8-36B9-4D97-95A3-EF20E8E17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F3CE3-DEC8-4170-BB53-48D8DEE3A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094E6-FCAC-42AF-81B1-AB4EA54E1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5371D-F499-40B4-B0A9-EE5F6E7BF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1B1E5-77D2-480A-AD03-441B061DE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2A8CE-0867-44C4-9734-A6A9A81311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bbs.ruideppt.com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背景"/>
          <p:cNvPicPr/>
          <p:nvPr/>
        </p:nvPicPr>
        <p:blipFill>
          <a:blip r:embed="rId1"/>
          <a:stretch/>
        </p:blipFill>
        <p:spPr>
          <a:xfrm>
            <a:off x="-15840" y="0"/>
            <a:ext cx="9159840" cy="3591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6" descr="shouxin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-284040" y="1773360"/>
            <a:ext cx="9393120" cy="3228840"/>
          </a:xfrm>
          <a:prstGeom prst="rect">
            <a:avLst/>
          </a:prstGeom>
          <a:ln w="0">
            <a:noFill/>
          </a:ln>
        </p:spPr>
      </p:pic>
      <p:sp>
        <p:nvSpPr>
          <p:cNvPr id="43" name="Text Box 7"/>
          <p:cNvSpPr/>
          <p:nvPr/>
        </p:nvSpPr>
        <p:spPr>
          <a:xfrm>
            <a:off x="755640" y="2617920"/>
            <a:ext cx="5545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Thank You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6560" y="623736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781640" y="981000"/>
            <a:ext cx="277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结尾谢谢动态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1D815-B54E-4C30-ADC7-B98217BA24D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7T10:34:25Z</dcterms:created>
  <dc:creator>幻灯片之家 http://www.eeppt.com; An</dc:creator>
  <dc:description/>
  <cp:keywords>幻灯片之家 http:/www.eeppt.com</cp:keywords>
  <dc:language>en-US</dc:language>
  <cp:lastModifiedBy/>
  <dcterms:modified xsi:type="dcterms:W3CDTF">2015-07-17T01:04:49Z</dcterms:modified>
  <cp:revision>23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