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719931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26B8-0DE5-472A-83C4-584A0C405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BA85-3CA6-486D-B98E-19F3A86E6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CCDA-A046-46CA-9F0D-97F177B99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697D-EA48-4377-BF48-83594D1B8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96471-B775-41FF-ADE4-235AC473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0149-E073-4C08-907E-610D03EA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562FB-7A41-40F1-AABB-C3DDDB6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42AFC-4AFF-45AE-897A-12F859A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18CB-F1B7-40B6-9ABF-DA4CF2B9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B1DE-28B3-44BE-A816-C70A041C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A912F-4B32-45E3-96EB-E9DAC5B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2666-541D-4560-9FFF-3D96ED291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2CD6F-C013-459A-8EFA-EAEF514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E9E76-0236-4DF7-84B7-7DC69C3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2ABF2-76C3-4625-A9BA-3F829B06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272E-247E-49C1-A5FB-7A1A8F04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45392-25D5-48A8-81F8-4741CC0A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578B-199B-4944-B911-71D3FD71C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D5D3-E1E2-43FE-A396-E30E56FA1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E4DF-01E2-4158-B631-99D8B51A5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0F08-7505-4178-8321-752DBDE35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EF92-13DC-4298-A089-EE3172A90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85E1-E237-4656-9C6A-240A0BB5C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5D73-126B-4525-B966-E32A56A94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211280"/>
            <a:ext cx="1765440" cy="52380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7F5FEFD0-DC46-4681-8A3D-DE3CB64E896E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10832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图片1副本"/>
          <p:cNvPicPr/>
          <p:nvPr/>
        </p:nvPicPr>
        <p:blipFill>
          <a:blip r:embed="rId2"/>
          <a:stretch/>
        </p:blipFill>
        <p:spPr>
          <a:xfrm>
            <a:off x="282600" y="4141800"/>
            <a:ext cx="1192320" cy="30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187200"/>
            <a:ext cx="648000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360" y="1091880"/>
            <a:ext cx="648000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3600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2460600" y="4262400"/>
            <a:ext cx="2279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51606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D758A283-3627-4B42-A4D0-EA86F7CCE97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720108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飞吧"/>
          <p:cNvPicPr/>
          <p:nvPr/>
        </p:nvPicPr>
        <p:blipFill>
          <a:blip r:embed="rId2"/>
          <a:stretch/>
        </p:blipFill>
        <p:spPr>
          <a:xfrm>
            <a:off x="3782880" y="1332000"/>
            <a:ext cx="2909880" cy="1665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0" y="0"/>
            <a:ext cx="7238880" cy="652320"/>
            <a:chOff x="0" y="0"/>
            <a:chExt cx="7238880" cy="652320"/>
          </a:xfrm>
        </p:grpSpPr>
        <p:pic>
          <p:nvPicPr>
            <p:cNvPr id="85" name="Picture 5" descr="未标题-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未标题-2"/>
            <p:cNvPicPr/>
            <p:nvPr/>
          </p:nvPicPr>
          <p:blipFill>
            <a:blip r:embed="rId4"/>
            <a:stretch/>
          </p:blipFill>
          <p:spPr>
            <a:xfrm>
              <a:off x="4482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未标题-2"/>
            <p:cNvPicPr/>
            <p:nvPr/>
          </p:nvPicPr>
          <p:blipFill>
            <a:blip r:embed="rId5"/>
            <a:stretch/>
          </p:blipFill>
          <p:spPr>
            <a:xfrm>
              <a:off x="1108440" y="0"/>
              <a:ext cx="19692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8" descr="未标题-2"/>
            <p:cNvPicPr/>
            <p:nvPr/>
          </p:nvPicPr>
          <p:blipFill>
            <a:blip r:embed="rId6"/>
            <a:stretch/>
          </p:blipFill>
          <p:spPr>
            <a:xfrm>
              <a:off x="1557000" y="0"/>
              <a:ext cx="29448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9" descr="未标题-2"/>
            <p:cNvPicPr/>
            <p:nvPr/>
          </p:nvPicPr>
          <p:blipFill>
            <a:blip r:embed="rId7"/>
            <a:stretch/>
          </p:blipFill>
          <p:spPr>
            <a:xfrm>
              <a:off x="21520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" descr="未标题-2"/>
            <p:cNvPicPr/>
            <p:nvPr/>
          </p:nvPicPr>
          <p:blipFill>
            <a:blip r:embed="rId8"/>
            <a:stretch/>
          </p:blipFill>
          <p:spPr>
            <a:xfrm>
              <a:off x="260028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1" descr="未标题-2"/>
            <p:cNvPicPr/>
            <p:nvPr/>
          </p:nvPicPr>
          <p:blipFill>
            <a:blip r:embed="rId9"/>
            <a:stretch/>
          </p:blipFill>
          <p:spPr>
            <a:xfrm>
              <a:off x="3260520" y="0"/>
              <a:ext cx="19692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2" descr="未标题-2"/>
            <p:cNvPicPr/>
            <p:nvPr/>
          </p:nvPicPr>
          <p:blipFill>
            <a:blip r:embed="rId10"/>
            <a:stretch/>
          </p:blipFill>
          <p:spPr>
            <a:xfrm>
              <a:off x="3709080" y="0"/>
              <a:ext cx="29448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" descr="未标题-2"/>
            <p:cNvPicPr/>
            <p:nvPr/>
          </p:nvPicPr>
          <p:blipFill>
            <a:blip r:embed="rId11"/>
            <a:stretch/>
          </p:blipFill>
          <p:spPr>
            <a:xfrm>
              <a:off x="43434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4" descr="未标题-2"/>
            <p:cNvPicPr/>
            <p:nvPr/>
          </p:nvPicPr>
          <p:blipFill>
            <a:blip r:embed="rId12"/>
            <a:stretch/>
          </p:blipFill>
          <p:spPr>
            <a:xfrm>
              <a:off x="479196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5" descr="未标题-2"/>
            <p:cNvPicPr/>
            <p:nvPr/>
          </p:nvPicPr>
          <p:blipFill>
            <a:blip r:embed="rId13"/>
            <a:stretch/>
          </p:blipFill>
          <p:spPr>
            <a:xfrm>
              <a:off x="5452200" y="0"/>
              <a:ext cx="19692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6" descr="未标题-2"/>
            <p:cNvPicPr/>
            <p:nvPr/>
          </p:nvPicPr>
          <p:blipFill>
            <a:blip r:embed="rId14"/>
            <a:stretch/>
          </p:blipFill>
          <p:spPr>
            <a:xfrm>
              <a:off x="59004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7" descr="未标题-2"/>
            <p:cNvPicPr/>
            <p:nvPr/>
          </p:nvPicPr>
          <p:blipFill>
            <a:blip r:embed="rId15"/>
            <a:stretch/>
          </p:blipFill>
          <p:spPr>
            <a:xfrm>
              <a:off x="64954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8" descr="未标题-2"/>
            <p:cNvPicPr/>
            <p:nvPr/>
          </p:nvPicPr>
          <p:blipFill>
            <a:blip r:embed="rId16"/>
            <a:stretch/>
          </p:blipFill>
          <p:spPr>
            <a:xfrm>
              <a:off x="69440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树叶的梦想.mp3" descr=""/>
          <p:cNvPicPr/>
          <p:nvPr/>
        </p:nvPicPr>
        <p:blipFill>
          <a:blip r:embed="rId17"/>
          <a:stretch/>
        </p:blipFill>
        <p:spPr>
          <a:xfrm>
            <a:off x="196920" y="4140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308600" y="2984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春梦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07880" y="4237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03" name="Oval 3"/>
          <p:cNvSpPr/>
          <p:nvPr/>
        </p:nvSpPr>
        <p:spPr>
          <a:xfrm rot="21079800">
            <a:off x="-11269440" y="-3051000"/>
            <a:ext cx="9296640" cy="8424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 rot="21079800">
            <a:off x="-8992800" y="-4356000"/>
            <a:ext cx="9296280" cy="7173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989800" y="325440"/>
            <a:ext cx="93528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在空中飞翔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高山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大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那遥远的天堂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扬帆远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狂风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巨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到那美丽的地方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向我招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带我到爱的天堂！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107" name="Freeform 7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109" name="Group 9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110" name="AutoShape 10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11"/>
                <p:cNvSpPr/>
                <p:nvPr/>
              </p:nvSpPr>
              <p:spPr>
                <a:xfrm rot="399000">
                  <a:off x="-558000" y="352080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12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13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114" name="Freeform 14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5"/>
                <p:cNvSpPr/>
                <p:nvPr/>
              </p:nvSpPr>
              <p:spPr>
                <a:xfrm rot="399000">
                  <a:off x="-778680" y="349596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6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17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8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9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0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1"/>
                <p:cNvSpPr/>
                <p:nvPr/>
              </p:nvSpPr>
              <p:spPr>
                <a:xfrm rot="399000">
                  <a:off x="-739440" y="33123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2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3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5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6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7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8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9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0"/>
                <p:cNvSpPr/>
                <p:nvPr/>
              </p:nvSpPr>
              <p:spPr>
                <a:xfrm rot="399000">
                  <a:off x="-459360" y="32511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1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2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 rot="399000">
                  <a:off x="-47844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 rot="399000">
                  <a:off x="-478080" y="35463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 rot="399000">
                  <a:off x="-619200" y="349452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6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7"/>
                <p:cNvSpPr/>
                <p:nvPr/>
              </p:nvSpPr>
              <p:spPr>
                <a:xfrm rot="399000">
                  <a:off x="-487080" y="35535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8"/>
                <p:cNvSpPr/>
                <p:nvPr/>
              </p:nvSpPr>
              <p:spPr>
                <a:xfrm rot="1080000">
                  <a:off x="-438480" y="35132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9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50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151" name="Freeform 51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52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153" name="Group 53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154" name="AutoShape 54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5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56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7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158" name="Freeform 58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9"/>
                <p:cNvSpPr/>
                <p:nvPr/>
              </p:nvSpPr>
              <p:spPr>
                <a:xfrm rot="251400">
                  <a:off x="-761040" y="404928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60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61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62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3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4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65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6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7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8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69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0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1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72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3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74"/>
                <p:cNvSpPr/>
                <p:nvPr/>
              </p:nvSpPr>
              <p:spPr>
                <a:xfrm rot="251400">
                  <a:off x="-447120" y="379548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5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76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77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78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9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0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81"/>
                <p:cNvSpPr/>
                <p:nvPr/>
              </p:nvSpPr>
              <p:spPr>
                <a:xfrm rot="251400">
                  <a:off x="-460080" y="408636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82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83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4"/>
                <p:cNvSpPr/>
                <p:nvPr/>
              </p:nvSpPr>
              <p:spPr>
                <a:xfrm rot="251400">
                  <a:off x="-484920" y="409644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5"/>
                <p:cNvSpPr/>
                <p:nvPr/>
              </p:nvSpPr>
              <p:spPr>
                <a:xfrm rot="251400">
                  <a:off x="-699840" y="403992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6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87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88"/>
                <p:cNvSpPr/>
                <p:nvPr/>
              </p:nvSpPr>
              <p:spPr>
                <a:xfrm rot="251400">
                  <a:off x="-459000" y="38044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89"/>
                <p:cNvSpPr/>
                <p:nvPr/>
              </p:nvSpPr>
              <p:spPr>
                <a:xfrm rot="251400">
                  <a:off x="-599760" y="404424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90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91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92"/>
                <p:cNvSpPr/>
                <p:nvPr/>
              </p:nvSpPr>
              <p:spPr>
                <a:xfrm rot="932400">
                  <a:off x="-421200" y="405576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93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" name="Group 94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195" name="Freeform 95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96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197" name="Group 97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198" name="AutoShape 98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99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00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101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202" name="Freeform 102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03"/>
                <p:cNvSpPr/>
                <p:nvPr/>
              </p:nvSpPr>
              <p:spPr>
                <a:xfrm rot="399000">
                  <a:off x="-1375560" y="25290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04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05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06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07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08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09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10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11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12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13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14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15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16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17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18"/>
                <p:cNvSpPr/>
                <p:nvPr/>
              </p:nvSpPr>
              <p:spPr>
                <a:xfrm rot="399000">
                  <a:off x="-1056240" y="22842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19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20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21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22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23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24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25"/>
                <p:cNvSpPr/>
                <p:nvPr/>
              </p:nvSpPr>
              <p:spPr>
                <a:xfrm rot="399000">
                  <a:off x="-1075320" y="257724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26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27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28"/>
                <p:cNvSpPr/>
                <p:nvPr/>
              </p:nvSpPr>
              <p:spPr>
                <a:xfrm rot="399000">
                  <a:off x="-1101960" y="258336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29"/>
                <p:cNvSpPr/>
                <p:nvPr/>
              </p:nvSpPr>
              <p:spPr>
                <a:xfrm rot="399000">
                  <a:off x="-1313280" y="25218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30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31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32"/>
                <p:cNvSpPr/>
                <p:nvPr/>
              </p:nvSpPr>
              <p:spPr>
                <a:xfrm rot="399000">
                  <a:off x="-1067760" y="22921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33"/>
                <p:cNvSpPr/>
                <p:nvPr/>
              </p:nvSpPr>
              <p:spPr>
                <a:xfrm rot="399000">
                  <a:off x="-1216080" y="25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34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35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36"/>
                <p:cNvSpPr/>
                <p:nvPr/>
              </p:nvSpPr>
              <p:spPr>
                <a:xfrm rot="1080000">
                  <a:off x="-1035360" y="25466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37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38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239" name="Freeform 139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40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241" name="Group 141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242" name="AutoShape 142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43"/>
                <p:cNvSpPr/>
                <p:nvPr/>
              </p:nvSpPr>
              <p:spPr>
                <a:xfrm rot="20032800">
                  <a:off x="-565560" y="3853800"/>
                  <a:ext cx="32040" cy="3024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44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45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246" name="Freeform 146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47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48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49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50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51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52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53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54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55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56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57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58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59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60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161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62"/>
                <p:cNvSpPr/>
                <p:nvPr/>
              </p:nvSpPr>
              <p:spPr>
                <a:xfrm rot="20032800">
                  <a:off x="-636840" y="3671640"/>
                  <a:ext cx="31320" cy="1972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63"/>
                <p:cNvSpPr/>
                <p:nvPr/>
              </p:nvSpPr>
              <p:spPr>
                <a:xfrm rot="20032800">
                  <a:off x="-627480" y="3686040"/>
                  <a:ext cx="55080" cy="1656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64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65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66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67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68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69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70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71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72"/>
                <p:cNvSpPr/>
                <p:nvPr/>
              </p:nvSpPr>
              <p:spPr>
                <a:xfrm rot="20032800">
                  <a:off x="-592920" y="3867480"/>
                  <a:ext cx="4536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73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74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75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76"/>
                <p:cNvSpPr/>
                <p:nvPr/>
              </p:nvSpPr>
              <p:spPr>
                <a:xfrm rot="20032800">
                  <a:off x="-642600" y="3688920"/>
                  <a:ext cx="5760" cy="1814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77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78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79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180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81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Text Box 182"/>
          <p:cNvSpPr/>
          <p:nvPr/>
        </p:nvSpPr>
        <p:spPr>
          <a:xfrm>
            <a:off x="1682640" y="4352760"/>
            <a:ext cx="43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400" spc="-1" strike="noStrike" u="sng">
                <a:solidFill>
                  <a:srgbClr val="6d757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30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32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3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页面1"/>
          <p:cNvPicPr/>
          <p:nvPr/>
        </p:nvPicPr>
        <p:blipFill>
          <a:blip r:embed="rId1"/>
          <a:stretch/>
        </p:blipFill>
        <p:spPr>
          <a:xfrm>
            <a:off x="1440" y="3240"/>
            <a:ext cx="7199640" cy="47037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5040360" y="82692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梦想装上一个螺旋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俯视大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心装上一双翅膀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一起去飞翔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天空装上一扇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去星辰徜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飞吧副本"/>
          <p:cNvPicPr/>
          <p:nvPr/>
        </p:nvPicPr>
        <p:blipFill>
          <a:blip r:embed="rId2"/>
          <a:stretch/>
        </p:blipFill>
        <p:spPr>
          <a:xfrm>
            <a:off x="144360" y="221760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"/>
          <p:cNvGrpSpPr/>
          <p:nvPr/>
        </p:nvGrpSpPr>
        <p:grpSpPr>
          <a:xfrm>
            <a:off x="-926640" y="1680480"/>
            <a:ext cx="874440" cy="734400"/>
            <a:chOff x="-926640" y="1680480"/>
            <a:chExt cx="874440" cy="734400"/>
          </a:xfrm>
        </p:grpSpPr>
        <p:sp>
          <p:nvSpPr>
            <p:cNvPr id="287" name="Freeform 6"/>
            <p:cNvSpPr/>
            <p:nvPr/>
          </p:nvSpPr>
          <p:spPr>
            <a:xfrm rot="2931600">
              <a:off x="-381240" y="20710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7"/>
            <p:cNvGrpSpPr/>
            <p:nvPr/>
          </p:nvGrpSpPr>
          <p:grpSpPr>
            <a:xfrm>
              <a:off x="-926640" y="1680480"/>
              <a:ext cx="874440" cy="734400"/>
              <a:chOff x="-926640" y="1680480"/>
              <a:chExt cx="874440" cy="734400"/>
            </a:xfrm>
          </p:grpSpPr>
          <p:grpSp>
            <p:nvGrpSpPr>
              <p:cNvPr id="289" name="Group 8"/>
              <p:cNvGrpSpPr/>
              <p:nvPr/>
            </p:nvGrpSpPr>
            <p:grpSpPr>
              <a:xfrm>
                <a:off x="-926640" y="1973520"/>
                <a:ext cx="597240" cy="441360"/>
                <a:chOff x="-926640" y="1973520"/>
                <a:chExt cx="597240" cy="441360"/>
              </a:xfrm>
            </p:grpSpPr>
            <p:sp>
              <p:nvSpPr>
                <p:cNvPr id="290" name="AutoShape 9"/>
                <p:cNvSpPr/>
                <p:nvPr/>
              </p:nvSpPr>
              <p:spPr>
                <a:xfrm rot="2931600">
                  <a:off x="-436320" y="19944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10"/>
                <p:cNvSpPr/>
                <p:nvPr/>
              </p:nvSpPr>
              <p:spPr>
                <a:xfrm rot="2931600">
                  <a:off x="-609120" y="195336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1"/>
                <p:cNvSpPr/>
                <p:nvPr/>
              </p:nvSpPr>
              <p:spPr>
                <a:xfrm rot="3475200">
                  <a:off x="-853920" y="22442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2"/>
              <p:cNvGrpSpPr/>
              <p:nvPr/>
            </p:nvGrpSpPr>
            <p:grpSpPr>
              <a:xfrm>
                <a:off x="-653760" y="1680480"/>
                <a:ext cx="601560" cy="618840"/>
                <a:chOff x="-653760" y="1680480"/>
                <a:chExt cx="601560" cy="618840"/>
              </a:xfrm>
            </p:grpSpPr>
            <p:sp>
              <p:nvSpPr>
                <p:cNvPr id="294" name="Freeform 13"/>
                <p:cNvSpPr/>
                <p:nvPr/>
              </p:nvSpPr>
              <p:spPr>
                <a:xfrm rot="2931600">
                  <a:off x="-540720" y="1949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4"/>
                <p:cNvSpPr/>
                <p:nvPr/>
              </p:nvSpPr>
              <p:spPr>
                <a:xfrm rot="2931600">
                  <a:off x="-659880" y="19134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5"/>
                <p:cNvSpPr/>
                <p:nvPr/>
              </p:nvSpPr>
              <p:spPr>
                <a:xfrm rot="2931600">
                  <a:off x="-624240" y="18547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16"/>
                <p:cNvSpPr/>
                <p:nvPr/>
              </p:nvSpPr>
              <p:spPr>
                <a:xfrm rot="2931600">
                  <a:off x="-632160" y="18054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7"/>
                <p:cNvSpPr/>
                <p:nvPr/>
              </p:nvSpPr>
              <p:spPr>
                <a:xfrm rot="2931600">
                  <a:off x="-608400" y="180252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8"/>
                <p:cNvSpPr/>
                <p:nvPr/>
              </p:nvSpPr>
              <p:spPr>
                <a:xfrm rot="2931600">
                  <a:off x="-583200" y="18259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9"/>
                <p:cNvSpPr/>
                <p:nvPr/>
              </p:nvSpPr>
              <p:spPr>
                <a:xfrm rot="2931600">
                  <a:off x="-505800" y="178632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0"/>
                <p:cNvSpPr/>
                <p:nvPr/>
              </p:nvSpPr>
              <p:spPr>
                <a:xfrm rot="2931600">
                  <a:off x="-535680" y="17841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1"/>
                <p:cNvSpPr/>
                <p:nvPr/>
              </p:nvSpPr>
              <p:spPr>
                <a:xfrm rot="2931600">
                  <a:off x="-538920" y="18331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22"/>
                <p:cNvSpPr/>
                <p:nvPr/>
              </p:nvSpPr>
              <p:spPr>
                <a:xfrm rot="2931600">
                  <a:off x="-515160" y="17388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3"/>
                <p:cNvSpPr/>
                <p:nvPr/>
              </p:nvSpPr>
              <p:spPr>
                <a:xfrm flipV="1">
                  <a:off x="-396360" y="1754640"/>
                  <a:ext cx="61920" cy="3168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24"/>
                <p:cNvSpPr/>
                <p:nvPr/>
              </p:nvSpPr>
              <p:spPr>
                <a:xfrm rot="2931600">
                  <a:off x="-443160" y="17902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25"/>
                <p:cNvSpPr/>
                <p:nvPr/>
              </p:nvSpPr>
              <p:spPr>
                <a:xfrm rot="2931600">
                  <a:off x="-401040" y="1790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6"/>
                <p:cNvSpPr/>
                <p:nvPr/>
              </p:nvSpPr>
              <p:spPr>
                <a:xfrm rot="2931600">
                  <a:off x="-360720" y="1793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7"/>
                <p:cNvSpPr/>
                <p:nvPr/>
              </p:nvSpPr>
              <p:spPr>
                <a:xfrm rot="2931600">
                  <a:off x="-319320" y="180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8"/>
                <p:cNvSpPr/>
                <p:nvPr/>
              </p:nvSpPr>
              <p:spPr>
                <a:xfrm rot="2931600">
                  <a:off x="-298440" y="17884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9"/>
                <p:cNvSpPr/>
                <p:nvPr/>
              </p:nvSpPr>
              <p:spPr>
                <a:xfrm rot="2931600">
                  <a:off x="-302760" y="18399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30"/>
                <p:cNvSpPr/>
                <p:nvPr/>
              </p:nvSpPr>
              <p:spPr>
                <a:xfrm rot="2931600">
                  <a:off x="-309960" y="18925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1"/>
                <p:cNvSpPr/>
                <p:nvPr/>
              </p:nvSpPr>
              <p:spPr>
                <a:xfrm rot="2931600">
                  <a:off x="-300600" y="18586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2"/>
                <p:cNvSpPr/>
                <p:nvPr/>
              </p:nvSpPr>
              <p:spPr>
                <a:xfrm rot="2931600">
                  <a:off x="-334800" y="19224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3"/>
                <p:cNvSpPr/>
                <p:nvPr/>
              </p:nvSpPr>
              <p:spPr>
                <a:xfrm rot="2931600">
                  <a:off x="-355320" y="1992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4"/>
                <p:cNvSpPr/>
                <p:nvPr/>
              </p:nvSpPr>
              <p:spPr>
                <a:xfrm rot="2931600">
                  <a:off x="-374400" y="203472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35"/>
                <p:cNvSpPr/>
                <p:nvPr/>
              </p:nvSpPr>
              <p:spPr>
                <a:xfrm rot="2931600">
                  <a:off x="-406440" y="20422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6"/>
                <p:cNvSpPr/>
                <p:nvPr/>
              </p:nvSpPr>
              <p:spPr>
                <a:xfrm rot="2931600">
                  <a:off x="-443520" y="213012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7"/>
                <p:cNvSpPr/>
                <p:nvPr/>
              </p:nvSpPr>
              <p:spPr>
                <a:xfrm rot="2931600">
                  <a:off x="-441360" y="21103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8"/>
                <p:cNvSpPr/>
                <p:nvPr/>
              </p:nvSpPr>
              <p:spPr>
                <a:xfrm rot="2931600">
                  <a:off x="-462600" y="20851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39"/>
                <p:cNvSpPr/>
                <p:nvPr/>
              </p:nvSpPr>
              <p:spPr>
                <a:xfrm rot="2931600">
                  <a:off x="-469080" y="2064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40"/>
                <p:cNvSpPr/>
                <p:nvPr/>
              </p:nvSpPr>
              <p:spPr>
                <a:xfrm rot="2931600">
                  <a:off x="-585360" y="19407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1"/>
                <p:cNvSpPr/>
                <p:nvPr/>
              </p:nvSpPr>
              <p:spPr>
                <a:xfrm rot="2931600">
                  <a:off x="-440640" y="2140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42"/>
                <p:cNvSpPr/>
                <p:nvPr/>
              </p:nvSpPr>
              <p:spPr>
                <a:xfrm rot="2931600">
                  <a:off x="-474840" y="2099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3"/>
                <p:cNvSpPr/>
                <p:nvPr/>
              </p:nvSpPr>
              <p:spPr>
                <a:xfrm rot="2931600">
                  <a:off x="-303840" y="182844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44"/>
                <p:cNvSpPr/>
                <p:nvPr/>
              </p:nvSpPr>
              <p:spPr>
                <a:xfrm rot="2931600">
                  <a:off x="-550080" y="196236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5"/>
                <p:cNvSpPr/>
                <p:nvPr/>
              </p:nvSpPr>
              <p:spPr>
                <a:xfrm rot="2931600">
                  <a:off x="-596880" y="197028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46"/>
                <p:cNvSpPr/>
                <p:nvPr/>
              </p:nvSpPr>
              <p:spPr>
                <a:xfrm rot="2931600">
                  <a:off x="-492120" y="20718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7"/>
                <p:cNvSpPr/>
                <p:nvPr/>
              </p:nvSpPr>
              <p:spPr>
                <a:xfrm rot="3612600">
                  <a:off x="-381240" y="21020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8"/>
                <p:cNvSpPr/>
                <p:nvPr/>
              </p:nvSpPr>
              <p:spPr>
                <a:xfrm rot="2931600">
                  <a:off x="-345240" y="19188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644E-007 -4.55285E-006 C 0.08995 0.01457 0.32716 0.09147 0.53968 0.08673 C 0.75198 0.08198 1.12081 -0.00406 1.27337 -0.02777 E">
                                      <p:cBhvr>
                                        <p:cTn id="51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页面1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2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飞吧副本"/>
          <p:cNvPicPr/>
          <p:nvPr/>
        </p:nvPicPr>
        <p:blipFill>
          <a:blip r:embed="rId2"/>
          <a:stretch/>
        </p:blipFill>
        <p:spPr>
          <a:xfrm>
            <a:off x="144360" y="287352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647640" y="539640"/>
            <a:ext cx="288144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曾经握在手心不放也不舍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平摊了晒在阳光下的诗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怎么也撕不碎梦想中的缠绵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用笔尖细吐生活的心酸和甘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留在夕去的日子怀念今天的当年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时光的尾巴看似很长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不知道何时的一瞬间就定格在了永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画着世人看不见的光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人生就此别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对错不重要功过也成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-905760" y="2221920"/>
            <a:ext cx="682200" cy="934920"/>
            <a:chOff x="-905760" y="2221920"/>
            <a:chExt cx="682200" cy="934920"/>
          </a:xfrm>
        </p:grpSpPr>
        <p:sp>
          <p:nvSpPr>
            <p:cNvPr id="334" name="Freeform 6"/>
            <p:cNvSpPr/>
            <p:nvPr/>
          </p:nvSpPr>
          <p:spPr>
            <a:xfrm rot="251400">
              <a:off x="-533520" y="250632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7"/>
            <p:cNvGrpSpPr/>
            <p:nvPr/>
          </p:nvGrpSpPr>
          <p:grpSpPr>
            <a:xfrm>
              <a:off x="-905760" y="2221920"/>
              <a:ext cx="682200" cy="934920"/>
              <a:chOff x="-905760" y="2221920"/>
              <a:chExt cx="682200" cy="934920"/>
            </a:xfrm>
          </p:grpSpPr>
          <p:grpSp>
            <p:nvGrpSpPr>
              <p:cNvPr id="336" name="Group 8"/>
              <p:cNvGrpSpPr/>
              <p:nvPr/>
            </p:nvGrpSpPr>
            <p:grpSpPr>
              <a:xfrm>
                <a:off x="-700200" y="2483280"/>
                <a:ext cx="191160" cy="673560"/>
                <a:chOff x="-700200" y="2483280"/>
                <a:chExt cx="191160" cy="673560"/>
              </a:xfrm>
            </p:grpSpPr>
            <p:sp>
              <p:nvSpPr>
                <p:cNvPr id="337" name="AutoShape 9"/>
                <p:cNvSpPr/>
                <p:nvPr/>
              </p:nvSpPr>
              <p:spPr>
                <a:xfrm rot="251400">
                  <a:off x="-604080" y="248652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10"/>
                <p:cNvSpPr/>
                <p:nvPr/>
              </p:nvSpPr>
              <p:spPr>
                <a:xfrm rot="251400">
                  <a:off x="-621720" y="254196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1"/>
                <p:cNvSpPr/>
                <p:nvPr/>
              </p:nvSpPr>
              <p:spPr>
                <a:xfrm rot="795000">
                  <a:off x="-677880" y="295668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12"/>
              <p:cNvGrpSpPr/>
              <p:nvPr/>
            </p:nvGrpSpPr>
            <p:grpSpPr>
              <a:xfrm>
                <a:off x="-905760" y="2221920"/>
                <a:ext cx="682200" cy="542520"/>
                <a:chOff x="-905760" y="2221920"/>
                <a:chExt cx="682200" cy="542520"/>
              </a:xfrm>
            </p:grpSpPr>
            <p:sp>
              <p:nvSpPr>
                <p:cNvPr id="341" name="Freeform 13"/>
                <p:cNvSpPr/>
                <p:nvPr/>
              </p:nvSpPr>
              <p:spPr>
                <a:xfrm rot="251400">
                  <a:off x="-721800" y="250380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14"/>
                <p:cNvSpPr/>
                <p:nvPr/>
              </p:nvSpPr>
              <p:spPr>
                <a:xfrm rot="251400">
                  <a:off x="-851400" y="252216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15"/>
                <p:cNvSpPr/>
                <p:nvPr/>
              </p:nvSpPr>
              <p:spPr>
                <a:xfrm rot="251400">
                  <a:off x="-869400" y="24508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6"/>
                <p:cNvSpPr/>
                <p:nvPr/>
              </p:nvSpPr>
              <p:spPr>
                <a:xfrm rot="251400">
                  <a:off x="-902520" y="24138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7"/>
                <p:cNvSpPr/>
                <p:nvPr/>
              </p:nvSpPr>
              <p:spPr>
                <a:xfrm rot="251400">
                  <a:off x="-878760" y="239220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8"/>
                <p:cNvSpPr/>
                <p:nvPr/>
              </p:nvSpPr>
              <p:spPr>
                <a:xfrm rot="251400">
                  <a:off x="-843480" y="23947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9"/>
                <p:cNvSpPr/>
                <p:nvPr/>
              </p:nvSpPr>
              <p:spPr>
                <a:xfrm rot="251400">
                  <a:off x="-781200" y="2327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0"/>
                <p:cNvSpPr/>
                <p:nvPr/>
              </p:nvSpPr>
              <p:spPr>
                <a:xfrm rot="251400">
                  <a:off x="-817560" y="23374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1"/>
                <p:cNvSpPr/>
                <p:nvPr/>
              </p:nvSpPr>
              <p:spPr>
                <a:xfrm rot="251400">
                  <a:off x="-785520" y="23745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2"/>
                <p:cNvSpPr/>
                <p:nvPr/>
              </p:nvSpPr>
              <p:spPr>
                <a:xfrm rot="251400">
                  <a:off x="-805680" y="2273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3"/>
                <p:cNvSpPr/>
                <p:nvPr/>
              </p:nvSpPr>
              <p:spPr>
                <a:xfrm flipH="1" flipV="1">
                  <a:off x="-715320" y="228816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4"/>
                <p:cNvSpPr/>
                <p:nvPr/>
              </p:nvSpPr>
              <p:spPr>
                <a:xfrm rot="251400">
                  <a:off x="-701280" y="22960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5"/>
                <p:cNvSpPr/>
                <p:nvPr/>
              </p:nvSpPr>
              <p:spPr>
                <a:xfrm rot="251400">
                  <a:off x="-663480" y="22780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6"/>
                <p:cNvSpPr/>
                <p:nvPr/>
              </p:nvSpPr>
              <p:spPr>
                <a:xfrm rot="251400">
                  <a:off x="-621000" y="226440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7"/>
                <p:cNvSpPr/>
                <p:nvPr/>
              </p:nvSpPr>
              <p:spPr>
                <a:xfrm rot="251400">
                  <a:off x="-567720" y="225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8"/>
                <p:cNvSpPr/>
                <p:nvPr/>
              </p:nvSpPr>
              <p:spPr>
                <a:xfrm rot="251400">
                  <a:off x="-559800" y="222300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9"/>
                <p:cNvSpPr/>
                <p:nvPr/>
              </p:nvSpPr>
              <p:spPr>
                <a:xfrm rot="251400">
                  <a:off x="-537480" y="22683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30"/>
                <p:cNvSpPr/>
                <p:nvPr/>
              </p:nvSpPr>
              <p:spPr>
                <a:xfrm rot="251400">
                  <a:off x="-527040" y="230544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1"/>
                <p:cNvSpPr/>
                <p:nvPr/>
              </p:nvSpPr>
              <p:spPr>
                <a:xfrm rot="251400">
                  <a:off x="-535680" y="223776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2"/>
                <p:cNvSpPr/>
                <p:nvPr/>
              </p:nvSpPr>
              <p:spPr>
                <a:xfrm rot="251400">
                  <a:off x="-537840" y="229752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3"/>
                <p:cNvSpPr/>
                <p:nvPr/>
              </p:nvSpPr>
              <p:spPr>
                <a:xfrm rot="251400">
                  <a:off x="-528480" y="235836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4"/>
                <p:cNvSpPr/>
                <p:nvPr/>
              </p:nvSpPr>
              <p:spPr>
                <a:xfrm rot="251400">
                  <a:off x="-529920" y="23936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5"/>
                <p:cNvSpPr/>
                <p:nvPr/>
              </p:nvSpPr>
              <p:spPr>
                <a:xfrm rot="251400">
                  <a:off x="-554400" y="240552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6"/>
                <p:cNvSpPr/>
                <p:nvPr/>
              </p:nvSpPr>
              <p:spPr>
                <a:xfrm rot="251400">
                  <a:off x="-550080" y="2559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7"/>
                <p:cNvSpPr/>
                <p:nvPr/>
              </p:nvSpPr>
              <p:spPr>
                <a:xfrm rot="251400">
                  <a:off x="-549720" y="256248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8"/>
                <p:cNvSpPr/>
                <p:nvPr/>
              </p:nvSpPr>
              <p:spPr>
                <a:xfrm rot="251400">
                  <a:off x="-563400" y="257076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9"/>
                <p:cNvSpPr/>
                <p:nvPr/>
              </p:nvSpPr>
              <p:spPr>
                <a:xfrm rot="251400">
                  <a:off x="-575280" y="2568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40"/>
                <p:cNvSpPr/>
                <p:nvPr/>
              </p:nvSpPr>
              <p:spPr>
                <a:xfrm rot="251400">
                  <a:off x="-790200" y="2512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41"/>
                <p:cNvSpPr/>
                <p:nvPr/>
              </p:nvSpPr>
              <p:spPr>
                <a:xfrm rot="251400">
                  <a:off x="-547920" y="255384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42"/>
                <p:cNvSpPr/>
                <p:nvPr/>
              </p:nvSpPr>
              <p:spPr>
                <a:xfrm rot="251400">
                  <a:off x="-563760" y="256176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3"/>
                <p:cNvSpPr/>
                <p:nvPr/>
              </p:nvSpPr>
              <p:spPr>
                <a:xfrm rot="251400">
                  <a:off x="-549360" y="227736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4"/>
                <p:cNvSpPr/>
                <p:nvPr/>
              </p:nvSpPr>
              <p:spPr>
                <a:xfrm rot="251400">
                  <a:off x="-690120" y="251676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5"/>
                <p:cNvSpPr/>
                <p:nvPr/>
              </p:nvSpPr>
              <p:spPr>
                <a:xfrm rot="251400">
                  <a:off x="-695160" y="25509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6"/>
                <p:cNvSpPr/>
                <p:nvPr/>
              </p:nvSpPr>
              <p:spPr>
                <a:xfrm rot="251400">
                  <a:off x="-554760" y="257112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7"/>
                <p:cNvSpPr/>
                <p:nvPr/>
              </p:nvSpPr>
              <p:spPr>
                <a:xfrm rot="932400">
                  <a:off x="-511560" y="252828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8"/>
                <p:cNvSpPr/>
                <p:nvPr/>
              </p:nvSpPr>
              <p:spPr>
                <a:xfrm rot="251400">
                  <a:off x="-552600" y="236124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65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页面2"/>
          <p:cNvPicPr/>
          <p:nvPr/>
        </p:nvPicPr>
        <p:blipFill>
          <a:blip r:embed="rId1"/>
          <a:stretch/>
        </p:blipFill>
        <p:spPr>
          <a:xfrm>
            <a:off x="0" y="-36360"/>
            <a:ext cx="7201080" cy="4762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飞吧副本"/>
          <p:cNvPicPr/>
          <p:nvPr/>
        </p:nvPicPr>
        <p:blipFill>
          <a:blip r:embed="rId2"/>
          <a:stretch/>
        </p:blipFill>
        <p:spPr>
          <a:xfrm>
            <a:off x="4176720" y="291636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"/>
          <p:cNvSpPr/>
          <p:nvPr/>
        </p:nvSpPr>
        <p:spPr>
          <a:xfrm>
            <a:off x="4392720" y="468360"/>
            <a:ext cx="259236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青春里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放肆、张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世界随心所欲地翻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青春，是一朵艳丽的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花蕊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妖冶地飞舞歌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迷失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那上演着繁华不肯谢幕的年华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-745560" y="3160080"/>
            <a:ext cx="682200" cy="934920"/>
            <a:chOff x="-745560" y="3160080"/>
            <a:chExt cx="682200" cy="934920"/>
          </a:xfrm>
        </p:grpSpPr>
        <p:sp>
          <p:nvSpPr>
            <p:cNvPr id="381" name="Freeform 6"/>
            <p:cNvSpPr/>
            <p:nvPr/>
          </p:nvSpPr>
          <p:spPr>
            <a:xfrm rot="251400">
              <a:off x="-373320" y="34444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7"/>
            <p:cNvGrpSpPr/>
            <p:nvPr/>
          </p:nvGrpSpPr>
          <p:grpSpPr>
            <a:xfrm>
              <a:off x="-745560" y="3160080"/>
              <a:ext cx="682200" cy="934920"/>
              <a:chOff x="-745560" y="3160080"/>
              <a:chExt cx="682200" cy="934920"/>
            </a:xfrm>
          </p:grpSpPr>
          <p:grpSp>
            <p:nvGrpSpPr>
              <p:cNvPr id="383" name="Group 8"/>
              <p:cNvGrpSpPr/>
              <p:nvPr/>
            </p:nvGrpSpPr>
            <p:grpSpPr>
              <a:xfrm>
                <a:off x="-540000" y="3421440"/>
                <a:ext cx="191160" cy="673560"/>
                <a:chOff x="-540000" y="3421440"/>
                <a:chExt cx="191160" cy="673560"/>
              </a:xfrm>
            </p:grpSpPr>
            <p:sp>
              <p:nvSpPr>
                <p:cNvPr id="384" name="AutoShape 9"/>
                <p:cNvSpPr/>
                <p:nvPr/>
              </p:nvSpPr>
              <p:spPr>
                <a:xfrm rot="251400">
                  <a:off x="-443880" y="342468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0"/>
                <p:cNvSpPr/>
                <p:nvPr/>
              </p:nvSpPr>
              <p:spPr>
                <a:xfrm rot="251400">
                  <a:off x="-461520" y="348012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1"/>
                <p:cNvSpPr/>
                <p:nvPr/>
              </p:nvSpPr>
              <p:spPr>
                <a:xfrm rot="795000">
                  <a:off x="-517680" y="38948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2"/>
              <p:cNvGrpSpPr/>
              <p:nvPr/>
            </p:nvGrpSpPr>
            <p:grpSpPr>
              <a:xfrm>
                <a:off x="-745560" y="3160080"/>
                <a:ext cx="682200" cy="542520"/>
                <a:chOff x="-745560" y="3160080"/>
                <a:chExt cx="682200" cy="542520"/>
              </a:xfrm>
            </p:grpSpPr>
            <p:sp>
              <p:nvSpPr>
                <p:cNvPr id="388" name="Freeform 13"/>
                <p:cNvSpPr/>
                <p:nvPr/>
              </p:nvSpPr>
              <p:spPr>
                <a:xfrm rot="251400">
                  <a:off x="-561600" y="344196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4"/>
                <p:cNvSpPr/>
                <p:nvPr/>
              </p:nvSpPr>
              <p:spPr>
                <a:xfrm rot="251400">
                  <a:off x="-691200" y="346032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5"/>
                <p:cNvSpPr/>
                <p:nvPr/>
              </p:nvSpPr>
              <p:spPr>
                <a:xfrm rot="251400">
                  <a:off x="-709200" y="338904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6"/>
                <p:cNvSpPr/>
                <p:nvPr/>
              </p:nvSpPr>
              <p:spPr>
                <a:xfrm rot="251400">
                  <a:off x="-742320" y="33519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7"/>
                <p:cNvSpPr/>
                <p:nvPr/>
              </p:nvSpPr>
              <p:spPr>
                <a:xfrm rot="251400">
                  <a:off x="-718560" y="333036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8"/>
                <p:cNvSpPr/>
                <p:nvPr/>
              </p:nvSpPr>
              <p:spPr>
                <a:xfrm rot="251400">
                  <a:off x="-683280" y="333288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9"/>
                <p:cNvSpPr/>
                <p:nvPr/>
              </p:nvSpPr>
              <p:spPr>
                <a:xfrm rot="251400">
                  <a:off x="-621000" y="32652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0"/>
                <p:cNvSpPr/>
                <p:nvPr/>
              </p:nvSpPr>
              <p:spPr>
                <a:xfrm rot="251400">
                  <a:off x="-657360" y="32756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1"/>
                <p:cNvSpPr/>
                <p:nvPr/>
              </p:nvSpPr>
              <p:spPr>
                <a:xfrm rot="251400">
                  <a:off x="-625320" y="3312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2"/>
                <p:cNvSpPr/>
                <p:nvPr/>
              </p:nvSpPr>
              <p:spPr>
                <a:xfrm rot="251400">
                  <a:off x="-645480" y="32112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3"/>
                <p:cNvSpPr/>
                <p:nvPr/>
              </p:nvSpPr>
              <p:spPr>
                <a:xfrm flipH="1" flipV="1">
                  <a:off x="-555120" y="322632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24"/>
                <p:cNvSpPr/>
                <p:nvPr/>
              </p:nvSpPr>
              <p:spPr>
                <a:xfrm rot="251400">
                  <a:off x="-541080" y="323424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5"/>
                <p:cNvSpPr/>
                <p:nvPr/>
              </p:nvSpPr>
              <p:spPr>
                <a:xfrm rot="251400">
                  <a:off x="-503280" y="321624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26"/>
                <p:cNvSpPr/>
                <p:nvPr/>
              </p:nvSpPr>
              <p:spPr>
                <a:xfrm rot="251400">
                  <a:off x="-460800" y="32025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7"/>
                <p:cNvSpPr/>
                <p:nvPr/>
              </p:nvSpPr>
              <p:spPr>
                <a:xfrm rot="251400">
                  <a:off x="-407520" y="319752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8"/>
                <p:cNvSpPr/>
                <p:nvPr/>
              </p:nvSpPr>
              <p:spPr>
                <a:xfrm rot="251400">
                  <a:off x="-399600" y="316116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9"/>
                <p:cNvSpPr/>
                <p:nvPr/>
              </p:nvSpPr>
              <p:spPr>
                <a:xfrm rot="251400">
                  <a:off x="-377280" y="320652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30"/>
                <p:cNvSpPr/>
                <p:nvPr/>
              </p:nvSpPr>
              <p:spPr>
                <a:xfrm rot="251400">
                  <a:off x="-366840" y="324360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1"/>
                <p:cNvSpPr/>
                <p:nvPr/>
              </p:nvSpPr>
              <p:spPr>
                <a:xfrm rot="251400">
                  <a:off x="-375480" y="31759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32"/>
                <p:cNvSpPr/>
                <p:nvPr/>
              </p:nvSpPr>
              <p:spPr>
                <a:xfrm rot="251400">
                  <a:off x="-377640" y="323568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33"/>
                <p:cNvSpPr/>
                <p:nvPr/>
              </p:nvSpPr>
              <p:spPr>
                <a:xfrm rot="251400">
                  <a:off x="-368280" y="329652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4"/>
                <p:cNvSpPr/>
                <p:nvPr/>
              </p:nvSpPr>
              <p:spPr>
                <a:xfrm rot="251400">
                  <a:off x="-369720" y="333180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35"/>
                <p:cNvSpPr/>
                <p:nvPr/>
              </p:nvSpPr>
              <p:spPr>
                <a:xfrm rot="251400">
                  <a:off x="-394200" y="33436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6"/>
                <p:cNvSpPr/>
                <p:nvPr/>
              </p:nvSpPr>
              <p:spPr>
                <a:xfrm rot="251400">
                  <a:off x="-389880" y="34974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7"/>
                <p:cNvSpPr/>
                <p:nvPr/>
              </p:nvSpPr>
              <p:spPr>
                <a:xfrm rot="251400">
                  <a:off x="-389520" y="350064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8"/>
                <p:cNvSpPr/>
                <p:nvPr/>
              </p:nvSpPr>
              <p:spPr>
                <a:xfrm rot="251400">
                  <a:off x="-403200" y="35089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9"/>
                <p:cNvSpPr/>
                <p:nvPr/>
              </p:nvSpPr>
              <p:spPr>
                <a:xfrm rot="251400">
                  <a:off x="-415080" y="35071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40"/>
                <p:cNvSpPr/>
                <p:nvPr/>
              </p:nvSpPr>
              <p:spPr>
                <a:xfrm rot="251400">
                  <a:off x="-630000" y="34506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"/>
                <p:cNvSpPr/>
                <p:nvPr/>
              </p:nvSpPr>
              <p:spPr>
                <a:xfrm rot="251400">
                  <a:off x="-387720" y="349200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42"/>
                <p:cNvSpPr/>
                <p:nvPr/>
              </p:nvSpPr>
              <p:spPr>
                <a:xfrm rot="251400">
                  <a:off x="-403560" y="349992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3"/>
                <p:cNvSpPr/>
                <p:nvPr/>
              </p:nvSpPr>
              <p:spPr>
                <a:xfrm rot="251400">
                  <a:off x="-389160" y="32155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44"/>
                <p:cNvSpPr/>
                <p:nvPr/>
              </p:nvSpPr>
              <p:spPr>
                <a:xfrm rot="251400">
                  <a:off x="-529920" y="345492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45"/>
                <p:cNvSpPr/>
                <p:nvPr/>
              </p:nvSpPr>
              <p:spPr>
                <a:xfrm rot="251400">
                  <a:off x="-534960" y="348912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6"/>
                <p:cNvSpPr/>
                <p:nvPr/>
              </p:nvSpPr>
              <p:spPr>
                <a:xfrm rot="251400">
                  <a:off x="-394560" y="350928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7"/>
                <p:cNvSpPr/>
                <p:nvPr/>
              </p:nvSpPr>
              <p:spPr>
                <a:xfrm rot="932400">
                  <a:off x="-351360" y="34664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8"/>
                <p:cNvSpPr/>
                <p:nvPr/>
              </p:nvSpPr>
              <p:spPr>
                <a:xfrm rot="251400">
                  <a:off x="-392400" y="32994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74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页面5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飞吧副本"/>
          <p:cNvPicPr/>
          <p:nvPr/>
        </p:nvPicPr>
        <p:blipFill>
          <a:blip r:embed="rId2"/>
          <a:stretch/>
        </p:blipFill>
        <p:spPr>
          <a:xfrm>
            <a:off x="2232000" y="301788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4"/>
          <p:cNvSpPr/>
          <p:nvPr/>
        </p:nvSpPr>
        <p:spPr>
          <a:xfrm>
            <a:off x="4032360" y="468360"/>
            <a:ext cx="23050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活的精彩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命的延续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再泥泞的道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也无法阻拦我的前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因为就在不远的前方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有一道通向梦想的曙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5"/>
          <p:cNvGrpSpPr/>
          <p:nvPr/>
        </p:nvGrpSpPr>
        <p:grpSpPr>
          <a:xfrm>
            <a:off x="-661320" y="2549160"/>
            <a:ext cx="682200" cy="934920"/>
            <a:chOff x="-661320" y="2549160"/>
            <a:chExt cx="682200" cy="934920"/>
          </a:xfrm>
        </p:grpSpPr>
        <p:sp>
          <p:nvSpPr>
            <p:cNvPr id="428" name="Freeform 6"/>
            <p:cNvSpPr/>
            <p:nvPr/>
          </p:nvSpPr>
          <p:spPr>
            <a:xfrm rot="251400">
              <a:off x="-289080" y="283356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7"/>
            <p:cNvGrpSpPr/>
            <p:nvPr/>
          </p:nvGrpSpPr>
          <p:grpSpPr>
            <a:xfrm>
              <a:off x="-661320" y="2549160"/>
              <a:ext cx="682200" cy="934920"/>
              <a:chOff x="-661320" y="2549160"/>
              <a:chExt cx="682200" cy="934920"/>
            </a:xfrm>
          </p:grpSpPr>
          <p:grpSp>
            <p:nvGrpSpPr>
              <p:cNvPr id="430" name="Group 8"/>
              <p:cNvGrpSpPr/>
              <p:nvPr/>
            </p:nvGrpSpPr>
            <p:grpSpPr>
              <a:xfrm>
                <a:off x="-455760" y="2810520"/>
                <a:ext cx="191160" cy="673560"/>
                <a:chOff x="-455760" y="2810520"/>
                <a:chExt cx="191160" cy="673560"/>
              </a:xfrm>
            </p:grpSpPr>
            <p:sp>
              <p:nvSpPr>
                <p:cNvPr id="431" name="AutoShape 9"/>
                <p:cNvSpPr/>
                <p:nvPr/>
              </p:nvSpPr>
              <p:spPr>
                <a:xfrm rot="251400">
                  <a:off x="-359640" y="28137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10"/>
                <p:cNvSpPr/>
                <p:nvPr/>
              </p:nvSpPr>
              <p:spPr>
                <a:xfrm rot="251400">
                  <a:off x="-377280" y="286920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1"/>
                <p:cNvSpPr/>
                <p:nvPr/>
              </p:nvSpPr>
              <p:spPr>
                <a:xfrm rot="795000">
                  <a:off x="-433440" y="328392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2"/>
              <p:cNvGrpSpPr/>
              <p:nvPr/>
            </p:nvGrpSpPr>
            <p:grpSpPr>
              <a:xfrm>
                <a:off x="-661320" y="2549160"/>
                <a:ext cx="682200" cy="542520"/>
                <a:chOff x="-661320" y="2549160"/>
                <a:chExt cx="682200" cy="542520"/>
              </a:xfrm>
            </p:grpSpPr>
            <p:sp>
              <p:nvSpPr>
                <p:cNvPr id="435" name="Freeform 13"/>
                <p:cNvSpPr/>
                <p:nvPr/>
              </p:nvSpPr>
              <p:spPr>
                <a:xfrm rot="251400">
                  <a:off x="-477360" y="2831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4"/>
                <p:cNvSpPr/>
                <p:nvPr/>
              </p:nvSpPr>
              <p:spPr>
                <a:xfrm rot="251400">
                  <a:off x="-606960" y="28494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5"/>
                <p:cNvSpPr/>
                <p:nvPr/>
              </p:nvSpPr>
              <p:spPr>
                <a:xfrm rot="251400">
                  <a:off x="-624960" y="27781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6"/>
                <p:cNvSpPr/>
                <p:nvPr/>
              </p:nvSpPr>
              <p:spPr>
                <a:xfrm rot="251400">
                  <a:off x="-658080" y="274104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7"/>
                <p:cNvSpPr/>
                <p:nvPr/>
              </p:nvSpPr>
              <p:spPr>
                <a:xfrm rot="251400">
                  <a:off x="-634320" y="27194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8"/>
                <p:cNvSpPr/>
                <p:nvPr/>
              </p:nvSpPr>
              <p:spPr>
                <a:xfrm rot="251400">
                  <a:off x="-599040" y="272196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9"/>
                <p:cNvSpPr/>
                <p:nvPr/>
              </p:nvSpPr>
              <p:spPr>
                <a:xfrm rot="251400">
                  <a:off x="-536760" y="265428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0"/>
                <p:cNvSpPr/>
                <p:nvPr/>
              </p:nvSpPr>
              <p:spPr>
                <a:xfrm rot="251400">
                  <a:off x="-573120" y="266472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1"/>
                <p:cNvSpPr/>
                <p:nvPr/>
              </p:nvSpPr>
              <p:spPr>
                <a:xfrm rot="251400">
                  <a:off x="-541080" y="270180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2"/>
                <p:cNvSpPr/>
                <p:nvPr/>
              </p:nvSpPr>
              <p:spPr>
                <a:xfrm rot="251400">
                  <a:off x="-561240" y="260028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3"/>
                <p:cNvSpPr/>
                <p:nvPr/>
              </p:nvSpPr>
              <p:spPr>
                <a:xfrm flipH="1" flipV="1">
                  <a:off x="-470880" y="261540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4"/>
                <p:cNvSpPr/>
                <p:nvPr/>
              </p:nvSpPr>
              <p:spPr>
                <a:xfrm rot="251400">
                  <a:off x="-456840" y="262332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5"/>
                <p:cNvSpPr/>
                <p:nvPr/>
              </p:nvSpPr>
              <p:spPr>
                <a:xfrm rot="251400">
                  <a:off x="-419040" y="2605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6"/>
                <p:cNvSpPr/>
                <p:nvPr/>
              </p:nvSpPr>
              <p:spPr>
                <a:xfrm rot="251400">
                  <a:off x="-376560" y="259164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7"/>
                <p:cNvSpPr/>
                <p:nvPr/>
              </p:nvSpPr>
              <p:spPr>
                <a:xfrm rot="251400">
                  <a:off x="-323280" y="258660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8"/>
                <p:cNvSpPr/>
                <p:nvPr/>
              </p:nvSpPr>
              <p:spPr>
                <a:xfrm rot="251400">
                  <a:off x="-315360" y="255024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9"/>
                <p:cNvSpPr/>
                <p:nvPr/>
              </p:nvSpPr>
              <p:spPr>
                <a:xfrm rot="251400">
                  <a:off x="-293040" y="25956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0"/>
                <p:cNvSpPr/>
                <p:nvPr/>
              </p:nvSpPr>
              <p:spPr>
                <a:xfrm rot="251400">
                  <a:off x="-282600" y="263268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1"/>
                <p:cNvSpPr/>
                <p:nvPr/>
              </p:nvSpPr>
              <p:spPr>
                <a:xfrm rot="251400">
                  <a:off x="-291240" y="256500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2"/>
                <p:cNvSpPr/>
                <p:nvPr/>
              </p:nvSpPr>
              <p:spPr>
                <a:xfrm rot="251400">
                  <a:off x="-293400" y="26247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3"/>
                <p:cNvSpPr/>
                <p:nvPr/>
              </p:nvSpPr>
              <p:spPr>
                <a:xfrm rot="251400">
                  <a:off x="-284040" y="2685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4"/>
                <p:cNvSpPr/>
                <p:nvPr/>
              </p:nvSpPr>
              <p:spPr>
                <a:xfrm rot="251400">
                  <a:off x="-285480" y="272088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5"/>
                <p:cNvSpPr/>
                <p:nvPr/>
              </p:nvSpPr>
              <p:spPr>
                <a:xfrm rot="251400">
                  <a:off x="-309960" y="273276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6"/>
                <p:cNvSpPr/>
                <p:nvPr/>
              </p:nvSpPr>
              <p:spPr>
                <a:xfrm rot="251400">
                  <a:off x="-305640" y="288648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7"/>
                <p:cNvSpPr/>
                <p:nvPr/>
              </p:nvSpPr>
              <p:spPr>
                <a:xfrm rot="251400">
                  <a:off x="-305280" y="28897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8"/>
                <p:cNvSpPr/>
                <p:nvPr/>
              </p:nvSpPr>
              <p:spPr>
                <a:xfrm rot="251400">
                  <a:off x="-318960" y="28980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9"/>
                <p:cNvSpPr/>
                <p:nvPr/>
              </p:nvSpPr>
              <p:spPr>
                <a:xfrm rot="251400">
                  <a:off x="-330840" y="289620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40"/>
                <p:cNvSpPr/>
                <p:nvPr/>
              </p:nvSpPr>
              <p:spPr>
                <a:xfrm rot="251400">
                  <a:off x="-545760" y="283968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1"/>
                <p:cNvSpPr/>
                <p:nvPr/>
              </p:nvSpPr>
              <p:spPr>
                <a:xfrm rot="251400">
                  <a:off x="-303480" y="28810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2"/>
                <p:cNvSpPr/>
                <p:nvPr/>
              </p:nvSpPr>
              <p:spPr>
                <a:xfrm rot="251400">
                  <a:off x="-319320" y="288900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3"/>
                <p:cNvSpPr/>
                <p:nvPr/>
              </p:nvSpPr>
              <p:spPr>
                <a:xfrm rot="251400">
                  <a:off x="-304920" y="260460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4"/>
                <p:cNvSpPr/>
                <p:nvPr/>
              </p:nvSpPr>
              <p:spPr>
                <a:xfrm rot="251400">
                  <a:off x="-445680" y="284400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5"/>
                <p:cNvSpPr/>
                <p:nvPr/>
              </p:nvSpPr>
              <p:spPr>
                <a:xfrm rot="251400">
                  <a:off x="-450720" y="287820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6"/>
                <p:cNvSpPr/>
                <p:nvPr/>
              </p:nvSpPr>
              <p:spPr>
                <a:xfrm rot="251400">
                  <a:off x="-310320" y="28983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47"/>
                <p:cNvSpPr/>
                <p:nvPr/>
              </p:nvSpPr>
              <p:spPr>
                <a:xfrm rot="932400">
                  <a:off x="-267120" y="285552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8"/>
                <p:cNvSpPr/>
                <p:nvPr/>
              </p:nvSpPr>
              <p:spPr>
                <a:xfrm rot="251400">
                  <a:off x="-308160" y="26884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866E-006 -1.43631E-006 C 0.13073 -0.0603 0.5926 -0.29946 0.78461 -0.3628 C 0.97663 -0.42615 1.07584 -0.37703 1.15256 -0.38076 E">
                                      <p:cBhvr>
                                        <p:cTn id="108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"/>
          <p:cNvSpPr/>
          <p:nvPr/>
        </p:nvSpPr>
        <p:spPr>
          <a:xfrm>
            <a:off x="936720" y="468360"/>
            <a:ext cx="29527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阳光的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都向往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这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云淡风轻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把自己化作一架纸飞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伴着风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飘逸在空气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划出一道优美的弧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载满快乐和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远方</a:t>
            </a:r>
            <a:r>
              <a:rPr b="0" lang="en-US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…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飞吧副本"/>
          <p:cNvPicPr/>
          <p:nvPr/>
        </p:nvPicPr>
        <p:blipFill>
          <a:blip r:embed="rId2"/>
          <a:stretch/>
        </p:blipFill>
        <p:spPr>
          <a:xfrm>
            <a:off x="1584360" y="301788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5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475" name="Freeform 6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7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477" name="Group 8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478" name="AutoShape 9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0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1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12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482" name="Freeform 13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14"/>
                <p:cNvSpPr/>
                <p:nvPr/>
              </p:nvSpPr>
              <p:spPr>
                <a:xfrm rot="399000">
                  <a:off x="-1375560" y="25290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15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6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17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8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19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20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1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22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23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5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6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27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28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9"/>
                <p:cNvSpPr/>
                <p:nvPr/>
              </p:nvSpPr>
              <p:spPr>
                <a:xfrm rot="399000">
                  <a:off x="-1056240" y="22842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 rot="399000">
                  <a:off x="-1075320" y="257724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7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8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9"/>
                <p:cNvSpPr/>
                <p:nvPr/>
              </p:nvSpPr>
              <p:spPr>
                <a:xfrm rot="399000">
                  <a:off x="-1101960" y="258336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0"/>
                <p:cNvSpPr/>
                <p:nvPr/>
              </p:nvSpPr>
              <p:spPr>
                <a:xfrm rot="399000">
                  <a:off x="-1313280" y="25218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1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2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3"/>
                <p:cNvSpPr/>
                <p:nvPr/>
              </p:nvSpPr>
              <p:spPr>
                <a:xfrm rot="399000">
                  <a:off x="-1067760" y="22921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"/>
                <p:cNvSpPr/>
                <p:nvPr/>
              </p:nvSpPr>
              <p:spPr>
                <a:xfrm rot="399000">
                  <a:off x="-1216080" y="25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080000">
                  <a:off x="-1035360" y="25466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67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8280" y="128160"/>
            <a:ext cx="64641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5680" y="866520"/>
            <a:ext cx="702936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 u="sng">
                <a:solidFill>
                  <a:srgbClr val="6d757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5738760" y="227160"/>
            <a:ext cx="1093680" cy="23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不是你的天使"/>
          <p:cNvPicPr/>
          <p:nvPr/>
        </p:nvPicPr>
        <p:blipFill>
          <a:blip r:embed="rId2"/>
          <a:stretch/>
        </p:blipFill>
        <p:spPr>
          <a:xfrm>
            <a:off x="720720" y="1476360"/>
            <a:ext cx="5961240" cy="1303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飞吧副本"/>
          <p:cNvPicPr/>
          <p:nvPr/>
        </p:nvPicPr>
        <p:blipFill>
          <a:blip r:embed="rId3"/>
          <a:stretch/>
        </p:blipFill>
        <p:spPr>
          <a:xfrm>
            <a:off x="5113440" y="3484440"/>
            <a:ext cx="2087640" cy="119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页面4副本"/>
          <p:cNvPicPr/>
          <p:nvPr/>
        </p:nvPicPr>
        <p:blipFill>
          <a:blip r:embed="rId4"/>
          <a:stretch/>
        </p:blipFill>
        <p:spPr>
          <a:xfrm>
            <a:off x="98280" y="-36360"/>
            <a:ext cx="4559400" cy="475272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6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526" name="Freeform 7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8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528" name="Group 9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529" name="AutoShape 10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1"/>
                <p:cNvSpPr/>
                <p:nvPr/>
              </p:nvSpPr>
              <p:spPr>
                <a:xfrm rot="399000">
                  <a:off x="-558000" y="352080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12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3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533" name="Freeform 14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5"/>
                <p:cNvSpPr/>
                <p:nvPr/>
              </p:nvSpPr>
              <p:spPr>
                <a:xfrm rot="399000">
                  <a:off x="-778680" y="349596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6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7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8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9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0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1"/>
                <p:cNvSpPr/>
                <p:nvPr/>
              </p:nvSpPr>
              <p:spPr>
                <a:xfrm rot="399000">
                  <a:off x="-739440" y="331236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2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23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24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25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26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27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28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29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0"/>
                <p:cNvSpPr/>
                <p:nvPr/>
              </p:nvSpPr>
              <p:spPr>
                <a:xfrm rot="399000">
                  <a:off x="-459360" y="325116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1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32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3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34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5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6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"/>
                <p:cNvSpPr/>
                <p:nvPr/>
              </p:nvSpPr>
              <p:spPr>
                <a:xfrm rot="399000">
                  <a:off x="-47844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"/>
                <p:cNvSpPr/>
                <p:nvPr/>
              </p:nvSpPr>
              <p:spPr>
                <a:xfrm rot="399000">
                  <a:off x="-478080" y="35463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9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40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41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42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3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4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5"/>
                <p:cNvSpPr/>
                <p:nvPr/>
              </p:nvSpPr>
              <p:spPr>
                <a:xfrm rot="399000">
                  <a:off x="-619200" y="3494520"/>
                  <a:ext cx="139320" cy="1508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6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7"/>
                <p:cNvSpPr/>
                <p:nvPr/>
              </p:nvSpPr>
              <p:spPr>
                <a:xfrm rot="399000">
                  <a:off x="-487080" y="35535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8"/>
                <p:cNvSpPr/>
                <p:nvPr/>
              </p:nvSpPr>
              <p:spPr>
                <a:xfrm rot="1080000">
                  <a:off x="-438480" y="35132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9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9" name="Group 50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570" name="Freeform 51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52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572" name="Group 53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573" name="AutoShape 54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5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56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57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577" name="Freeform 58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59"/>
                <p:cNvSpPr/>
                <p:nvPr/>
              </p:nvSpPr>
              <p:spPr>
                <a:xfrm rot="251400">
                  <a:off x="-761040" y="404928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60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61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62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63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64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65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66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67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8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69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70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71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72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73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74"/>
                <p:cNvSpPr/>
                <p:nvPr/>
              </p:nvSpPr>
              <p:spPr>
                <a:xfrm rot="251400">
                  <a:off x="-447120" y="379548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75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76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77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78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79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80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81"/>
                <p:cNvSpPr/>
                <p:nvPr/>
              </p:nvSpPr>
              <p:spPr>
                <a:xfrm rot="251400">
                  <a:off x="-460080" y="408636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82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83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84"/>
                <p:cNvSpPr/>
                <p:nvPr/>
              </p:nvSpPr>
              <p:spPr>
                <a:xfrm rot="251400">
                  <a:off x="-484920" y="409644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85"/>
                <p:cNvSpPr/>
                <p:nvPr/>
              </p:nvSpPr>
              <p:spPr>
                <a:xfrm rot="251400">
                  <a:off x="-699840" y="403992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86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87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88"/>
                <p:cNvSpPr/>
                <p:nvPr/>
              </p:nvSpPr>
              <p:spPr>
                <a:xfrm rot="251400">
                  <a:off x="-459000" y="38044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89"/>
                <p:cNvSpPr/>
                <p:nvPr/>
              </p:nvSpPr>
              <p:spPr>
                <a:xfrm rot="251400">
                  <a:off x="-599760" y="404424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90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91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92"/>
                <p:cNvSpPr/>
                <p:nvPr/>
              </p:nvSpPr>
              <p:spPr>
                <a:xfrm rot="932400">
                  <a:off x="-421200" y="405576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93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94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614" name="Freeform 95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96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616" name="Group 97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617" name="AutoShape 98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99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100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Group 101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621" name="Freeform 102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03"/>
                <p:cNvSpPr/>
                <p:nvPr/>
              </p:nvSpPr>
              <p:spPr>
                <a:xfrm rot="399000">
                  <a:off x="-1375560" y="2529000"/>
                  <a:ext cx="27900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04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05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106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7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108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9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10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11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12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13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14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115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6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117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8"/>
                <p:cNvSpPr/>
                <p:nvPr/>
              </p:nvSpPr>
              <p:spPr>
                <a:xfrm rot="399000">
                  <a:off x="-1056240" y="2284200"/>
                  <a:ext cx="4644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119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0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21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2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23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4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"/>
                <p:cNvSpPr/>
                <p:nvPr/>
              </p:nvSpPr>
              <p:spPr>
                <a:xfrm rot="399000">
                  <a:off x="-1075320" y="2577240"/>
                  <a:ext cx="198720" cy="223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6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7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28"/>
                <p:cNvSpPr/>
                <p:nvPr/>
              </p:nvSpPr>
              <p:spPr>
                <a:xfrm rot="399000">
                  <a:off x="-1101960" y="2583360"/>
                  <a:ext cx="66600" cy="784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9"/>
                <p:cNvSpPr/>
                <p:nvPr/>
              </p:nvSpPr>
              <p:spPr>
                <a:xfrm rot="399000">
                  <a:off x="-1313280" y="25218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130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31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32"/>
                <p:cNvSpPr/>
                <p:nvPr/>
              </p:nvSpPr>
              <p:spPr>
                <a:xfrm rot="399000">
                  <a:off x="-1067760" y="22921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33"/>
                <p:cNvSpPr/>
                <p:nvPr/>
              </p:nvSpPr>
              <p:spPr>
                <a:xfrm rot="399000">
                  <a:off x="-1216080" y="2527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34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35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36"/>
                <p:cNvSpPr/>
                <p:nvPr/>
              </p:nvSpPr>
              <p:spPr>
                <a:xfrm rot="1080000">
                  <a:off x="-1035360" y="254664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37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7" name="Group 138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658" name="Freeform 139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140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660" name="Group 141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661" name="AutoShape 142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43"/>
                <p:cNvSpPr/>
                <p:nvPr/>
              </p:nvSpPr>
              <p:spPr>
                <a:xfrm rot="20032800">
                  <a:off x="-565560" y="3853800"/>
                  <a:ext cx="32040" cy="3024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44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145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665" name="Freeform 146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7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48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49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150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51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52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53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54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55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6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57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58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59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60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1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62"/>
                <p:cNvSpPr/>
                <p:nvPr/>
              </p:nvSpPr>
              <p:spPr>
                <a:xfrm rot="20032800">
                  <a:off x="-636840" y="3671640"/>
                  <a:ext cx="31320" cy="1972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63"/>
                <p:cNvSpPr/>
                <p:nvPr/>
              </p:nvSpPr>
              <p:spPr>
                <a:xfrm rot="20032800">
                  <a:off x="-627480" y="3686040"/>
                  <a:ext cx="55080" cy="1656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64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65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66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167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68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69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170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71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72"/>
                <p:cNvSpPr/>
                <p:nvPr/>
              </p:nvSpPr>
              <p:spPr>
                <a:xfrm rot="20032800">
                  <a:off x="-592920" y="3867480"/>
                  <a:ext cx="4536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73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74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75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76"/>
                <p:cNvSpPr/>
                <p:nvPr/>
              </p:nvSpPr>
              <p:spPr>
                <a:xfrm rot="20032800">
                  <a:off x="-642600" y="3688920"/>
                  <a:ext cx="5760" cy="1814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177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78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179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80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81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1" name="Text Box 182"/>
          <p:cNvSpPr/>
          <p:nvPr/>
        </p:nvSpPr>
        <p:spPr>
          <a:xfrm>
            <a:off x="1898640" y="4210200"/>
            <a:ext cx="43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179" dur="5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181" dur="5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8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185" dur="5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4:33:25Z</dcterms:modified>
  <cp:revision>2</cp:revision>
  <dc:subject/>
  <dc:title>PowerPoint 演示文稿</dc:title>
</cp:coreProperties>
</file>