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19.jpeg" ContentType="image/jpeg"/>
  <Override PartName="/ppt/media/image18.jpeg" ContentType="image/jpeg"/>
  <Override PartName="/ppt/media/image17.jpeg" ContentType="image/jpeg"/>
  <Override PartName="/ppt/media/image21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20.gif" ContentType="image/gif"/>
  <Override PartName="/ppt/media/image13.jpeg" ContentType="image/jpeg"/>
  <Override PartName="/ppt/media/image11.jpeg" ContentType="image/jpeg"/>
  <Override PartName="/ppt/media/image9.jpeg" ContentType="image/jpeg"/>
  <Override PartName="/ppt/media/image31.png" ContentType="image/png"/>
  <Override PartName="/ppt/media/applause.wav" ContentType="audio/x-wav"/>
  <Override PartName="/ppt/media/image33.jpeg" ContentType="image/jpeg"/>
  <Override PartName="/ppt/media/image6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8.png" ContentType="image/png"/>
  <Override PartName="/ppt/media/image7.jpeg" ContentType="image/jpeg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371B-2F1F-48AF-8464-E97FADFBC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937D-7DBD-4B11-92D5-1E44596D8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9ACB-5C2A-4A55-8A14-2499F05FB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BD88-87AB-4B9B-B66D-49580724D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80559-1BA9-4AD8-8E55-D3770B9C0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5C99A-395F-459D-92C9-33448653E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EE09F-36F1-4902-9806-B748C980B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42B43-9880-430D-AB60-072815B3B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F495F-0A9D-4BE3-82CA-D278F745B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B6AB3-382B-4F1B-BF08-60DDBF62D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B0891-E833-478E-BAAF-4E0B5A45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E0BA-C13A-4F71-8AFD-9E6BFD6CB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7E225-996D-4F5F-81DC-D3B78C965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08C53-85CE-4590-88C7-045BFAAD1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E8EAC-E860-4DAE-A643-D3B89EC15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E535F-8162-4AD3-A769-D6B01F54B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04F77-FB94-49F0-8EB8-DF607CB62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A847-CBB1-4ABC-9BDA-10915A107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7C50-C780-4659-B744-94B27315B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90E0-D686-4799-A738-8B2A1986D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2D48-D385-4AE4-BFC2-E0D79FC03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03CB-417B-49A3-878A-2BF13E82C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35C1-973A-487E-B693-A09873CFF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A8E2-6065-4C41-9724-1C0927A84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6FD12-59F9-4DE7-83F2-3DC69CF9D1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6866E-7DD0-44D7-8F97-FEA471D879C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705589252&amp;tn=baiduimagedetail&amp;word=&#26446;&#22235;&#20809;&amp;in=10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0027"/>
          <p:cNvPicPr/>
          <p:nvPr/>
        </p:nvPicPr>
        <p:blipFill>
          <a:blip r:embed="rId1"/>
          <a:srcRect l="7411" t="51957" r="4879" b="6784"/>
          <a:stretch/>
        </p:blipFill>
        <p:spPr>
          <a:xfrm>
            <a:off x="2700360" y="1712880"/>
            <a:ext cx="6337440" cy="43704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3"/>
          <p:cNvSpPr/>
          <p:nvPr/>
        </p:nvSpPr>
        <p:spPr>
          <a:xfrm>
            <a:off x="2268360" y="1576440"/>
            <a:ext cx="2808360" cy="192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4"/>
          <p:cNvSpPr/>
          <p:nvPr/>
        </p:nvSpPr>
        <p:spPr>
          <a:xfrm>
            <a:off x="2771640" y="3573360"/>
            <a:ext cx="1368720" cy="647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468360" y="981000"/>
            <a:ext cx="806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7.</a:t>
            </a:r>
            <a:r>
              <a:rPr b="0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奇怪的大石头</a:t>
            </a:r>
            <a:r>
              <a:rPr b="0" lang="en-US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PPT</a:t>
            </a:r>
            <a:r>
              <a:rPr b="0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6"/>
          <p:cNvSpPr/>
          <p:nvPr/>
        </p:nvSpPr>
        <p:spPr>
          <a:xfrm>
            <a:off x="208800" y="64533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026" descr="G}R]7S4QYKVQ{J(55C0F6KO"/>
          <p:cNvPicPr/>
          <p:nvPr/>
        </p:nvPicPr>
        <p:blipFill>
          <a:blip r:embed="rId1"/>
          <a:stretch/>
        </p:blipFill>
        <p:spPr>
          <a:xfrm>
            <a:off x="0" y="747720"/>
            <a:ext cx="889308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$%QGNA7G@$2}N%8U){Y7TOB"/>
          <p:cNvPicPr/>
          <p:nvPr/>
        </p:nvPicPr>
        <p:blipFill>
          <a:blip r:embed="rId1"/>
          <a:stretch/>
        </p:blipFill>
        <p:spPr>
          <a:xfrm>
            <a:off x="0" y="770040"/>
            <a:ext cx="8964720" cy="52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026" descr="H)F0P4E~QYV4$V@)ALP[F[H"/>
          <p:cNvPicPr/>
          <p:nvPr/>
        </p:nvPicPr>
        <p:blipFill>
          <a:blip r:embed="rId1"/>
          <a:stretch/>
        </p:blipFill>
        <p:spPr>
          <a:xfrm>
            <a:off x="250920" y="909720"/>
            <a:ext cx="8569080" cy="4995720"/>
          </a:xfrm>
          <a:prstGeom prst="rect">
            <a:avLst/>
          </a:prstGeom>
          <a:ln w="0">
            <a:noFill/>
          </a:ln>
        </p:spPr>
      </p:pic>
      <p:sp>
        <p:nvSpPr>
          <p:cNvPr id="99" name="Text Box 3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026" descr="%J}UFHBFJAOIJ~$_TIB(C8G"/>
          <p:cNvPicPr/>
          <p:nvPr/>
        </p:nvPicPr>
        <p:blipFill>
          <a:blip r:embed="rId1"/>
          <a:stretch/>
        </p:blipFill>
        <p:spPr>
          <a:xfrm>
            <a:off x="179280" y="765000"/>
            <a:ext cx="896472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026" descr="64_@PF2FELY5BOYAH}[HAQ3"/>
          <p:cNvPicPr/>
          <p:nvPr/>
        </p:nvPicPr>
        <p:blipFill>
          <a:blip r:embed="rId1"/>
          <a:stretch/>
        </p:blipFill>
        <p:spPr>
          <a:xfrm>
            <a:off x="0" y="776160"/>
            <a:ext cx="8820000" cy="51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026" descr="`J$D160V7H5YKN8PI0ZO3HN"/>
          <p:cNvPicPr/>
          <p:nvPr/>
        </p:nvPicPr>
        <p:blipFill>
          <a:blip r:embed="rId1"/>
          <a:stretch/>
        </p:blipFill>
        <p:spPr>
          <a:xfrm>
            <a:off x="0" y="75564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324000" y="981000"/>
            <a:ext cx="860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著名    藏在后面    孤零零    悄悄    躲闪    陨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yǔn)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石    大坑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kēng)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卧进    突兀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wù)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旅行    考察    秦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qín)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岭    流域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yù)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遗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yí)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迹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研究    震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zhèn)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惊    第四纪冰川  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zhuàn)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来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zhuàn)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0395DC69C44492AE508CCC2F0372DDCF"/>
          <p:cNvPicPr/>
          <p:nvPr/>
        </p:nvPicPr>
        <p:blipFill>
          <a:blip r:embed="rId1"/>
          <a:stretch/>
        </p:blipFill>
        <p:spPr>
          <a:xfrm>
            <a:off x="7308720" y="4292640"/>
            <a:ext cx="1644840" cy="164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u=789803584,1733891028&amp;gp=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43280" y="0"/>
            <a:ext cx="3456000" cy="36910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539640" y="3933720"/>
            <a:ext cx="853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我国现代著名的地质科学家。为我国的石油事业作出了巨大贡献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TO8$ACFXT78F6$GL6Q3R2Q4"/>
          <p:cNvPicPr/>
          <p:nvPr/>
        </p:nvPicPr>
        <p:blipFill>
          <a:blip r:embed="rId1"/>
          <a:stretch/>
        </p:blipFill>
        <p:spPr>
          <a:xfrm>
            <a:off x="324000" y="625320"/>
            <a:ext cx="8496000" cy="560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5"/>
          <p:cNvSpPr/>
          <p:nvPr/>
        </p:nvSpPr>
        <p:spPr>
          <a:xfrm>
            <a:off x="4241880" y="1413000"/>
            <a:ext cx="6602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{OC2M$]49TEH(NXUL7I`}T9"/>
          <p:cNvPicPr/>
          <p:nvPr/>
        </p:nvPicPr>
        <p:blipFill>
          <a:blip r:embed="rId1"/>
          <a:stretch/>
        </p:blipFill>
        <p:spPr>
          <a:xfrm>
            <a:off x="0" y="770040"/>
            <a:ext cx="9144000" cy="53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-36360" y="475560"/>
            <a:ext cx="31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突兀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260280" y="1216080"/>
            <a:ext cx="888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遗迹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古代或旧时代的事物遗留下来的痕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1966320" y="3683160"/>
            <a:ext cx="5398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秦岭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横亘于陕西省中部偏南。东西走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黄河和长江两大水系的分水岭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也是中国地理上南北方分界线的一部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峰太白山海拔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767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1473840" y="2008080"/>
            <a:ext cx="56422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陨石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的流星在经过地球大气层时，没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完全烧毁坠落到地球上的含石质较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全部为石质的陨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3004"/>
          <p:cNvPicPr/>
          <p:nvPr/>
        </p:nvPicPr>
        <p:blipFill>
          <a:blip r:embed="rId1"/>
          <a:stretch/>
        </p:blipFill>
        <p:spPr>
          <a:xfrm>
            <a:off x="8317080" y="0"/>
            <a:ext cx="826920" cy="82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-36360" y="3284640"/>
            <a:ext cx="9505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第四纪冰川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约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年前至今。在这个时期里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纬度地区曾广泛发生了多次冰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用，气候也异常寒冷，人们将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于这个时代的冰川称为第四纪冰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179280" y="1863720"/>
            <a:ext cx="95774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地质学家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事地球物质形成和地壳构造研究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探讨地球的形成和发展的科学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276120" y="496800"/>
            <a:ext cx="88678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地质学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研究构成地球的物质和地壳构造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探讨地球的形成和发展的学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3004"/>
          <p:cNvPicPr/>
          <p:nvPr/>
        </p:nvPicPr>
        <p:blipFill>
          <a:blip r:embed="rId1"/>
          <a:stretch/>
        </p:blipFill>
        <p:spPr>
          <a:xfrm>
            <a:off x="684360" y="4471920"/>
            <a:ext cx="1366560" cy="136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027" descr="ma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LFDADORKV%ERG}MEF%QM5[W"/>
          <p:cNvPicPr/>
          <p:nvPr/>
        </p:nvPicPr>
        <p:blipFill>
          <a:blip r:embed="rId1"/>
          <a:stretch/>
        </p:blipFill>
        <p:spPr>
          <a:xfrm>
            <a:off x="539640" y="0"/>
            <a:ext cx="7337520" cy="46036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2608200" y="5738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3370680" y="57196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Arial"/>
              </a:rPr>
              <a:t>冰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2005210214369"/>
          <p:cNvPicPr/>
          <p:nvPr/>
        </p:nvPicPr>
        <p:blipFill>
          <a:blip r:embed="rId1"/>
          <a:stretch/>
        </p:blipFill>
        <p:spPr>
          <a:xfrm>
            <a:off x="0" y="0"/>
            <a:ext cx="9448920" cy="71629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49709c15dc8e30cd6438dbc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2"/>
          <p:cNvSpPr/>
          <p:nvPr/>
        </p:nvSpPr>
        <p:spPr>
          <a:xfrm>
            <a:off x="2882880" y="54936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课文主要写了什么内容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1908000" y="2421000"/>
            <a:ext cx="693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李四光小时候和小伙伴玩捉迷藏对巨石由来产生疑问。长达后去英国留学，才明白其中的原因。回到家乡考察，取得震惊世界的研究成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20081208_150229"/>
          <p:cNvPicPr/>
          <p:nvPr/>
        </p:nvPicPr>
        <p:blipFill>
          <a:blip r:embed="rId1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130" name="WordArt 3"/>
          <p:cNvSpPr txBox="1"/>
          <p:nvPr/>
        </p:nvSpPr>
        <p:spPr>
          <a:xfrm>
            <a:off x="1187280" y="907920"/>
            <a:ext cx="25210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怪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5" descr="645cf7da190b41eccd1166a5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58920" y="1341360"/>
            <a:ext cx="7058160" cy="357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课题为什么以“奇怪的大石头”为题？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 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奇怪的大石头”怪在哪里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68000" y="476280"/>
            <a:ext cx="867564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怪，它是独立的─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块巨石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孤零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地立在草地上”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怪，这块石头体积庞大─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大石头把他的身影遮得严严实实的，小伙伴围着石头转来转去，也找不到他”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怪，时间久─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块石头恐怕有几百年的历史了”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四怪，没有人说得清它的由来─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爸爸也说不清楚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李四光是怎样问老师的？老师是</a:t>
            </a:r>
            <a:br>
              <a:rPr sz="4000"/>
            </a:b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怎样回答的？李四光又会怎样想？</a:t>
            </a:r>
            <a:br>
              <a:rPr sz="2400"/>
            </a:b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3118O}@AL@X~2$MPNO1_F`8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468360" y="333360"/>
            <a:ext cx="8351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   时间长了，他对这块大石头发生了兴趣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这么大的一块石头，是从哪儿来的呢？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李四光跑去问老师，老师想了想，说：“这块石头恐怕有几百年的历史了，我小的时候它就在那儿了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是谁把它放在哪儿的呢？”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“听说天上常常掉下来陨石，也许它就是从天上掉下来的吧！”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这么重的大石头从天上掉下来，力量一定非常大。它应该把草地砸一个很深很深的大坑。可它为什么没卧进土里去呢？”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“这我可说不上来了。”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J0229389"/>
          <p:cNvPicPr/>
          <p:nvPr/>
        </p:nvPicPr>
        <p:blipFill>
          <a:blip r:embed="rId1"/>
          <a:stretch/>
        </p:blipFill>
        <p:spPr>
          <a:xfrm>
            <a:off x="0" y="4428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7" name="Group 3"/>
          <p:cNvGrpSpPr/>
          <p:nvPr/>
        </p:nvGrpSpPr>
        <p:grpSpPr>
          <a:xfrm>
            <a:off x="755640" y="1125360"/>
            <a:ext cx="4856040" cy="720720"/>
            <a:chOff x="755640" y="1125360"/>
            <a:chExt cx="4856040" cy="720720"/>
          </a:xfrm>
        </p:grpSpPr>
        <p:pic>
          <p:nvPicPr>
            <p:cNvPr id="138" name="Picture 4" descr="复件 SYM09"/>
            <p:cNvPicPr/>
            <p:nvPr/>
          </p:nvPicPr>
          <p:blipFill>
            <a:blip r:embed="rId2"/>
            <a:stretch/>
          </p:blipFill>
          <p:spPr>
            <a:xfrm>
              <a:off x="755640" y="1125360"/>
              <a:ext cx="698400" cy="7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Rectangle 5"/>
            <p:cNvSpPr/>
            <p:nvPr/>
          </p:nvSpPr>
          <p:spPr>
            <a:xfrm>
              <a:off x="4780080" y="1197360"/>
              <a:ext cx="831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这么大的一块石头，是从哪儿来的呢？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6"/>
          <p:cNvGrpSpPr/>
          <p:nvPr/>
        </p:nvGrpSpPr>
        <p:grpSpPr>
          <a:xfrm>
            <a:off x="755640" y="2278080"/>
            <a:ext cx="5326920" cy="720720"/>
            <a:chOff x="755640" y="2278080"/>
            <a:chExt cx="5326920" cy="720720"/>
          </a:xfrm>
        </p:grpSpPr>
        <p:pic>
          <p:nvPicPr>
            <p:cNvPr id="141" name="Picture 7" descr="复件 SYM09"/>
            <p:cNvPicPr/>
            <p:nvPr/>
          </p:nvPicPr>
          <p:blipFill>
            <a:blip r:embed="rId3"/>
            <a:stretch/>
          </p:blipFill>
          <p:spPr>
            <a:xfrm>
              <a:off x="755640" y="2278080"/>
              <a:ext cx="698400" cy="7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Rectangle 8"/>
            <p:cNvSpPr/>
            <p:nvPr/>
          </p:nvSpPr>
          <p:spPr>
            <a:xfrm>
              <a:off x="2391120" y="2348640"/>
              <a:ext cx="369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“</a:t>
              </a:r>
              <a:r>
                <a:rPr b="1" lang="zh-CN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是谁把它放在那儿的呢？</a:t>
              </a:r>
              <a:r>
                <a:rPr b="1" lang="zh-CN" sz="32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”</a:t>
              </a:r>
              <a:r>
                <a:rPr b="1" lang="zh-CN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oup 9"/>
          <p:cNvGrpSpPr/>
          <p:nvPr/>
        </p:nvGrpSpPr>
        <p:grpSpPr>
          <a:xfrm>
            <a:off x="755640" y="3573360"/>
            <a:ext cx="7704000" cy="1359000"/>
            <a:chOff x="755640" y="3573360"/>
            <a:chExt cx="7704000" cy="1359000"/>
          </a:xfrm>
        </p:grpSpPr>
        <p:pic>
          <p:nvPicPr>
            <p:cNvPr id="144" name="Picture 10" descr="复件 SYM09"/>
            <p:cNvPicPr/>
            <p:nvPr/>
          </p:nvPicPr>
          <p:blipFill>
            <a:blip r:embed="rId4"/>
            <a:stretch/>
          </p:blipFill>
          <p:spPr>
            <a:xfrm>
              <a:off x="755640" y="3573360"/>
              <a:ext cx="698400" cy="7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Rectangle 11"/>
            <p:cNvSpPr/>
            <p:nvPr/>
          </p:nvSpPr>
          <p:spPr>
            <a:xfrm>
              <a:off x="1619280" y="4350960"/>
              <a:ext cx="684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“</a:t>
              </a:r>
              <a:r>
                <a:rPr b="1" lang="zh-CN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这么重的大石头从天上掉下来，力量一定非常大。它应该把草地砸一个很深很深的大坑</a:t>
              </a:r>
              <a:r>
                <a:rPr b="1" lang="en-US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(kēng)</a:t>
              </a:r>
              <a:r>
                <a:rPr b="1" lang="zh-CN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。可它为什么没卧</a:t>
              </a:r>
              <a:r>
                <a:rPr b="1" lang="en-US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(wò)</a:t>
              </a:r>
              <a:r>
                <a:rPr b="1" lang="zh-CN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进土里去呢？</a:t>
              </a:r>
              <a:r>
                <a:rPr b="1" lang="zh-CN" sz="32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”</a:t>
              </a:r>
              <a:r>
                <a:rPr b="1" lang="zh-CN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Text Box 12"/>
          <p:cNvSpPr/>
          <p:nvPr/>
        </p:nvSpPr>
        <p:spPr>
          <a:xfrm>
            <a:off x="2771640" y="17733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善于观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3"/>
          <p:cNvSpPr/>
          <p:nvPr/>
        </p:nvSpPr>
        <p:spPr>
          <a:xfrm>
            <a:off x="2771640" y="2859120"/>
            <a:ext cx="201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善于提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4"/>
          <p:cNvSpPr/>
          <p:nvPr/>
        </p:nvSpPr>
        <p:spPr>
          <a:xfrm>
            <a:off x="3142440" y="5595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善于思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0" y="6922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按课文填空，体会李四光是怎样提问题的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250920" y="2997360"/>
            <a:ext cx="88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这么重的石头从天上掉下来，力量                               它应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                              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可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                    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4"/>
          <p:cNvSpPr/>
          <p:nvPr/>
        </p:nvSpPr>
        <p:spPr>
          <a:xfrm>
            <a:off x="1835280" y="4508640"/>
            <a:ext cx="367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5"/>
          <p:cNvSpPr/>
          <p:nvPr/>
        </p:nvSpPr>
        <p:spPr>
          <a:xfrm>
            <a:off x="324000" y="5229360"/>
            <a:ext cx="42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6"/>
          <p:cNvSpPr/>
          <p:nvPr/>
        </p:nvSpPr>
        <p:spPr>
          <a:xfrm>
            <a:off x="6372360" y="515772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7"/>
          <p:cNvSpPr/>
          <p:nvPr/>
        </p:nvSpPr>
        <p:spPr>
          <a:xfrm>
            <a:off x="250920" y="5950080"/>
            <a:ext cx="35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8" dur="2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6" dur="2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9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很深很深”形容词叠用说明冲击力非常大，大规则的石头多为面积大的部位接触地面，好像人站立只是脚接触地面，而躺卧时则是整个身子接触地面一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3898800" y="1916280"/>
            <a:ext cx="785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李四光又跑去问爸爸，爸爸也说不清楚。</a:t>
            </a:r>
            <a:br>
              <a:rPr sz="1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addf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3"/>
          <p:cNvSpPr/>
          <p:nvPr/>
        </p:nvSpPr>
        <p:spPr>
          <a:xfrm>
            <a:off x="0" y="3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李四光是怎样解开这块巨石之谜的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0" y="28526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对这块巨石的研究，使李四光取得了什么重大发现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chibi"/>
          <p:cNvPicPr/>
          <p:nvPr/>
        </p:nvPicPr>
        <p:blipFill>
          <a:blip r:embed="rId2"/>
          <a:stretch/>
        </p:blipFill>
        <p:spPr>
          <a:xfrm>
            <a:off x="7162920" y="5181480"/>
            <a:ext cx="1406520" cy="1371600"/>
          </a:xfrm>
          <a:prstGeom prst="rect">
            <a:avLst/>
          </a:prstGeom>
          <a:ln w="0">
            <a:noFill/>
          </a:ln>
        </p:spPr>
      </p:pic>
      <p:sp>
        <p:nvSpPr>
          <p:cNvPr id="162" name="Oval 6"/>
          <p:cNvSpPr/>
          <p:nvPr/>
        </p:nvSpPr>
        <p:spPr>
          <a:xfrm>
            <a:off x="6705720" y="6019920"/>
            <a:ext cx="38088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7"/>
          <p:cNvSpPr/>
          <p:nvPr/>
        </p:nvSpPr>
        <p:spPr>
          <a:xfrm>
            <a:off x="6248520" y="5791320"/>
            <a:ext cx="45720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8"/>
          <p:cNvSpPr/>
          <p:nvPr/>
        </p:nvSpPr>
        <p:spPr>
          <a:xfrm>
            <a:off x="4495680" y="4648320"/>
            <a:ext cx="2667240" cy="1143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WordArt 9"/>
          <p:cNvSpPr txBox="1"/>
          <p:nvPr/>
        </p:nvSpPr>
        <p:spPr>
          <a:xfrm>
            <a:off x="4572000" y="5029200"/>
            <a:ext cx="245736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恭喜你答对了</a:t>
            </a:r>
            <a:endParaRPr b="0" lang="en-US" sz="32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李四光是怎样解开这块巨石之谜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)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李四光思考这个问题想了二十多年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)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大后到英国学习了地质学，明白冰川可以推动巨大的石头旅行几百里甚至上千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)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李四光回家乡专门考察了这块大石头，终于弄明白这块大石头是从遥远的秦岭被冰川带到这里来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对这块巨石的研究，使李四光取得了什么重大发现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6560" y="2133360"/>
            <a:ext cx="713916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经过进一步的考察，他发现在长江流域有大量第四冰川活动的遗迹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304920" y="2301840"/>
            <a:ext cx="7696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读了这个故事之后，你有什么收获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3" descr="问号"/>
          <p:cNvPicPr/>
          <p:nvPr/>
        </p:nvPicPr>
        <p:blipFill>
          <a:blip r:embed="rId1"/>
          <a:stretch/>
        </p:blipFill>
        <p:spPr>
          <a:xfrm>
            <a:off x="7327800" y="0"/>
            <a:ext cx="1816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539640" y="1557360"/>
            <a:ext cx="779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懂得了勤于思考，善于动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懂得了只有执着的追求才会取得成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026" descr="[E25HXU%O0_ME_JOW%I2GEQ"/>
          <p:cNvPicPr/>
          <p:nvPr/>
        </p:nvPicPr>
        <p:blipFill>
          <a:blip r:embed="rId1"/>
          <a:stretch/>
        </p:blipFill>
        <p:spPr>
          <a:xfrm>
            <a:off x="0" y="776160"/>
            <a:ext cx="8964720" cy="52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097eb10f20690d696b60fba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2124000" y="836280"/>
            <a:ext cx="65628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孤零零的巨石联系着千万年前地质事件，童年的疑问引发了震惊世界的研究成果，貌似平常的事件不平常，好奇的童心所发现的问题可能蕴含着大价值。愿我们小朋友们也有强烈的好奇心，遇事多提问、多思考，不懈探求，去揭开一个个神奇之谜，为国家、为人类作贡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1100160" y="6126120"/>
            <a:ext cx="676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之家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026" descr="5`LOF8T7M$[X)E8RD8NO@{S"/>
          <p:cNvPicPr/>
          <p:nvPr/>
        </p:nvPicPr>
        <p:blipFill>
          <a:blip r:embed="rId1"/>
          <a:stretch/>
        </p:blipFill>
        <p:spPr>
          <a:xfrm>
            <a:off x="0" y="782640"/>
            <a:ext cx="8964720" cy="51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026" descr="[C[XAAL[Q~1(C14VTL$1_(4"/>
          <p:cNvPicPr/>
          <p:nvPr/>
        </p:nvPicPr>
        <p:blipFill>
          <a:blip r:embed="rId1"/>
          <a:stretch/>
        </p:blipFill>
        <p:spPr>
          <a:xfrm>
            <a:off x="0" y="779400"/>
            <a:ext cx="9144000" cy="52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026" descr="~WC32{2{JF376Q`GTA(_8H3"/>
          <p:cNvPicPr/>
          <p:nvPr/>
        </p:nvPicPr>
        <p:blipFill>
          <a:blip r:embed="rId1"/>
          <a:stretch/>
        </p:blipFill>
        <p:spPr>
          <a:xfrm>
            <a:off x="0" y="763560"/>
            <a:ext cx="9144000" cy="53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7BF5F(@7PHRS$5VT6A_8ZON"/>
          <p:cNvPicPr/>
          <p:nvPr/>
        </p:nvPicPr>
        <p:blipFill>
          <a:blip r:embed="rId1"/>
          <a:stretch/>
        </p:blipFill>
        <p:spPr>
          <a:xfrm>
            <a:off x="250920" y="836640"/>
            <a:ext cx="871380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026" descr="VAO$2`)PIV)A3B2SP96)NXT"/>
          <p:cNvPicPr/>
          <p:nvPr/>
        </p:nvPicPr>
        <p:blipFill>
          <a:blip r:embed="rId1"/>
          <a:stretch/>
        </p:blipFill>
        <p:spPr>
          <a:xfrm>
            <a:off x="0" y="768240"/>
            <a:ext cx="9144000" cy="532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1T23:28:21Z</dcterms:created>
  <dc:creator/>
  <dc:description/>
  <cp:keywords>幻灯片之家 http:/www.eeppt.com</cp:keywords>
  <dc:language>en-US</dc:language>
  <cp:lastModifiedBy/>
  <dcterms:modified xsi:type="dcterms:W3CDTF">2015-07-20T06:40:05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