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9.wmf" ContentType="image/x-wmf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81E-633D-430D-8D4B-362DBBCF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523-0127-43BF-BAB7-9DA216D6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026BE-3DE9-4AAB-AF9C-25ADD555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601A9-A320-403C-AF46-C19BC4DD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4E420-359E-4102-9C5C-6D9B937F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1DE87-2C64-4A5A-822A-1FD1F615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06A4F-863E-469D-948D-AEBF8FCA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BEAD2-8243-4EF6-81D8-1EAC7E1E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6B844-E12B-44B2-AAB9-046D3628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3AFDD-B192-41A4-B3AB-8C6208A1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BD4D5-950E-4C05-86E7-E0D58492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C58FB-CDDC-4679-B965-3AFC67E9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7BE-6BBD-4288-B6DC-C54A77C5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20EEE-3BB5-464A-A591-BF2DF172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477A0-E2FB-4916-B793-737FC10D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FC487-3744-49AA-AECB-CC160D27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86305-2E9D-4317-85E7-2D12AC47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249DC-F777-49EF-9057-15AFFE6C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C5C44-4D21-4179-A7F1-8937FEF4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64599-181E-4EA8-8072-607F09DC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686F5-8BBB-4921-BAB6-0C4CB9CE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6C84F-D325-4769-89E7-5DD79A77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9D8CB-88A9-417B-91CE-2F831EBA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227-2114-4FF1-B34F-EF7CF3E0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99E94-8CCF-41F9-9392-069F765A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0DCFE-EB9B-4ED6-92EF-2AD3242F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D887C-C1A9-4121-9976-944C5F1A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E7B74-0508-4875-85DA-7FD1DF33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C5AC1-B362-4578-974C-84739FBA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9E4F3-C6B4-4B71-8374-FCE00AEC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A75B2-AC99-4AF3-96EE-603E3E2B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44830-19DD-4423-A7FE-0A211206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9DC97-5F8D-4AF6-957E-0EA27DFD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37345-33CF-4FA4-ABB9-AB54007B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3991-D48D-4510-9933-4E7D0538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BB6F0-0A98-416F-A3E4-0DCFAF58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80624-A37B-4FA1-9BFE-CF43487F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B774C-2D33-4696-9A83-FB62CB03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92B3C-3A6C-4888-91D0-D0AC3C22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676FA-8D9E-4958-8546-0FEC7DDB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26218-97FF-4914-A707-1A2C01BC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2D6BA-7786-41C6-9158-056C845D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B10E4-A0D7-4E0A-BB9F-A85EDC93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17D98-4A3D-438C-B315-E7D64A9C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E4194-9712-4AAE-80F5-0647B134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2325-7454-441E-ACDC-B6DB314E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A77FF-F6A3-48D4-ADF6-9F4473A9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C323D-51EB-4CAE-BE02-E3572E50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13A44-E8FF-434C-B1E8-422AACBB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3E3AD-45C0-4D4C-B438-A5CDBBE8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B0C38-DC14-4C30-8607-6941F363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CEA38-9145-4DD8-A59B-B183F547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F27F4-67E4-4DF3-AC97-423649BF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2182A-738E-4141-ADDE-E4F76F9E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AB63B-A4D5-4964-8C25-4E006CBF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C5E08-FFD5-41A9-A0A9-9B5CCF11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EF9E-72FA-4D44-8733-865FA134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53D91-348B-4428-825D-0DE0399A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483B1-5785-476D-BE20-8DC4BAF7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B0AAA-D3E1-467D-BAB7-7A44650E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A0D73-8D59-46DF-8119-F1E53029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D0969-D360-4AAA-A128-C69C29D1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E931A-8B37-40B1-9909-66D8B413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12958-AC20-4429-947C-472DA052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8D91-2C94-4E9E-A7C1-C759B9AC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6C77-55CC-4CCD-95E2-9BF3CDB5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85BB-A819-4379-8790-F22CAC2E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C28D-D216-4D4A-94EF-FFA7F80A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40C-1A48-4327-B3F4-485766DD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8F9C-A5F5-4C4A-AE25-9EB6D266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6118-18F9-413A-86F1-2B702776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52B9-9681-4654-9856-1FA245EF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65C4-7077-4942-82C9-8B1E05B2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E6B7-4C47-4861-BE64-57689177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5FAC-689C-4233-B589-42403BB8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DDBE9-E4A8-4C45-99AD-38B0FF85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9668F-D944-431A-842E-1D97DDD2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0BC37-7A18-4742-86DD-87853D5B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2C69E-531B-489E-83C9-AB314FBE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98C-C208-439A-B04C-54247FE7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E983-136A-4C40-ABBE-6BEA1B9E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A3807-8F7C-4180-9F90-4C35FFA8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97F4-A1D0-4098-8FE0-8DE29627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7ED3-84F1-4023-917C-9A1C1CA1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AC9B-39E9-4F3F-8E54-D59197DD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ACD2-F649-4A57-BE9A-8E8B9F1E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CB9BE-FBE3-447D-AB27-8471D060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57AE8-5869-4111-A193-4D14291A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5D96-2E04-4EF6-93E9-09BBBE51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23A70-BB4B-436B-87F4-CF93811C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469-3F75-46E9-98F7-4CC0A7BC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FC0D-CDEB-4DBA-A409-90A4BFD0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52561-DE9A-4BA5-9293-5D692AFD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C2D4-D774-4218-A336-173BD83B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3CBDD-8C70-46AB-AF90-97444B9D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78C24-5211-4816-AC1A-B33FD30E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3CC9E-C1B0-41D3-9F39-552D4091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41B6-0D77-4248-9F0A-BC3244A2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78ED1-6EDF-49B0-BEB7-E4E09861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6DFC-FA0B-426F-A9C4-31F7EFA5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D4D6F-382D-49AC-9F54-63B8C29B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917-9C72-449A-8558-152E362F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54E10-A9BE-401A-ADAB-098444CB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B74F8-CBA5-4459-921F-7C371930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827D3-3108-4FEA-8098-82A0FFB8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4DD9D-9322-4EB8-8E05-1CA6B8D7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3EB0A-BF53-42F0-9B55-61252D88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F7DFE-BA0C-4AF2-8E8B-24A01E4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6968F-A017-4314-AC29-1A4C56EB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B506D-5A30-4752-AC12-C6638559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5EA28-0922-4B33-A82B-A05B4BC7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D9A7E-FF68-4A1F-816B-20BCA870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95E-02C8-4119-96B0-722B8ADF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F8F13-4A1F-4891-A9AB-ED5C3780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E68DC-DAB6-4497-8BB9-1A64F261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A172A-CB3F-49B8-BE42-097754D9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3980D-0772-442B-974A-36963655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FFF2C-9FEA-40CD-A670-4217C375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D9AD2-673B-4126-B041-1E774CAD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1F7AB-7852-478E-8B03-574443D0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532C3-5A4D-46B8-8A2F-DA2CEE1C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70E67-8253-4F92-8A68-960CA10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55BF6-4095-4146-B1DD-58A5A472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3D3-C3E6-4A79-B71C-5EF06B54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253BE-9DB7-40FE-8ED2-643F2FE5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F9F03-232E-49C6-9968-7FBF708B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719DF-65B2-4D3B-844D-B026492D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08783-C323-4207-9F33-6F0FF722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0F186-6401-479C-A127-A9AAA954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412C6-341A-42DA-B982-DED243AF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EED53-83B4-4538-883C-F7878A00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A2EEB-EE29-4CB8-A387-C2E98BB6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64F9C-6E47-4E86-BAEF-F3D9CD1D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367E-E8DE-45FE-B0AC-5F744D41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5C4-7E6D-4DCE-877C-9C98AC23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30FC2-BF33-4AA3-9795-1B7337CB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15FDA-9E13-4B2F-AE77-BA257782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6C27E-87CB-459A-8405-5BAD3459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4FC7D-43CC-4A77-8DF0-B5C01285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2D240-1FB5-4A74-8161-51B5E02B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3AF08-0978-4734-969F-3112AE41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7E14E-96FD-42D6-BEA8-E3497217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20C85-BCCD-4129-B888-5D6C83D4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8F490-30E3-4DF7-BB61-17BE77BF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8BB5F-5AD8-4282-BF68-36E74ECC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FBF-229B-414D-9EC3-25CE6E68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276F0-51C7-4B74-A41D-ADA66EB9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F2213-0E3A-4B2C-B3CF-E7D1F78F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D819F-952F-4709-B75B-F9914414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93B16-3007-4D69-9D51-91CB9E43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0FC98-F61C-42AB-AACB-1A89EF68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D3EFD-9CDE-43B9-B138-354AA40A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6D610-56C3-40AB-8846-6C12F2DD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76529-5734-47D4-B56A-74C660D9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6B8E0-6A1C-415F-8C37-C5569A16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D56BE-68CB-4A99-A8BD-1F311844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FEA9-BBDA-4CB5-9A40-631BAA57F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C09E-E3CE-4728-9D43-1A4D39D35134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AF3D-12FE-4BFC-A762-F1565FB14533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7F69-480B-49C9-BFB7-4BEF5B634971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ED86-E319-4907-8693-918529362568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A545-40CF-4275-B11F-8DE2E2B430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AC01-D1B3-441B-92FD-CAE208E8FDBE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CD26-8754-4B68-84E9-3C43C4C34238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D749-D635-484A-B191-F7E90EA78E9C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F46F-08DA-4B6B-BE0B-2CA6B5F72E4C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4698-CA00-4B3E-8BF6-EDA330DFA182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6108-519B-4C4B-99B6-DA412FCBC1E1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898989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F156-A773-4513-9091-17EE909D3BA5}" type="slidenum">
              <a:rPr b="1" lang="zh-CN" sz="1200" spc="-1" strike="noStrike" u="sng">
                <a:solidFill>
                  <a:srgbClr val="89898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xwyjs.edu.cn/20020812/3063983.s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rcRect l="0" t="4967" r="0" b="0"/>
          <a:stretch/>
        </p:blipFill>
        <p:spPr>
          <a:xfrm>
            <a:off x="282600" y="549360"/>
            <a:ext cx="8505720" cy="5832360"/>
          </a:xfrm>
          <a:prstGeom prst="rect">
            <a:avLst/>
          </a:prstGeom>
          <a:ln w="0">
            <a:noFill/>
          </a:ln>
        </p:spPr>
      </p:pic>
      <p:sp>
        <p:nvSpPr>
          <p:cNvPr id="534" name="矩形 1"/>
          <p:cNvSpPr/>
          <p:nvPr/>
        </p:nvSpPr>
        <p:spPr>
          <a:xfrm>
            <a:off x="611280" y="1052640"/>
            <a:ext cx="75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奇怪的大石头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PPT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模板免费下载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268200" y="6453360"/>
            <a:ext cx="287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幻灯片之家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http://www.eeppt.com</a:t>
            </a:r>
            <a:endParaRPr b="1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1403280" y="134136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大坑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2987640" y="1341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考察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716360" y="126828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秦岭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6300720" y="1197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流域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403280" y="2637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遗迹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3059280" y="2637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地震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4716360" y="2565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著名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6372360" y="249228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躲藏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1403280" y="393372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推动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3203640" y="393372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旅行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4859280" y="3860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震惊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6443640" y="3860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平整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1332000" y="5157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地质学家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3851280" y="5157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严严实实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6588000" y="515772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转来转去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539640" y="2708280"/>
            <a:ext cx="9068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突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高高地耸立。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395280" y="1197000"/>
            <a:ext cx="906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陨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大的流星在经过地球大气层时，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完全烧毁坠落到地球上的含石质较多或全部为石质的陨星。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ankGothic Lt BT"/>
                <a:ea typeface="楷体_GB2312"/>
              </a:rPr>
              <a:t>www.eeppt.com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179280" y="1341360"/>
            <a:ext cx="9296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第四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地质历史的最后一个纪。约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距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年前至今。此时高纬度地区广泛地发生了多次冰川作用。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-76320" y="304920"/>
            <a:ext cx="9296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秦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横贯我国中部，东西走向的古老褶皱断层山脉。我国地理上的南北分解线。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76320" y="1413000"/>
            <a:ext cx="906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地质学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从事地球物质形成和地壳构造研究，以探讨地球的形成和发展的科学家。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304920" y="45720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冰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高山或两极地区，积雪由于自身的压力变成冰块（或积雪融化、下渗冻结成冰块），又因重力作用而沿着地面倾斜方面移动，这种移动的大冰块叫做冰川。在地质上的新生代第四纪，气候非常寒冷，世界上的许多地方被冰川覆盖，称第四纪冰川。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3141720" y="5983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极冰川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70" name="Picture 3" descr="0812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85341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2552040" y="58514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极科学家拍摄到的海上冰川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72" name="Picture 3" descr="xinsrc_36b22d769d9a40789acdf58db312145a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冰川遗迹"/>
          <p:cNvPicPr/>
          <p:nvPr/>
        </p:nvPicPr>
        <p:blipFill>
          <a:blip r:embed="rId1"/>
          <a:stretch/>
        </p:blipFill>
        <p:spPr>
          <a:xfrm>
            <a:off x="685800" y="1522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2529720" y="57913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四纪冰川遗迹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7"/>
          <p:cNvSpPr/>
          <p:nvPr/>
        </p:nvSpPr>
        <p:spPr>
          <a:xfrm>
            <a:off x="3708360" y="763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hangye/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sucai/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tubiao/     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powerpoint/     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excel/ 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kejian/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shiti/ 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ww.1ppt.com/jiaoan/ 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1332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奇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石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欣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赏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38" name="Picture 4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唐古拉山冰川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541476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3"/>
          <p:cNvSpPr/>
          <p:nvPr/>
        </p:nvSpPr>
        <p:spPr>
          <a:xfrm>
            <a:off x="3343320" y="5754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唐古拉山冰川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-1258200" y="177840"/>
            <a:ext cx="10542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坑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藏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考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秦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8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域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遗    震</a:t>
            </a:r>
            <a:endParaRPr b="1" lang="en-US" sz="8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616680" y="2955960"/>
            <a:ext cx="810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著   悄  闪  卧  </a:t>
            </a:r>
            <a:endParaRPr b="1" lang="en-US" sz="8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推   旅  纪  究</a:t>
            </a:r>
            <a:endParaRPr b="1" lang="en-US" sz="8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5040360" y="2133720"/>
            <a:ext cx="4103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000000"/>
                </a:solidFill>
                <a:latin typeface="Arial"/>
                <a:ea typeface="楷体_GB2312"/>
              </a:rPr>
              <a:t>藏</a:t>
            </a:r>
            <a:endParaRPr b="1" lang="en-US" sz="27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250920" y="0"/>
            <a:ext cx="4103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000000"/>
                </a:solidFill>
                <a:latin typeface="Arial"/>
                <a:ea typeface="楷体_GB2312"/>
              </a:rPr>
              <a:t>旅</a:t>
            </a:r>
            <a:endParaRPr b="1" lang="en-US" sz="27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148360" y="549360"/>
            <a:ext cx="3995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宋体"/>
                <a:ea typeface="宋体"/>
              </a:rPr>
              <a:t>zànɡ</a:t>
            </a:r>
            <a:endParaRPr b="1" lang="en-US" sz="11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250920" y="4005360"/>
            <a:ext cx="3995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宋体"/>
                <a:ea typeface="宋体"/>
              </a:rPr>
              <a:t>lǚ</a:t>
            </a:r>
            <a:endParaRPr b="1" lang="en-US" sz="11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250920" y="0"/>
            <a:ext cx="4103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000000"/>
                </a:solidFill>
                <a:latin typeface="Arial"/>
                <a:ea typeface="楷体_GB2312"/>
              </a:rPr>
              <a:t>秦</a:t>
            </a:r>
            <a:endParaRPr b="1" lang="en-US" sz="27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5040360" y="2544840"/>
            <a:ext cx="4103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000000"/>
                </a:solidFill>
                <a:latin typeface="Arial"/>
                <a:ea typeface="楷体_GB2312"/>
              </a:rPr>
              <a:t>震</a:t>
            </a:r>
            <a:endParaRPr b="1" lang="en-US" sz="27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250920" y="4005360"/>
            <a:ext cx="3995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宋体"/>
                <a:ea typeface="宋体"/>
              </a:rPr>
              <a:t>qín</a:t>
            </a:r>
            <a:endParaRPr b="1" lang="en-US" sz="11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4788000" y="1197000"/>
            <a:ext cx="3995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宋体"/>
                <a:ea typeface="宋体"/>
              </a:rPr>
              <a:t>zhèn</a:t>
            </a:r>
            <a:endParaRPr b="1" lang="en-US" sz="11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ankGothic Lt BT"/>
                <a:ea typeface="楷体_GB2312"/>
              </a:rPr>
              <a:t>www.eeppt.com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1026"/>
          <p:cNvSpPr/>
          <p:nvPr/>
        </p:nvSpPr>
        <p:spPr>
          <a:xfrm>
            <a:off x="2362320" y="1447920"/>
            <a:ext cx="5257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坑  考  秦  域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遗  震     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Rectangle 3"/>
          <p:cNvSpPr/>
          <p:nvPr/>
        </p:nvSpPr>
        <p:spPr>
          <a:xfrm>
            <a:off x="914400" y="251460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卧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2362320" y="251460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5562720" y="251460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考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7162920" y="251460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秦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2362320" y="83808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藏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3962520" y="83808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悄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5562720" y="83808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闪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1" name="Rectangle 10"/>
          <p:cNvSpPr/>
          <p:nvPr/>
        </p:nvSpPr>
        <p:spPr>
          <a:xfrm>
            <a:off x="7162920" y="91440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坑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2" name="Rectangle 11"/>
          <p:cNvSpPr/>
          <p:nvPr/>
        </p:nvSpPr>
        <p:spPr>
          <a:xfrm>
            <a:off x="1828800" y="40384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纪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3962520" y="251460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旅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4" name="Rectangle 13"/>
          <p:cNvSpPr/>
          <p:nvPr/>
        </p:nvSpPr>
        <p:spPr>
          <a:xfrm>
            <a:off x="914400" y="8380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3352680" y="40384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遗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4952880" y="40384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究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7" name="Rectangle 16"/>
          <p:cNvSpPr/>
          <p:nvPr/>
        </p:nvSpPr>
        <p:spPr>
          <a:xfrm>
            <a:off x="6629400" y="411480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震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8" name="Line 17"/>
          <p:cNvSpPr/>
          <p:nvPr/>
        </p:nvSpPr>
        <p:spPr>
          <a:xfrm>
            <a:off x="914400" y="1371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9" name="Line 18"/>
          <p:cNvSpPr/>
          <p:nvPr/>
        </p:nvSpPr>
        <p:spPr>
          <a:xfrm>
            <a:off x="5562720" y="1447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0" name="Line 19"/>
          <p:cNvSpPr/>
          <p:nvPr/>
        </p:nvSpPr>
        <p:spPr>
          <a:xfrm>
            <a:off x="3962520" y="1447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3962520" y="3124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1523880" y="1981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2362320" y="3124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4" name="Line 23"/>
          <p:cNvSpPr/>
          <p:nvPr/>
        </p:nvSpPr>
        <p:spPr>
          <a:xfrm>
            <a:off x="2362320" y="1447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5" name="Line 24"/>
          <p:cNvSpPr/>
          <p:nvPr/>
        </p:nvSpPr>
        <p:spPr>
          <a:xfrm>
            <a:off x="91440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6" name="Line 25"/>
          <p:cNvSpPr/>
          <p:nvPr/>
        </p:nvSpPr>
        <p:spPr>
          <a:xfrm>
            <a:off x="662940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7" name="Line 26"/>
          <p:cNvSpPr/>
          <p:nvPr/>
        </p:nvSpPr>
        <p:spPr>
          <a:xfrm>
            <a:off x="335268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8" name="Line 27"/>
          <p:cNvSpPr/>
          <p:nvPr/>
        </p:nvSpPr>
        <p:spPr>
          <a:xfrm>
            <a:off x="182880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9" name="Line 28"/>
          <p:cNvSpPr/>
          <p:nvPr/>
        </p:nvSpPr>
        <p:spPr>
          <a:xfrm>
            <a:off x="7162920" y="3124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0" name="Line 29"/>
          <p:cNvSpPr/>
          <p:nvPr/>
        </p:nvSpPr>
        <p:spPr>
          <a:xfrm>
            <a:off x="5562720" y="3124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1" name="Line 30"/>
          <p:cNvSpPr/>
          <p:nvPr/>
        </p:nvSpPr>
        <p:spPr>
          <a:xfrm>
            <a:off x="7162920" y="1447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2" name="Line 31"/>
          <p:cNvSpPr/>
          <p:nvPr/>
        </p:nvSpPr>
        <p:spPr>
          <a:xfrm>
            <a:off x="495288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3" name="Line 32"/>
          <p:cNvSpPr/>
          <p:nvPr/>
        </p:nvSpPr>
        <p:spPr>
          <a:xfrm>
            <a:off x="23623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4" name="Line 33"/>
          <p:cNvSpPr/>
          <p:nvPr/>
        </p:nvSpPr>
        <p:spPr>
          <a:xfrm>
            <a:off x="2438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5" name="Line 34"/>
          <p:cNvSpPr/>
          <p:nvPr/>
        </p:nvSpPr>
        <p:spPr>
          <a:xfrm>
            <a:off x="617220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6" name="Line 35"/>
          <p:cNvSpPr/>
          <p:nvPr/>
        </p:nvSpPr>
        <p:spPr>
          <a:xfrm>
            <a:off x="457200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7" name="Line 36"/>
          <p:cNvSpPr/>
          <p:nvPr/>
        </p:nvSpPr>
        <p:spPr>
          <a:xfrm>
            <a:off x="297180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8" name="Line 37"/>
          <p:cNvSpPr/>
          <p:nvPr/>
        </p:nvSpPr>
        <p:spPr>
          <a:xfrm>
            <a:off x="160020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9" name="Line 38"/>
          <p:cNvSpPr/>
          <p:nvPr/>
        </p:nvSpPr>
        <p:spPr>
          <a:xfrm>
            <a:off x="7772400" y="914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0" name="Line 39"/>
          <p:cNvSpPr/>
          <p:nvPr/>
        </p:nvSpPr>
        <p:spPr>
          <a:xfrm>
            <a:off x="6095880" y="838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1" name="Line 40"/>
          <p:cNvSpPr/>
          <p:nvPr/>
        </p:nvSpPr>
        <p:spPr>
          <a:xfrm>
            <a:off x="4572000" y="838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2" name="Line 41"/>
          <p:cNvSpPr/>
          <p:nvPr/>
        </p:nvSpPr>
        <p:spPr>
          <a:xfrm>
            <a:off x="2971800" y="838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3" name="Line 42"/>
          <p:cNvSpPr/>
          <p:nvPr/>
        </p:nvSpPr>
        <p:spPr>
          <a:xfrm>
            <a:off x="1523880" y="838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4" name="Line 43"/>
          <p:cNvSpPr/>
          <p:nvPr/>
        </p:nvSpPr>
        <p:spPr>
          <a:xfrm>
            <a:off x="723888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5" name="Line 44"/>
          <p:cNvSpPr/>
          <p:nvPr/>
        </p:nvSpPr>
        <p:spPr>
          <a:xfrm>
            <a:off x="396252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6" name="Line 45"/>
          <p:cNvSpPr/>
          <p:nvPr/>
        </p:nvSpPr>
        <p:spPr>
          <a:xfrm>
            <a:off x="556272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7" name="Line 46"/>
          <p:cNvSpPr/>
          <p:nvPr/>
        </p:nvSpPr>
        <p:spPr>
          <a:xfrm>
            <a:off x="769608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1066680" y="9907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著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9" name="Rectangle 48"/>
          <p:cNvSpPr/>
          <p:nvPr/>
        </p:nvSpPr>
        <p:spPr>
          <a:xfrm>
            <a:off x="2666880" y="2666880"/>
            <a:ext cx="70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推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这篇课文讲了什么事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4" descr="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1187280" y="22766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0" y="0"/>
            <a:ext cx="89629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仔细读课文，用“～～”勾画有关句子．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１、课文中写李四光在玩捉迷藏时对大石头发生了兴趣的句子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２、写李四光跑去问老师，按老师的推测进一步思考的句子 。 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３、写李四光专门考察了这块大石头，弄明白大石头来历的句子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奇怪的大石头，“怪”在哪里？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新宋体"/>
              </a:rPr>
              <a:t>                       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4" descr="QQ截图未命名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4" descr="w"/>
          <p:cNvPicPr/>
          <p:nvPr/>
        </p:nvPicPr>
        <p:blipFill>
          <a:blip r:embed="rId1"/>
          <a:stretch/>
        </p:blipFill>
        <p:spPr>
          <a:xfrm>
            <a:off x="-860400" y="-426960"/>
            <a:ext cx="10866240" cy="77137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y"/>
          <p:cNvPicPr/>
          <p:nvPr/>
        </p:nvPicPr>
        <p:blipFill>
          <a:blip r:embed="rId2"/>
          <a:stretch/>
        </p:blipFill>
        <p:spPr>
          <a:xfrm>
            <a:off x="-396720" y="-387360"/>
            <a:ext cx="10913760" cy="77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468360" y="333360"/>
            <a:ext cx="835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   时间长了，他对这块大石头发生了兴趣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么大的一块石头，是从哪儿来的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李四光跑去问老师，老师想了想，说：“这块石头恐怕有几百年的历史了，我小的时候它就在那儿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谁把它放在哪儿的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听说天上常常掉下来陨石，也许它就是从天上掉下来的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么重的大石头从天上掉下来，力量一定非常大。它应该把草地砸一个很深很深的大坑。可它为什么没卧进土里去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这我可说不上来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李四光又跑去问爸爸，爸爸也说不清楚。</a:t>
            </a:r>
            <a:br>
              <a:rPr sz="2800"/>
            </a:b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468360" y="333360"/>
            <a:ext cx="835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   时间长了，他对这块大石头发生了兴趣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么大的一块石头，是从哪儿来的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李四光跑去问老师，老师想了想，说：“这块石头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恐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几百年的历史了，我小的时候它就在那儿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谁把它放在哪儿的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听说天上常常掉下来陨石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也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它就是从天上掉下来的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么重的大石头从天上掉下来，力量一定非常大。它应该把草地砸一个很深很深的大坑。可它为什么没卧进土里去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这我可说不上来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李四光又跑去问爸爸，爸爸也说不清楚。</a:t>
            </a:r>
            <a:br>
              <a:rPr sz="2800"/>
            </a:b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468360" y="333360"/>
            <a:ext cx="835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   时间长了，他对这块大石头发生了兴趣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么大的一块石头，是从哪儿来的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李四光跑去问老师，老师想了想，说：“这块石头恐怕有几百年的历史了，我小的时候它就在那儿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谁把它放在哪儿的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听说天上常常掉下来陨石，也许它就是从天上掉下来的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么重的大石头从天上掉下来，力量一定非常大。它应该把草地砸一个很深很深的大坑。可它为什么没卧进土里去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“这我可说不上来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李四光又跑去问爸爸，爸爸也说不清楚。</a:t>
            </a:r>
            <a:br>
              <a:rPr sz="2800"/>
            </a:b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583560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宋体"/>
              </a:rPr>
              <a:t>善于观察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5906880" y="242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宋体"/>
              </a:rPr>
              <a:t>善于提问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4356000" y="45813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宋体"/>
              </a:rPr>
              <a:t>善于思考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0" y="69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按课文填空，体会李四光是怎样提问题的？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250920" y="299736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这么重的石头从天上掉下来，力量                               它应该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可它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？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1" name="Line 4"/>
          <p:cNvSpPr/>
          <p:nvPr/>
        </p:nvSpPr>
        <p:spPr>
          <a:xfrm>
            <a:off x="1835280" y="450864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2" name="Line 5"/>
          <p:cNvSpPr/>
          <p:nvPr/>
        </p:nvSpPr>
        <p:spPr>
          <a:xfrm>
            <a:off x="324000" y="52293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3" name="Line 6"/>
          <p:cNvSpPr/>
          <p:nvPr/>
        </p:nvSpPr>
        <p:spPr>
          <a:xfrm>
            <a:off x="6372360" y="515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4" name="Line 7"/>
          <p:cNvSpPr/>
          <p:nvPr/>
        </p:nvSpPr>
        <p:spPr>
          <a:xfrm>
            <a:off x="250920" y="595008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ankGothic Lt BT"/>
                <a:ea typeface="楷体_GB2312"/>
              </a:rPr>
              <a:t>www.eeppt.com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395280" y="98100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关于这石头为什么会在这，李四光想了许多年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直到他长大以后到英国学习了地质学，才明白冰川可以推动巨大的石头旅行几百里甚至上千里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后来，李四光回到家乡，专门考察了这块大石头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经过进一步的考察，他发现在长江流域有大量第四纪冰川的遗迹。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1403280" y="1916280"/>
            <a:ext cx="669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692280"/>
            <a:ext cx="9144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认真读课文，细心体会再回答：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从李四光弄明白大石头来历的事中，你体会到什么？用“李四光爷爷，我想对你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句式说一说。 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71" name="Picture 4" descr="j0301252"/>
          <p:cNvPicPr/>
          <p:nvPr/>
        </p:nvPicPr>
        <p:blipFill>
          <a:blip r:embed="rId1"/>
          <a:stretch/>
        </p:blipFill>
        <p:spPr>
          <a:xfrm>
            <a:off x="4462560" y="2854440"/>
            <a:ext cx="46814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李四光爷爷是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勤于思考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善于动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执着探索的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Picture 3" descr="23a"/>
          <p:cNvPicPr/>
          <p:nvPr/>
        </p:nvPicPr>
        <p:blipFill>
          <a:blip r:embed="rId1"/>
          <a:stretch/>
        </p:blipFill>
        <p:spPr>
          <a:xfrm>
            <a:off x="533520" y="762120"/>
            <a:ext cx="4114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WordArt 2" descr="白色大理石"/>
          <p:cNvPicPr/>
          <p:nvPr/>
        </p:nvPicPr>
        <p:blipFill>
          <a:blip r:embed="rId1"/>
          <a:stretch/>
        </p:blipFill>
        <p:spPr>
          <a:xfrm>
            <a:off x="669960" y="536400"/>
            <a:ext cx="3090960" cy="92088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3"/>
          <p:cNvSpPr/>
          <p:nvPr/>
        </p:nvSpPr>
        <p:spPr>
          <a:xfrm>
            <a:off x="684360" y="119700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有多少在工作上做出一番成就的人，他们从小就善于发现问题，勇于探索，最后为他们的成功奠定了基础，回去找找这方面的材料。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小练笔：我的小发现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1c1c1c"/>
                </a:solidFill>
                <a:uFillTx/>
                <a:latin typeface="Verdana"/>
                <a:ea typeface="楷体_GB2312"/>
              </a:rPr>
              <a:t>PPT</a:t>
            </a:r>
            <a:r>
              <a:rPr b="0" lang="zh-CN" sz="1400" spc="-1" strike="noStrike" u="sng">
                <a:solidFill>
                  <a:srgbClr val="1c1c1c"/>
                </a:solidFill>
                <a:uFillTx/>
                <a:latin typeface="Verdana"/>
                <a:ea typeface="楷体_GB2312"/>
              </a:rPr>
              <a:t>之家整理发布，更多免费</a:t>
            </a:r>
            <a:r>
              <a:rPr b="0" lang="zh-CN" sz="1400" spc="-1" strike="noStrike" u="sng">
                <a:solidFill>
                  <a:srgbClr val="1c1c1c"/>
                </a:solidFill>
                <a:uFillTx/>
                <a:latin typeface="Verdana"/>
                <a:ea typeface="楷体_GB2312"/>
              </a:rPr>
              <a:t>PPT</a:t>
            </a:r>
            <a:r>
              <a:rPr b="0" lang="zh-CN" sz="1400" spc="-1" strike="noStrike" u="sng">
                <a:solidFill>
                  <a:srgbClr val="1c1c1c"/>
                </a:solidFill>
                <a:uFillTx/>
                <a:latin typeface="Verdana"/>
                <a:ea typeface="楷体_GB2312"/>
              </a:rPr>
              <a:t>模板下载请访问：</a:t>
            </a:r>
            <a:r>
              <a:rPr b="0" lang="zh-CN" sz="1400" spc="-1" strike="noStrike" u="sng">
                <a:solidFill>
                  <a:srgbClr val="1c1c1c"/>
                </a:solidFill>
                <a:uFillTx/>
                <a:latin typeface="Verdana"/>
                <a:ea typeface="楷体_GB2312"/>
              </a:rPr>
              <a:t>www.eeppt.com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0" y="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李四光"/>
          <p:cNvPicPr/>
          <p:nvPr/>
        </p:nvPicPr>
        <p:blipFill>
          <a:blip r:embed="rId1"/>
          <a:stretch/>
        </p:blipFill>
        <p:spPr>
          <a:xfrm>
            <a:off x="304920" y="304920"/>
            <a:ext cx="4109760" cy="54864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572000" y="1746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四光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国现代著名的地质科学家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毕生从事地质科学的研究和教育事业，成就卓著，是我国冰川学研究的奠基人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我国的石油事业作出了巨大贡献。</a:t>
            </a:r>
            <a:r>
              <a:rPr b="1" lang="en-US" sz="3600" spc="-1" strike="noStrike">
                <a:solidFill>
                  <a:srgbClr val="f3f6fa"/>
                </a:solidFill>
                <a:latin typeface="楷体_GB2312"/>
                <a:ea typeface="楷体_GB2312"/>
              </a:rPr>
              <a:t>(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0" y="152280"/>
            <a:ext cx="94489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怪  躲闪 兴趣  历史  平整  专门  成果  卧室 推测  世纪  纪念  著名  悄悄  躲闪  陨石　大坑  突兀  旅行  考察 地质   流域  遗迹  研究 震惊  秦岭   冰川  捉迷藏  地质学家 </a:t>
            </a:r>
            <a:endParaRPr b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严严实实 转来转去  孤零零</a:t>
            </a:r>
            <a:endParaRPr b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3"/>
          <p:cNvSpPr/>
          <p:nvPr/>
        </p:nvSpPr>
        <p:spPr>
          <a:xfrm>
            <a:off x="1332000" y="692280"/>
            <a:ext cx="662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著名　捉迷藏　悄悄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躲闪　孤零零　陨石　大坑　卧进　　突兀　旅行　考察　　地质　流域　遗迹　　研究　震惊　秦岭　　冰川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22:08Z</dcterms:created>
  <dc:creator/>
  <dc:description/>
  <cp:keywords>幻灯片之家 http:/www.eeppt.com</cp:keywords>
  <dc:language>en-US</dc:language>
  <cp:lastModifiedBy/>
  <dcterms:modified xsi:type="dcterms:W3CDTF">2015-07-20T06:4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