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DD7-377B-412B-856E-D89CB418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40080" y="40730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29D-B086-47C5-8509-E4A5E919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18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E98-4823-4E36-8F34-954121D8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920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832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4008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920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832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AD0-20AB-44EB-8B3F-B05C356F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84FA-38B2-4C98-86A5-BD8AB120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04BF-F1A4-41FF-BC99-54305275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E9A8-D034-476D-AA33-5A51EB7D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90DB-A1B5-49CE-AFAB-815B76F2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5706-4068-49D9-AE20-2D641405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40080" y="274320"/>
            <a:ext cx="63165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A692-7EA8-4CCD-B260-8EB12C1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DB4-7ED8-4E4B-87B2-0C34E02D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5A2-C8B7-4AB3-A124-34419404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18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4448-99CA-43FC-B334-5A6C96A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01ED-9A29-4D49-BC67-05FB678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40080" y="40730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C4DE-235F-4682-93F7-FEFF3089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18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E18F-8308-4232-801D-165F1151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920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832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4008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7920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1832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5FB6-632D-45A4-B63C-440E8213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DB4-F239-4640-BBFB-19230BA2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20B-D9C5-45AD-863A-5115E7DC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4F3-6012-4B0E-8075-94EF1DC7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40080" y="274320"/>
            <a:ext cx="63165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745-F238-4D53-B507-367815A4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37F-6647-40F6-919F-D127EE2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18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97E-26DE-4562-9CC4-FC46342D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999-B2B3-4641-BCE3-7405768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9EFB-24F3-4587-9360-A6A0D19CBB4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674-60CC-4B49-A5E1-BD5D8140A5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zine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2856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e County of Agent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pres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7621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人民币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Agent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sland off the coast of Loki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opical Paradise in the Indian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Verge of An Economic Overh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ment Opportunities Ga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posed Growth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Object 3" descr=""/>
          <p:cNvPicPr/>
          <p:nvPr/>
        </p:nvPicPr>
        <p:blipFill>
          <a:blip r:embed="rId2"/>
          <a:stretch/>
        </p:blipFill>
        <p:spPr>
          <a:xfrm>
            <a:off x="2697120" y="1600200"/>
            <a:ext cx="63468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 Paradise W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ha WX678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ki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: xxx xxx 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en-US" sz="2400" spc="-1" strike="noStrike" u="sng">
                <a:solidFill>
                  <a:srgbClr val="7beaea"/>
                </a:solidFill>
                <a:uFillTx/>
                <a:latin typeface="Arial"/>
                <a:hlinkClick r:id="rId2"/>
              </a:rPr>
              <a:t>http://www.indezine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9CA-EB54-4D1A-8040-EEA6E93464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pyright, Concept &amp; Cre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tesh Baj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2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