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7.png" ContentType="image/png"/>
  <Override PartName="/ppt/media/image4.gif" ContentType="image/gif"/>
  <Override PartName="/ppt/media/image1.jpeg" ContentType="image/jpeg"/>
  <Override PartName="/ppt/media/image9.png" ContentType="image/png"/>
  <Override PartName="/ppt/media/projctor.wav" ContentType="audio/x-wav"/>
  <Override PartName="/ppt/media/image5.jpeg" ContentType="image/jpeg"/>
  <Override PartName="/ppt/media/image3.jpeg" ContentType="image/jpeg"/>
  <Override PartName="/ppt/media/laser.wav" ContentType="audio/x-wav"/>
  <Override PartName="/ppt/media/image8.png" ContentType="image/png"/>
  <Override PartName="/ppt/media/image14.jpeg" ContentType="image/jpeg"/>
  <Override PartName="/ppt/media/image18.jpeg" ContentType="image/jpeg"/>
  <Override PartName="/ppt/media/image12.png" ContentType="image/png"/>
  <Override PartName="/ppt/media/image17.jpeg" ContentType="image/jpeg"/>
  <Override PartName="/ppt/media/image15.jpeg" ContentType="image/jpeg"/>
  <Override PartName="/ppt/media/image13.png" ContentType="image/png"/>
  <Override PartName="/ppt/media/image11.png" ContentType="image/png"/>
  <Override PartName="/ppt/media/camera.wav" ContentType="audio/x-wav"/>
  <Override PartName="/ppt/media/image2.wmf" ContentType="image/x-wmf"/>
  <Override PartName="/ppt/media/chimes.wav" ContentType="audio/x-wav"/>
  <Override PartName="/ppt/media/image16.png" ContentType="image/png"/>
  <Override PartName="/ppt/media/image6.jpeg" ContentType="image/jpeg"/>
  <Override PartName="/ppt/media/breeze.wav" ContentType="audio/x-wav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003-33A8-4E0A-AD0C-B08E7E6D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3BD5-343F-4B12-86F4-F31BC00E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585F9-9E77-428D-B08B-B97D65DF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E37DC-9B45-43C2-872A-0B6BB455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B7D09-0215-4E04-807B-6B0DDD8F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51917-05C5-44EC-9AFC-F26131EC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EF182-C8E1-45AF-BD88-DAE3C09E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BEC6B-F748-4252-B627-8E7F2323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7800B-F211-45F0-9D18-B589B7A4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8B0EF-EB05-4857-82FE-4A92C988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8150F-3F9E-4C95-A840-42E6D723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68C1B-C5B8-4115-A8B4-01FA66E2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1F5-D169-442B-A301-79295DC1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ECB87-E68C-4374-8AD9-E24FFA23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7678A-F71D-4D9F-939E-A5EF5BBB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4A929-548F-4ACB-B632-15EEB92F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0849D-3164-4EDB-8094-B5FB5B75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C1B90-D516-4DB1-A299-95922E40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9FDCF-DB70-4595-9B97-9E1FA580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5473C-A60C-448F-805F-BC2219CA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9477A-0489-4D4E-AA30-84415A1A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F8478-6A6F-4B35-B98B-A4E19358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EE4C8-4A67-4101-ACA9-7DF19343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4DC1-391A-4991-9FD1-19AA1CDD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ADF0E-ED5E-4545-9AA8-1EC9FC47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30522-617D-430F-9131-DE05393C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6E7C4-282F-4396-95E5-2E07A087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3B4F6-9E89-437F-8187-EAB4B8D0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A63E3-3B77-4A97-8733-89DE3382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DC5C7-8691-469D-9B95-7F33C46F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DB02E-79D2-450F-9F71-33CFD34F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C0D68-CB55-49E1-9494-64D677AC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55976-2866-4236-9642-FCB2777C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1D82E-AF67-4958-B203-CF733D88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43EA-0E2F-4E96-A2BA-C2DB35BC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381F4-4300-4C5A-85DF-9ADF423C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A6908-4156-4D11-95D1-E3735E67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75744-2D24-4C0D-B2E5-2DB0F63F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477EF-A6B8-428F-A18F-A6982EC9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45644-435B-4E64-A53D-D69A6D10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DAED4-6E9D-42AF-B84F-17A5A5DC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17EF0-0F21-4F02-AF0F-74A71EEA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14309-DF96-4330-8C26-FA0014DA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12D27-39EC-4AB3-8F16-F182353E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1C291-9A5F-4960-AA47-EA5916EA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86C8-BB05-4C2B-BFE5-B257694C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7783B-12D6-4BD8-B8FA-D05B26F2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B97F0-2A5D-43F0-83BB-300FBC56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2F579-9808-4B02-A35A-4777AF1E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39582-2783-4594-A6BC-A7EDA7F2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7A93B-22BF-4608-B12C-245C4F7F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657CB7-17D3-491C-8E17-4D0581CA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77D63D-0D3A-4A2F-B08C-83DA5298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E4E89C-B8FB-461C-BD00-8F170C58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2B9E1B-C58E-4146-801F-EE8D43D3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0B4E5-2DF1-46B4-AF15-0C6DE661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DC56-3A6D-443F-A3CD-F5B5D18B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1FF945-15B7-4A9B-AFA0-44E0295E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46B19-CD06-4962-91C1-E6103A17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EB872-877D-4756-952D-9E827B47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B0B9F4-1DDC-45AD-ACF4-1EDBF4A3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7C646-1AFA-4BBB-91BB-69055DC7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CE900-864B-45C6-8281-2E3721D9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959CF-D212-4E1C-852D-F63B526E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5B64B-1B4E-4995-A87C-61DF775B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A4FFD-E6DC-43CF-9C2E-814DE2D0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13569-B215-4970-9AAD-6527CDA0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89D6-9CF0-4EF0-A4E8-F96BE05B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47869-4DE4-40FA-9770-89B810FF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54F74-5E32-45EB-9DF1-16E28BFA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D28857-CBED-421E-84BA-8A1D50D4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AAFCD2-278F-4858-ADDE-E65E2879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CD4C80-E22B-4732-8A63-0B99AE07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B14705-F33B-484E-87F5-C659A22F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2FEB7A-51A3-4931-971B-C3F0B45E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26D5A4-2466-49C5-811C-F06172B5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BBEF57-C3F1-4575-8946-C9A72D47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8ECB-2B0D-455F-ABF0-D1E9BF66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5512-545F-4F8C-996F-20EC6EDA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AD2B-24E2-4C82-9E9F-2C9DB0F1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23D3-E11E-4E81-B519-223EFFB7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6E9D-A53D-445D-ABE3-DAFE705E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9BE9-8D86-4896-A669-A15989C6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90D9-85AE-4C90-B524-F0D933D1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F1C9-ABEB-43D0-9D31-807F3ABB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9EEF-B7E0-4FA9-B095-BDEE0B78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E5C47-1087-4383-B38F-D9ADD57F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6A3DE-D5C9-475D-91D0-ED6A1DD2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284BC-B656-49C7-B708-58ACEECF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FB756-3900-4AAD-87A5-B42DA8B9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2698B-D6F1-43A5-9060-D5CEEA6C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065-F9BA-453E-91D0-6E247044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A4584-54AF-4B8F-8CAE-1F0D3327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ED813-FFAA-42BA-BEC9-FB246C67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566DC-FD6D-43F7-808A-BCC006B9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B8148-6267-4C0E-ACA2-DBF3E9D6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08176-4084-484C-9F8D-8012A531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1A67C-4A71-4481-BEAE-7D509B7E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070E6-647E-44D0-A502-6C25369B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2E18D-E13C-475B-8A16-57DD3549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B182C-197A-4EA7-8167-19F22209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A4693-EB89-4F8A-AD8E-BC077775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C1D-6BA6-47DD-8DD1-83805E1C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E66A6-1072-43C8-99F1-27D32598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08579-E3EE-4198-9F70-5618F49C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C1D28-DCC8-4B2B-A43F-4A941533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D482B-C5D5-4AFF-BD1D-FE5AAF1E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6B20F-C5C6-48BA-B5E9-D287408F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92765-25D4-4002-BE85-BD8E848F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C8A50-9DDD-4D95-9A3B-1693A2A2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B2173-8084-42B9-8110-47FE7732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5C1CF-0110-42A3-9BAD-6A0A83B5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092F7-8311-40C0-B24A-0026F776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F9F-F0FA-461D-856F-4246BF7C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B4372-3767-4FD1-B786-B4250B2F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0EF83-0E07-449E-8820-D893BD1A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5C8DC-9492-4B75-92DE-4B32B857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75F3A-0D8A-4B5D-AE97-33343ACC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5B50D-4246-4A08-B8BF-A87B67C8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22D02-04A2-4493-803C-B36D969A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88C67-584B-4B00-AD89-E13FFFBE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3A49D-7B94-48FD-9F72-31A4CCA8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5AA4B-34E7-4C17-833C-7301CDCE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94EBE-BE79-432A-9DB2-720B1395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9DF-3559-4C45-B84D-761D881D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2C3C1-EB1E-4183-877B-658FE24D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DADF5-53D8-49B1-8625-7974BD9B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2F330-0406-4BA2-8C6B-382F70A6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C6FA4-224F-40E4-9A40-E5926AB0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CA991-D008-4A2F-B4FC-D4469550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28218-53DF-4021-A558-6A680DD4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5DABC-A377-42FA-A497-75CD1C9A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62272-023B-49B1-815E-EE592AAE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C0D88-0953-4AE3-956E-3696C2FA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83D5F-EDB2-4E38-811F-F4EDD62D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D8B-8A4D-4C3B-803A-BE500B99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D9A31-4112-413A-A1F2-91D093F4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114D1-03FA-4DF1-8C01-3DC186CA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19C8E-6AB1-4234-80FF-B8B6A5EC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0AB66-6220-4407-A450-5BA816CF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F39DD-985E-4BF7-B86C-EA1210E6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A4AC2-9F6B-4278-9C9D-2220844A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FA182-5825-42CD-B66D-854B7D36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83689-521A-48F5-AFE7-055587AD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4DF53-0118-4642-B830-5F1C35F2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1ED89-2820-4152-A684-C8D6722A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F532-8B94-4559-8C53-D52E93F6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6A0C1-C49B-4047-8AED-693D9FD2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9D515-6632-4019-82C0-3B3A53E4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E3D2A-2C64-4CA0-BAF9-B1FF7CBC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CC434-D159-4D13-BE14-CBACAFBA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D819D-937D-4AAB-B6DD-583514BD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6EDF2-B3A5-4DA9-97CE-C3C2534B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23580-B1E9-4846-8FA0-530045A5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47A85-16A7-4612-BCF8-A3735CFD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A60A7-B334-4E50-A64A-A7F4A037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769DB-882C-40BF-A315-D0EDF85B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6F04-E4B0-4BDA-8CE8-27E67B01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9B4F5-1C7D-4190-99BA-104DDE55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BE8F0-D3F7-4253-BD39-4ED03A5A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31142-C01F-447B-90B8-E12C185F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B0CD2-B7F1-408A-B7F4-A331FDEF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CB341-D011-4778-B53C-C739AB28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56A5E-D934-42C2-A801-61DD6D0A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CE5C0-6C6B-490D-BDA7-0DFF5109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2D033-3734-41FC-ADD1-896796C1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82CDF-A122-40ED-A81C-375A8E56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3636A-6CE9-4A41-9373-054985FA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66718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7291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64530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66006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5819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5776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63813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58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59385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6252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628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53528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5500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0" y="4719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0" y="4676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0" y="5081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0" y="5248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0" y="4752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48384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5152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449388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0" y="4365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0" y="45320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0" y="4163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0" y="3911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0" y="3835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0" y="3982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0" y="35636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0" y="3730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0" y="3601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0" y="3381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0" y="3490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0" y="3238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54" name="Line 56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55" name="Line 57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56" name="Line 58"/>
              <p:cNvSpPr/>
              <p:nvPr/>
            </p:nvSpPr>
            <p:spPr>
              <a:xfrm>
                <a:off x="0" y="25286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57" name="Line 59"/>
              <p:cNvSpPr/>
              <p:nvPr/>
            </p:nvSpPr>
            <p:spPr>
              <a:xfrm>
                <a:off x="0" y="24858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0" y="30906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0" y="28904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0" y="2761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62" name="Line 64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63" name="Line 65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0" y="2962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0" y="2928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0" y="2280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0" y="23382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68" name="Line 70"/>
              <p:cNvSpPr/>
              <p:nvPr/>
            </p:nvSpPr>
            <p:spPr>
              <a:xfrm>
                <a:off x="0" y="23904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69" name="Line 71"/>
              <p:cNvSpPr/>
              <p:nvPr/>
            </p:nvSpPr>
            <p:spPr>
              <a:xfrm>
                <a:off x="0" y="21380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0" y="19746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74" name="Line 76"/>
              <p:cNvSpPr/>
              <p:nvPr/>
            </p:nvSpPr>
            <p:spPr>
              <a:xfrm>
                <a:off x="0" y="1846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75" name="Line 77"/>
              <p:cNvSpPr/>
              <p:nvPr/>
            </p:nvSpPr>
            <p:spPr>
              <a:xfrm>
                <a:off x="0" y="1645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76" name="Line 78"/>
              <p:cNvSpPr/>
              <p:nvPr/>
            </p:nvSpPr>
            <p:spPr>
              <a:xfrm>
                <a:off x="0" y="17316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78" name="Line 80"/>
              <p:cNvSpPr/>
              <p:nvPr/>
            </p:nvSpPr>
            <p:spPr>
              <a:xfrm>
                <a:off x="0" y="2012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79" name="Line 81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80" name="Line 82"/>
              <p:cNvSpPr/>
              <p:nvPr/>
            </p:nvSpPr>
            <p:spPr>
              <a:xfrm>
                <a:off x="0" y="14220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81" name="Line 83"/>
              <p:cNvSpPr/>
              <p:nvPr/>
            </p:nvSpPr>
            <p:spPr>
              <a:xfrm>
                <a:off x="0" y="1474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82" name="Line 84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83" name="Line 85"/>
              <p:cNvSpPr/>
              <p:nvPr/>
            </p:nvSpPr>
            <p:spPr>
              <a:xfrm>
                <a:off x="0" y="12934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84" name="Line 86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85" name="Line 87"/>
              <p:cNvSpPr/>
              <p:nvPr/>
            </p:nvSpPr>
            <p:spPr>
              <a:xfrm>
                <a:off x="0" y="1025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86" name="Line 88"/>
              <p:cNvSpPr/>
              <p:nvPr/>
            </p:nvSpPr>
            <p:spPr>
              <a:xfrm>
                <a:off x="0" y="8283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87" name="Line 89"/>
              <p:cNvSpPr/>
              <p:nvPr/>
            </p:nvSpPr>
            <p:spPr>
              <a:xfrm>
                <a:off x="0" y="8856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88" name="Line 90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89" name="Line 91"/>
              <p:cNvSpPr/>
              <p:nvPr/>
            </p:nvSpPr>
            <p:spPr>
              <a:xfrm>
                <a:off x="0" y="6854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90" name="Line 92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91" name="Line 93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92" name="Line 94"/>
              <p:cNvSpPr/>
              <p:nvPr/>
            </p:nvSpPr>
            <p:spPr>
              <a:xfrm>
                <a:off x="0" y="537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93" name="Line 95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94" name="Line 96"/>
              <p:cNvSpPr/>
              <p:nvPr/>
            </p:nvSpPr>
            <p:spPr>
              <a:xfrm>
                <a:off x="0" y="4093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95" name="Line 97"/>
              <p:cNvSpPr/>
              <p:nvPr/>
            </p:nvSpPr>
            <p:spPr>
              <a:xfrm>
                <a:off x="0" y="1108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96" name="Line 98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97" name="Line 99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98" name="Line 100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99" name="Line 101"/>
              <p:cNvSpPr/>
              <p:nvPr/>
            </p:nvSpPr>
            <p:spPr>
              <a:xfrm>
                <a:off x="0" y="320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2"/>
            <p:cNvGrpSpPr/>
            <p:nvPr/>
          </p:nvGrpSpPr>
          <p:grpSpPr>
            <a:xfrm>
              <a:off x="635040" y="325080"/>
              <a:ext cx="8280360" cy="1782000"/>
              <a:chOff x="635040" y="325080"/>
              <a:chExt cx="8280360" cy="1782000"/>
            </a:xfrm>
          </p:grpSpPr>
          <p:sp>
            <p:nvSpPr>
              <p:cNvPr id="101" name="Rectangle 103"/>
              <p:cNvSpPr/>
              <p:nvPr/>
            </p:nvSpPr>
            <p:spPr>
              <a:xfrm>
                <a:off x="884160" y="325080"/>
                <a:ext cx="497160" cy="14504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635040" y="456480"/>
                <a:ext cx="5662440" cy="7740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7300800" y="1769400"/>
                <a:ext cx="1474920" cy="33768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3252960" y="1921680"/>
                <a:ext cx="5662440" cy="7740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50D9-F3FF-4437-9323-01D5B98BE20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9E41-B538-4E6B-9807-D1E872CEA7E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B9A8-7377-443D-A94D-E5EB13609D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ACCF-3787-4288-B393-5E80FD90C49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87B8-3374-4F7C-AB8F-9F77303D20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DEA3-8AEC-411E-B12E-9E5AA71AC3F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3"/>
            <p:cNvSpPr/>
            <p:nvPr/>
          </p:nvSpPr>
          <p:spPr>
            <a:xfrm>
              <a:off x="1098720" y="784080"/>
              <a:ext cx="7580160" cy="14853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666633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0" y="66718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0" y="67291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0" y="64530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0" y="66006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0" y="5819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0" y="5776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0" y="63813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0" y="58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0" y="59385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0" y="6252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0" y="5628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0" y="53528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0" y="5500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0" y="4719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0" y="4676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0" y="5081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0" y="5248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>
                <a:off x="0" y="4752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0" y="48384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0" y="5152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80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81" name="Line 37"/>
              <p:cNvSpPr/>
              <p:nvPr/>
            </p:nvSpPr>
            <p:spPr>
              <a:xfrm>
                <a:off x="0" y="449388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0" y="4365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84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0" y="45320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0" y="4163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0" y="3911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0" y="3835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0" y="3982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>
                <a:off x="0" y="35636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>
                <a:off x="0" y="3730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0" y="3601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>
                <a:off x="0" y="3381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0" y="3490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>
                <a:off x="0" y="3238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01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02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03" name="Line 59"/>
              <p:cNvSpPr/>
              <p:nvPr/>
            </p:nvSpPr>
            <p:spPr>
              <a:xfrm>
                <a:off x="0" y="25286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04" name="Line 60"/>
              <p:cNvSpPr/>
              <p:nvPr/>
            </p:nvSpPr>
            <p:spPr>
              <a:xfrm>
                <a:off x="0" y="24858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05" name="Line 61"/>
              <p:cNvSpPr/>
              <p:nvPr/>
            </p:nvSpPr>
            <p:spPr>
              <a:xfrm>
                <a:off x="0" y="30906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>
                <a:off x="0" y="28904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>
                <a:off x="0" y="2761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0" y="2962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12" name="Line 68"/>
              <p:cNvSpPr/>
              <p:nvPr/>
            </p:nvSpPr>
            <p:spPr>
              <a:xfrm>
                <a:off x="0" y="2928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13" name="Line 69"/>
              <p:cNvSpPr/>
              <p:nvPr/>
            </p:nvSpPr>
            <p:spPr>
              <a:xfrm>
                <a:off x="0" y="2280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>
                <a:off x="0" y="23382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>
                <a:off x="0" y="23904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16" name="Line 72"/>
              <p:cNvSpPr/>
              <p:nvPr/>
            </p:nvSpPr>
            <p:spPr>
              <a:xfrm>
                <a:off x="0" y="21380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17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>
                <a:off x="0" y="19746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>
                <a:off x="0" y="1846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>
                <a:off x="0" y="1645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>
                <a:off x="0" y="17316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>
                <a:off x="0" y="2012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>
                <a:off x="0" y="14220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0" y="1474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29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30" name="Line 86"/>
              <p:cNvSpPr/>
              <p:nvPr/>
            </p:nvSpPr>
            <p:spPr>
              <a:xfrm>
                <a:off x="0" y="12934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31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32" name="Line 88"/>
              <p:cNvSpPr/>
              <p:nvPr/>
            </p:nvSpPr>
            <p:spPr>
              <a:xfrm>
                <a:off x="0" y="1025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33" name="Line 89"/>
              <p:cNvSpPr/>
              <p:nvPr/>
            </p:nvSpPr>
            <p:spPr>
              <a:xfrm>
                <a:off x="0" y="8283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34" name="Line 90"/>
              <p:cNvSpPr/>
              <p:nvPr/>
            </p:nvSpPr>
            <p:spPr>
              <a:xfrm>
                <a:off x="0" y="8856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35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36" name="Line 92"/>
              <p:cNvSpPr/>
              <p:nvPr/>
            </p:nvSpPr>
            <p:spPr>
              <a:xfrm>
                <a:off x="0" y="6854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37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38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39" name="Line 95"/>
              <p:cNvSpPr/>
              <p:nvPr/>
            </p:nvSpPr>
            <p:spPr>
              <a:xfrm>
                <a:off x="0" y="537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40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41" name="Line 97"/>
              <p:cNvSpPr/>
              <p:nvPr/>
            </p:nvSpPr>
            <p:spPr>
              <a:xfrm>
                <a:off x="0" y="4093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42" name="Line 98"/>
              <p:cNvSpPr/>
              <p:nvPr/>
            </p:nvSpPr>
            <p:spPr>
              <a:xfrm>
                <a:off x="0" y="1108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43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44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45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  <p:sp>
            <p:nvSpPr>
              <p:cNvPr id="246" name="Line 102"/>
              <p:cNvSpPr/>
              <p:nvPr/>
            </p:nvSpPr>
            <p:spPr>
              <a:xfrm>
                <a:off x="0" y="320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6000" spc="-1" strike="noStrike">
                  <a:solidFill>
                    <a:srgbClr val="6666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48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5E9F-9648-47E5-BEBA-A4FFB6177BE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053D-C846-4FDF-B1E5-2F86927345F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549A-8441-4730-AFD0-3893CCFA7A6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51DF-04A4-4526-B0BA-0A497902577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6375-78D2-4799-BEBB-67B0FAAAEBA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CE6F-0C8D-4F44-8457-BE17B92532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66A0-9C50-4E2A-819D-1B98A0B8E0A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5C5E-3AA9-4063-922B-66647B94C95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audio" Target="../media/projctor.wav"/><Relationship Id="rId6" Type="http://schemas.openxmlformats.org/officeDocument/2006/relationships/audio" Target="../media/camera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laser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" Target="slide1.xm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72658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人民英雄永垂不朽</a:t>
            </a: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模板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2411280" y="2514600"/>
            <a:ext cx="6400800" cy="8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瞻仰首都人民英雄纪念碑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4249800" y="358128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周定舫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785" name="Text Box 11"/>
          <p:cNvSpPr/>
          <p:nvPr/>
        </p:nvSpPr>
        <p:spPr>
          <a:xfrm>
            <a:off x="40384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786" name="矩形 6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16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2"/>
          <p:cNvSpPr/>
          <p:nvPr/>
        </p:nvSpPr>
        <p:spPr>
          <a:xfrm>
            <a:off x="1828800" y="2362320"/>
            <a:ext cx="61722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  <a:ea typeface="华文行楷"/>
              </a:rPr>
              <a:t>天堑</a:t>
            </a: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：天然形成的隔断</a:t>
            </a:r>
            <a:endParaRPr b="1" lang="en-US" sz="44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交通的大沟，多指长江，</a:t>
            </a:r>
            <a:endParaRPr b="1" lang="en-US" sz="44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形容它的险要。堑，壕</a:t>
            </a:r>
            <a:endParaRPr b="1" lang="en-US" sz="44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沟。</a:t>
            </a:r>
            <a:endParaRPr b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36" name="AutoShape 5"/>
          <p:cNvSpPr/>
          <p:nvPr/>
        </p:nvSpPr>
        <p:spPr>
          <a:xfrm>
            <a:off x="6781680" y="6019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37" name="AutoShape 6"/>
          <p:cNvSpPr/>
          <p:nvPr/>
        </p:nvSpPr>
        <p:spPr>
          <a:xfrm>
            <a:off x="74674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339966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38" name="Text Box 5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2"/>
          <p:cNvSpPr/>
          <p:nvPr/>
        </p:nvSpPr>
        <p:spPr>
          <a:xfrm>
            <a:off x="1905120" y="83808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Times New Roman"/>
              </a:rPr>
              <a:t>初知本文说明顺序</a:t>
            </a:r>
            <a:endParaRPr b="1" lang="en-US" sz="48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40" name="Text Box 6"/>
          <p:cNvSpPr/>
          <p:nvPr/>
        </p:nvSpPr>
        <p:spPr>
          <a:xfrm>
            <a:off x="1905120" y="21337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6666"/>
                </a:solidFill>
                <a:latin typeface="Times New Roman"/>
              </a:rPr>
              <a:t>了解课文思路</a:t>
            </a:r>
            <a:endParaRPr b="1" lang="en-US" sz="4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41" name="AutoShape 7"/>
          <p:cNvSpPr/>
          <p:nvPr/>
        </p:nvSpPr>
        <p:spPr>
          <a:xfrm>
            <a:off x="7772400" y="57150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42" name="Text Box 13"/>
          <p:cNvSpPr/>
          <p:nvPr/>
        </p:nvSpPr>
        <p:spPr>
          <a:xfrm>
            <a:off x="2712240" y="3200400"/>
            <a:ext cx="398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2 </a:t>
            </a: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.</a:t>
            </a:r>
            <a:r>
              <a:rPr b="1" lang="zh-CN" sz="4000" spc="-1" strike="noStrike" u="sng">
                <a:solidFill>
                  <a:srgbClr val="666633"/>
                </a:solidFill>
                <a:uFillTx/>
                <a:latin typeface="Times New Roman"/>
              </a:rPr>
              <a:t>画出表示作者行踪的词</a:t>
            </a:r>
            <a:endParaRPr b="1" lang="en-US" sz="40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Times New Roman"/>
              </a:rPr>
              <a:t>    </a:t>
            </a:r>
            <a:r>
              <a:rPr b="1" lang="zh-CN" sz="4000" spc="-1" strike="noStrike" u="sng">
                <a:solidFill>
                  <a:srgbClr val="666633"/>
                </a:solidFill>
                <a:uFillTx/>
                <a:latin typeface="Times New Roman"/>
              </a:rPr>
              <a:t>以及观察点</a:t>
            </a:r>
            <a:endParaRPr b="1" lang="en-US" sz="40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 Box 2"/>
          <p:cNvSpPr/>
          <p:nvPr/>
        </p:nvSpPr>
        <p:spPr>
          <a:xfrm>
            <a:off x="1523880" y="68580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80"/>
                </a:solidFill>
                <a:latin typeface="Times New Roman"/>
              </a:rPr>
              <a:t>课文思路</a:t>
            </a: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44" name="Text Box 3"/>
          <p:cNvSpPr/>
          <p:nvPr/>
        </p:nvSpPr>
        <p:spPr>
          <a:xfrm>
            <a:off x="1295280" y="2514600"/>
            <a:ext cx="1600200" cy="1477080"/>
          </a:xfrm>
          <a:prstGeom prst="rect">
            <a:avLst/>
          </a:prstGeom>
          <a:noFill/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点题总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领正文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45" name="Text Box 5"/>
          <p:cNvSpPr/>
          <p:nvPr/>
        </p:nvSpPr>
        <p:spPr>
          <a:xfrm>
            <a:off x="1295280" y="4267080"/>
            <a:ext cx="18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节）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46" name="Line 6"/>
          <p:cNvSpPr/>
          <p:nvPr/>
        </p:nvSpPr>
        <p:spPr>
          <a:xfrm>
            <a:off x="2971800" y="3276720"/>
            <a:ext cx="762120" cy="0"/>
          </a:xfrm>
          <a:prstGeom prst="line">
            <a:avLst/>
          </a:prstGeom>
          <a:ln cap="sq"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47" name="Text Box 7"/>
          <p:cNvSpPr/>
          <p:nvPr/>
        </p:nvSpPr>
        <p:spPr>
          <a:xfrm>
            <a:off x="3809880" y="2590920"/>
            <a:ext cx="1600200" cy="1191240"/>
          </a:xfrm>
          <a:prstGeom prst="rect">
            <a:avLst/>
          </a:prstGeom>
          <a:noFill/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详写碑身浮雕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48" name="Text Box 8"/>
          <p:cNvSpPr/>
          <p:nvPr/>
        </p:nvSpPr>
        <p:spPr>
          <a:xfrm>
            <a:off x="3352680" y="4267080"/>
            <a:ext cx="31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2—10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节）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49" name="Line 9"/>
          <p:cNvSpPr/>
          <p:nvPr/>
        </p:nvSpPr>
        <p:spPr>
          <a:xfrm>
            <a:off x="5715000" y="3276720"/>
            <a:ext cx="838080" cy="0"/>
          </a:xfrm>
          <a:prstGeom prst="line">
            <a:avLst/>
          </a:prstGeom>
          <a:ln cap="sq"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50" name="Text Box 10"/>
          <p:cNvSpPr/>
          <p:nvPr/>
        </p:nvSpPr>
        <p:spPr>
          <a:xfrm>
            <a:off x="6705720" y="2514600"/>
            <a:ext cx="1600200" cy="1477080"/>
          </a:xfrm>
          <a:prstGeom prst="rect">
            <a:avLst/>
          </a:prstGeom>
          <a:noFill/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抒写瞻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仰感受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51" name="Text Box 11"/>
          <p:cNvSpPr/>
          <p:nvPr/>
        </p:nvSpPr>
        <p:spPr>
          <a:xfrm>
            <a:off x="6553080" y="42670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11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节）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52" name="AutoShape 12"/>
          <p:cNvSpPr/>
          <p:nvPr/>
        </p:nvSpPr>
        <p:spPr>
          <a:xfrm>
            <a:off x="82296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53" name="AutoShape 13"/>
          <p:cNvSpPr/>
          <p:nvPr/>
        </p:nvSpPr>
        <p:spPr>
          <a:xfrm rot="16200000">
            <a:off x="4914720" y="2094840"/>
            <a:ext cx="152280" cy="6019920"/>
          </a:xfrm>
          <a:custGeom>
            <a:avLst/>
            <a:gdLst>
              <a:gd name="textAreaLeft" fmla="*/ 97200 w 152280"/>
              <a:gd name="textAreaRight" fmla="*/ 152640 w 152280"/>
              <a:gd name="textAreaTop" fmla="*/ 156960 h 6019920"/>
              <a:gd name="textAreaBottom" fmla="*/ 5862960 h 601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54" name="Text Box 14"/>
          <p:cNvSpPr/>
          <p:nvPr/>
        </p:nvSpPr>
        <p:spPr>
          <a:xfrm>
            <a:off x="1676520" y="5334120"/>
            <a:ext cx="6400800" cy="642600"/>
          </a:xfrm>
          <a:prstGeom prst="rect">
            <a:avLst/>
          </a:prstGeom>
          <a:noFill/>
          <a:ln cap="sq"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渗透着：无限崇敬  深切怀念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5" descr="02人民英雄纪念碑"/>
          <p:cNvPicPr/>
          <p:nvPr/>
        </p:nvPicPr>
        <p:blipFill>
          <a:blip r:embed="rId1"/>
          <a:stretch/>
        </p:blipFill>
        <p:spPr>
          <a:xfrm>
            <a:off x="1220760" y="1981080"/>
            <a:ext cx="3503520" cy="41148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/>
          </p:nvPr>
        </p:nvSpPr>
        <p:spPr>
          <a:xfrm>
            <a:off x="4648320" y="2214360"/>
            <a:ext cx="44956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隶书"/>
              </a:rPr>
              <a:t>从总体上看，作者是按照怎样的顺序把纪念碑一步步介绍到我们面前来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隶书"/>
              </a:rPr>
              <a:t>（</a:t>
            </a:r>
            <a:r>
              <a:rPr b="0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阅读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2</a:t>
            </a:r>
            <a:r>
              <a:rPr b="0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至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5</a:t>
            </a:r>
            <a:r>
              <a:rPr b="0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节，找出表明顺序的关键词语回答。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title"/>
          </p:nvPr>
        </p:nvSpPr>
        <p:spPr>
          <a:xfrm>
            <a:off x="4419360" y="685440"/>
            <a:ext cx="236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思考：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858" name="Picture 8" descr="012"/>
          <p:cNvPicPr/>
          <p:nvPr/>
        </p:nvPicPr>
        <p:blipFill>
          <a:blip r:embed="rId2"/>
          <a:stretch/>
        </p:blipFill>
        <p:spPr>
          <a:xfrm>
            <a:off x="6400800" y="12193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Picture 2" descr="02人民英雄纪念碑"/>
          <p:cNvPicPr/>
          <p:nvPr/>
        </p:nvPicPr>
        <p:blipFill>
          <a:blip r:embed="rId1"/>
          <a:stretch/>
        </p:blipFill>
        <p:spPr>
          <a:xfrm>
            <a:off x="-685800" y="0"/>
            <a:ext cx="5440320" cy="6858000"/>
          </a:xfrm>
          <a:prstGeom prst="rect">
            <a:avLst/>
          </a:prstGeom>
          <a:ln w="0">
            <a:noFill/>
          </a:ln>
        </p:spPr>
      </p:pic>
      <p:sp>
        <p:nvSpPr>
          <p:cNvPr id="860" name="Text Box 3"/>
          <p:cNvSpPr/>
          <p:nvPr/>
        </p:nvSpPr>
        <p:spPr>
          <a:xfrm>
            <a:off x="5715000" y="0"/>
            <a:ext cx="2514600" cy="30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进入广场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5715000" y="19051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越过广场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62" name="Text Box 5"/>
          <p:cNvSpPr/>
          <p:nvPr/>
        </p:nvSpPr>
        <p:spPr>
          <a:xfrm>
            <a:off x="6082560" y="2819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踏上石道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63" name="Text Box 6"/>
          <p:cNvSpPr/>
          <p:nvPr/>
        </p:nvSpPr>
        <p:spPr>
          <a:xfrm>
            <a:off x="5715000" y="37339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走到碑前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64" name="Text Box 7"/>
          <p:cNvSpPr/>
          <p:nvPr/>
        </p:nvSpPr>
        <p:spPr>
          <a:xfrm>
            <a:off x="5715000" y="4648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踏上台阶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65" name="Text Box 8"/>
          <p:cNvSpPr/>
          <p:nvPr/>
        </p:nvSpPr>
        <p:spPr>
          <a:xfrm>
            <a:off x="5715000" y="5638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到了平台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66" name="AutoShape 9"/>
          <p:cNvSpPr/>
          <p:nvPr/>
        </p:nvSpPr>
        <p:spPr>
          <a:xfrm>
            <a:off x="6477120" y="14479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67" name="AutoShape 10"/>
          <p:cNvSpPr/>
          <p:nvPr/>
        </p:nvSpPr>
        <p:spPr>
          <a:xfrm>
            <a:off x="6477120" y="51814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68" name="AutoShape 11"/>
          <p:cNvSpPr/>
          <p:nvPr/>
        </p:nvSpPr>
        <p:spPr>
          <a:xfrm>
            <a:off x="6477120" y="42670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69" name="AutoShape 12"/>
          <p:cNvSpPr/>
          <p:nvPr/>
        </p:nvSpPr>
        <p:spPr>
          <a:xfrm>
            <a:off x="6477120" y="34290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70" name="AutoShape 13"/>
          <p:cNvSpPr/>
          <p:nvPr/>
        </p:nvSpPr>
        <p:spPr>
          <a:xfrm>
            <a:off x="6477120" y="25146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71" name="Text Box 14"/>
          <p:cNvSpPr/>
          <p:nvPr/>
        </p:nvSpPr>
        <p:spPr>
          <a:xfrm>
            <a:off x="6430680" y="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Symbol"/>
                <a:ea typeface="Symbol"/>
              </a:rPr>
              <a:t>活动顺序：</a:t>
            </a:r>
            <a:endParaRPr b="1" lang="en-US" sz="40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http://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Line 2"/>
          <p:cNvSpPr/>
          <p:nvPr/>
        </p:nvSpPr>
        <p:spPr>
          <a:xfrm>
            <a:off x="1143000" y="762120"/>
            <a:ext cx="6705720" cy="0"/>
          </a:xfrm>
          <a:prstGeom prst="line">
            <a:avLst/>
          </a:prstGeom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76" name="Text Box 3"/>
          <p:cNvSpPr/>
          <p:nvPr/>
        </p:nvSpPr>
        <p:spPr>
          <a:xfrm>
            <a:off x="3886200" y="228600"/>
            <a:ext cx="1143000" cy="459720"/>
          </a:xfrm>
          <a:prstGeom prst="rect">
            <a:avLst/>
          </a:prstGeom>
          <a:noFill/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天安门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77" name="Text Box 4"/>
          <p:cNvSpPr/>
          <p:nvPr/>
        </p:nvSpPr>
        <p:spPr>
          <a:xfrm>
            <a:off x="30960" y="2438280"/>
            <a:ext cx="911880" cy="1676520"/>
          </a:xfrm>
          <a:prstGeom prst="rect">
            <a:avLst/>
          </a:prstGeom>
          <a:noFill/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人民大会堂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78" name="Line 5"/>
          <p:cNvSpPr/>
          <p:nvPr/>
        </p:nvSpPr>
        <p:spPr>
          <a:xfrm>
            <a:off x="1143000" y="1523880"/>
            <a:ext cx="2666880" cy="0"/>
          </a:xfrm>
          <a:prstGeom prst="line">
            <a:avLst/>
          </a:prstGeom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79" name="Line 6"/>
          <p:cNvSpPr/>
          <p:nvPr/>
        </p:nvSpPr>
        <p:spPr>
          <a:xfrm>
            <a:off x="5562720" y="1447920"/>
            <a:ext cx="0" cy="0"/>
          </a:xfrm>
          <a:prstGeom prst="line">
            <a:avLst/>
          </a:prstGeom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80" name="Line 7"/>
          <p:cNvSpPr/>
          <p:nvPr/>
        </p:nvSpPr>
        <p:spPr>
          <a:xfrm>
            <a:off x="5181480" y="1523880"/>
            <a:ext cx="2743200" cy="0"/>
          </a:xfrm>
          <a:prstGeom prst="line">
            <a:avLst/>
          </a:prstGeom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81" name="Rectangle 8"/>
          <p:cNvSpPr/>
          <p:nvPr/>
        </p:nvSpPr>
        <p:spPr>
          <a:xfrm>
            <a:off x="3809880" y="3276720"/>
            <a:ext cx="1219320" cy="99036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82" name="Text Box 9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纪念碑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83" name="Line 10"/>
          <p:cNvSpPr/>
          <p:nvPr/>
        </p:nvSpPr>
        <p:spPr>
          <a:xfrm>
            <a:off x="1143000" y="1523880"/>
            <a:ext cx="0" cy="4876920"/>
          </a:xfrm>
          <a:prstGeom prst="line">
            <a:avLst/>
          </a:prstGeom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84" name="Line 11"/>
          <p:cNvSpPr/>
          <p:nvPr/>
        </p:nvSpPr>
        <p:spPr>
          <a:xfrm>
            <a:off x="7848720" y="1523880"/>
            <a:ext cx="0" cy="0"/>
          </a:xfrm>
          <a:prstGeom prst="line">
            <a:avLst/>
          </a:prstGeom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85" name="Line 12"/>
          <p:cNvSpPr/>
          <p:nvPr/>
        </p:nvSpPr>
        <p:spPr>
          <a:xfrm>
            <a:off x="7924680" y="1523880"/>
            <a:ext cx="0" cy="4800600"/>
          </a:xfrm>
          <a:prstGeom prst="line">
            <a:avLst/>
          </a:prstGeom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86" name="Text Box 13"/>
          <p:cNvSpPr/>
          <p:nvPr/>
        </p:nvSpPr>
        <p:spPr>
          <a:xfrm>
            <a:off x="52578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东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87" name="Text Box 14"/>
          <p:cNvSpPr/>
          <p:nvPr/>
        </p:nvSpPr>
        <p:spPr>
          <a:xfrm>
            <a:off x="419112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南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88" name="Text Box 15"/>
          <p:cNvSpPr/>
          <p:nvPr/>
        </p:nvSpPr>
        <p:spPr>
          <a:xfrm>
            <a:off x="32004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西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89" name="Text Box 16"/>
          <p:cNvSpPr/>
          <p:nvPr/>
        </p:nvSpPr>
        <p:spPr>
          <a:xfrm>
            <a:off x="4191120" y="22096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90" name="Text Box 17"/>
          <p:cNvSpPr/>
          <p:nvPr/>
        </p:nvSpPr>
        <p:spPr>
          <a:xfrm>
            <a:off x="419112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北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91" name="Text Box 18"/>
          <p:cNvSpPr/>
          <p:nvPr/>
        </p:nvSpPr>
        <p:spPr>
          <a:xfrm>
            <a:off x="3581280" y="2971800"/>
            <a:ext cx="1752840" cy="1572120"/>
          </a:xfrm>
          <a:prstGeom prst="rect">
            <a:avLst/>
          </a:prstGeom>
          <a:noFill/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92" name="Line 19"/>
          <p:cNvSpPr/>
          <p:nvPr/>
        </p:nvSpPr>
        <p:spPr>
          <a:xfrm>
            <a:off x="4267080" y="2971800"/>
            <a:ext cx="0" cy="304920"/>
          </a:xfrm>
          <a:prstGeom prst="line">
            <a:avLst/>
          </a:prstGeom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93" name="Line 20"/>
          <p:cNvSpPr/>
          <p:nvPr/>
        </p:nvSpPr>
        <p:spPr>
          <a:xfrm>
            <a:off x="4648320" y="2971800"/>
            <a:ext cx="0" cy="304920"/>
          </a:xfrm>
          <a:prstGeom prst="line">
            <a:avLst/>
          </a:prstGeom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94" name="Line 21"/>
          <p:cNvSpPr/>
          <p:nvPr/>
        </p:nvSpPr>
        <p:spPr>
          <a:xfrm>
            <a:off x="4267080" y="3048120"/>
            <a:ext cx="381240" cy="0"/>
          </a:xfrm>
          <a:prstGeom prst="line">
            <a:avLst/>
          </a:prstGeom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95" name="Line 22"/>
          <p:cNvSpPr/>
          <p:nvPr/>
        </p:nvSpPr>
        <p:spPr>
          <a:xfrm>
            <a:off x="4267080" y="3200400"/>
            <a:ext cx="381240" cy="0"/>
          </a:xfrm>
          <a:prstGeom prst="line">
            <a:avLst/>
          </a:prstGeom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96" name="Oval 28"/>
          <p:cNvSpPr/>
          <p:nvPr/>
        </p:nvSpPr>
        <p:spPr>
          <a:xfrm>
            <a:off x="7315200" y="914400"/>
            <a:ext cx="304920" cy="30492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97" name="Oval 29"/>
          <p:cNvSpPr/>
          <p:nvPr/>
        </p:nvSpPr>
        <p:spPr>
          <a:xfrm>
            <a:off x="4648320" y="2286000"/>
            <a:ext cx="304560" cy="30492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98" name="Text Box 30"/>
          <p:cNvSpPr/>
          <p:nvPr/>
        </p:nvSpPr>
        <p:spPr>
          <a:xfrm>
            <a:off x="5181480" y="2209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纪念碑台阶前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99" name="Oval 31"/>
          <p:cNvSpPr/>
          <p:nvPr/>
        </p:nvSpPr>
        <p:spPr>
          <a:xfrm>
            <a:off x="5638680" y="3581280"/>
            <a:ext cx="304920" cy="30492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00" name="Text Box 32"/>
          <p:cNvSpPr/>
          <p:nvPr/>
        </p:nvSpPr>
        <p:spPr>
          <a:xfrm>
            <a:off x="5943600" y="3505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第二层平台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01" name="Text Box 33"/>
          <p:cNvSpPr/>
          <p:nvPr/>
        </p:nvSpPr>
        <p:spPr>
          <a:xfrm>
            <a:off x="7543800" y="838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东长安街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02" name="Text Box 34"/>
          <p:cNvSpPr/>
          <p:nvPr/>
        </p:nvSpPr>
        <p:spPr>
          <a:xfrm>
            <a:off x="7943040" y="2514600"/>
            <a:ext cx="911880" cy="1371600"/>
          </a:xfrm>
          <a:prstGeom prst="rect">
            <a:avLst/>
          </a:prstGeom>
          <a:noFill/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政协礼堂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Line 3"/>
          <p:cNvSpPr/>
          <p:nvPr/>
        </p:nvSpPr>
        <p:spPr>
          <a:xfrm>
            <a:off x="1143000" y="762120"/>
            <a:ext cx="6705720" cy="0"/>
          </a:xfrm>
          <a:prstGeom prst="line">
            <a:avLst/>
          </a:prstGeom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04" name="Text Box 6"/>
          <p:cNvSpPr/>
          <p:nvPr/>
        </p:nvSpPr>
        <p:spPr>
          <a:xfrm>
            <a:off x="3886200" y="228600"/>
            <a:ext cx="1143000" cy="459720"/>
          </a:xfrm>
          <a:prstGeom prst="rect">
            <a:avLst/>
          </a:prstGeom>
          <a:noFill/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天安门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05" name="Text Box 7"/>
          <p:cNvSpPr/>
          <p:nvPr/>
        </p:nvSpPr>
        <p:spPr>
          <a:xfrm>
            <a:off x="30960" y="2438280"/>
            <a:ext cx="911880" cy="1676520"/>
          </a:xfrm>
          <a:prstGeom prst="rect">
            <a:avLst/>
          </a:prstGeom>
          <a:noFill/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人民大会堂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06" name="Line 8"/>
          <p:cNvSpPr/>
          <p:nvPr/>
        </p:nvSpPr>
        <p:spPr>
          <a:xfrm>
            <a:off x="1143000" y="1523880"/>
            <a:ext cx="2666880" cy="0"/>
          </a:xfrm>
          <a:prstGeom prst="line">
            <a:avLst/>
          </a:prstGeom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07" name="Line 9"/>
          <p:cNvSpPr/>
          <p:nvPr/>
        </p:nvSpPr>
        <p:spPr>
          <a:xfrm>
            <a:off x="5562720" y="1447920"/>
            <a:ext cx="0" cy="0"/>
          </a:xfrm>
          <a:prstGeom prst="line">
            <a:avLst/>
          </a:prstGeom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08" name="Line 10"/>
          <p:cNvSpPr/>
          <p:nvPr/>
        </p:nvSpPr>
        <p:spPr>
          <a:xfrm>
            <a:off x="5181480" y="1523880"/>
            <a:ext cx="2743200" cy="0"/>
          </a:xfrm>
          <a:prstGeom prst="line">
            <a:avLst/>
          </a:prstGeom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09" name="Rectangle 11"/>
          <p:cNvSpPr/>
          <p:nvPr/>
        </p:nvSpPr>
        <p:spPr>
          <a:xfrm>
            <a:off x="3809880" y="3276720"/>
            <a:ext cx="1219320" cy="99036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10" name="Text Box 12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纪念碑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11" name="Line 14"/>
          <p:cNvSpPr/>
          <p:nvPr/>
        </p:nvSpPr>
        <p:spPr>
          <a:xfrm>
            <a:off x="1143000" y="1523880"/>
            <a:ext cx="0" cy="4876920"/>
          </a:xfrm>
          <a:prstGeom prst="line">
            <a:avLst/>
          </a:prstGeom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12" name="Line 15"/>
          <p:cNvSpPr/>
          <p:nvPr/>
        </p:nvSpPr>
        <p:spPr>
          <a:xfrm>
            <a:off x="7848720" y="1523880"/>
            <a:ext cx="0" cy="0"/>
          </a:xfrm>
          <a:prstGeom prst="line">
            <a:avLst/>
          </a:prstGeom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13" name="Line 16"/>
          <p:cNvSpPr/>
          <p:nvPr/>
        </p:nvSpPr>
        <p:spPr>
          <a:xfrm>
            <a:off x="7924680" y="1523880"/>
            <a:ext cx="0" cy="4800600"/>
          </a:xfrm>
          <a:prstGeom prst="line">
            <a:avLst/>
          </a:prstGeom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14" name="Text Box 17"/>
          <p:cNvSpPr/>
          <p:nvPr/>
        </p:nvSpPr>
        <p:spPr>
          <a:xfrm>
            <a:off x="52578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东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15" name="Text Box 18"/>
          <p:cNvSpPr/>
          <p:nvPr/>
        </p:nvSpPr>
        <p:spPr>
          <a:xfrm>
            <a:off x="419112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南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16" name="Text Box 19"/>
          <p:cNvSpPr/>
          <p:nvPr/>
        </p:nvSpPr>
        <p:spPr>
          <a:xfrm>
            <a:off x="32004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西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17" name="Text Box 20"/>
          <p:cNvSpPr/>
          <p:nvPr/>
        </p:nvSpPr>
        <p:spPr>
          <a:xfrm>
            <a:off x="4191120" y="22096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18" name="Text Box 21"/>
          <p:cNvSpPr/>
          <p:nvPr/>
        </p:nvSpPr>
        <p:spPr>
          <a:xfrm>
            <a:off x="419112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北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19" name="Text Box 23"/>
          <p:cNvSpPr/>
          <p:nvPr/>
        </p:nvSpPr>
        <p:spPr>
          <a:xfrm>
            <a:off x="3581280" y="2971800"/>
            <a:ext cx="1752840" cy="1572120"/>
          </a:xfrm>
          <a:prstGeom prst="rect">
            <a:avLst/>
          </a:prstGeom>
          <a:noFill/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20" name="Line 24"/>
          <p:cNvSpPr/>
          <p:nvPr/>
        </p:nvSpPr>
        <p:spPr>
          <a:xfrm>
            <a:off x="4267080" y="2971800"/>
            <a:ext cx="0" cy="304920"/>
          </a:xfrm>
          <a:prstGeom prst="line">
            <a:avLst/>
          </a:prstGeom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21" name="Line 25"/>
          <p:cNvSpPr/>
          <p:nvPr/>
        </p:nvSpPr>
        <p:spPr>
          <a:xfrm>
            <a:off x="4648320" y="2971800"/>
            <a:ext cx="0" cy="304920"/>
          </a:xfrm>
          <a:prstGeom prst="line">
            <a:avLst/>
          </a:prstGeom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22" name="Line 26"/>
          <p:cNvSpPr/>
          <p:nvPr/>
        </p:nvSpPr>
        <p:spPr>
          <a:xfrm>
            <a:off x="4267080" y="3048120"/>
            <a:ext cx="381240" cy="0"/>
          </a:xfrm>
          <a:prstGeom prst="line">
            <a:avLst/>
          </a:prstGeom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23" name="Line 27"/>
          <p:cNvSpPr/>
          <p:nvPr/>
        </p:nvSpPr>
        <p:spPr>
          <a:xfrm>
            <a:off x="4267080" y="3200400"/>
            <a:ext cx="381240" cy="0"/>
          </a:xfrm>
          <a:prstGeom prst="line">
            <a:avLst/>
          </a:prstGeom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24" name="Line 28"/>
          <p:cNvSpPr/>
          <p:nvPr/>
        </p:nvSpPr>
        <p:spPr>
          <a:xfrm flipH="1">
            <a:off x="6477120" y="1066680"/>
            <a:ext cx="761760" cy="0"/>
          </a:xfrm>
          <a:prstGeom prst="line">
            <a:avLst/>
          </a:prstGeom>
          <a:ln cap="sq" w="7632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25" name="Line 29"/>
          <p:cNvSpPr/>
          <p:nvPr/>
        </p:nvSpPr>
        <p:spPr>
          <a:xfrm flipH="1">
            <a:off x="5562720" y="1066680"/>
            <a:ext cx="761760" cy="0"/>
          </a:xfrm>
          <a:prstGeom prst="line">
            <a:avLst/>
          </a:prstGeom>
          <a:ln cap="sq" w="7632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26" name="Line 30"/>
          <p:cNvSpPr/>
          <p:nvPr/>
        </p:nvSpPr>
        <p:spPr>
          <a:xfrm flipH="1">
            <a:off x="4572000" y="1066680"/>
            <a:ext cx="838080" cy="0"/>
          </a:xfrm>
          <a:prstGeom prst="line">
            <a:avLst/>
          </a:prstGeom>
          <a:ln cap="sq" w="7632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27" name="Line 31"/>
          <p:cNvSpPr/>
          <p:nvPr/>
        </p:nvSpPr>
        <p:spPr>
          <a:xfrm>
            <a:off x="4419720" y="1066680"/>
            <a:ext cx="0" cy="762120"/>
          </a:xfrm>
          <a:prstGeom prst="line">
            <a:avLst/>
          </a:prstGeom>
          <a:ln cap="sq" w="7632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28" name="Line 32"/>
          <p:cNvSpPr/>
          <p:nvPr/>
        </p:nvSpPr>
        <p:spPr>
          <a:xfrm>
            <a:off x="4419720" y="2057400"/>
            <a:ext cx="0" cy="609480"/>
          </a:xfrm>
          <a:prstGeom prst="line">
            <a:avLst/>
          </a:prstGeom>
          <a:ln cap="sq" w="7632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29" name="Oval 34"/>
          <p:cNvSpPr/>
          <p:nvPr/>
        </p:nvSpPr>
        <p:spPr>
          <a:xfrm>
            <a:off x="7315200" y="914400"/>
            <a:ext cx="304920" cy="30492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30" name="Oval 36"/>
          <p:cNvSpPr/>
          <p:nvPr/>
        </p:nvSpPr>
        <p:spPr>
          <a:xfrm>
            <a:off x="4876920" y="2286000"/>
            <a:ext cx="304560" cy="30492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31" name="Text Box 37"/>
          <p:cNvSpPr/>
          <p:nvPr/>
        </p:nvSpPr>
        <p:spPr>
          <a:xfrm>
            <a:off x="5181480" y="2209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纪念碑台阶前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32" name="Oval 40"/>
          <p:cNvSpPr/>
          <p:nvPr/>
        </p:nvSpPr>
        <p:spPr>
          <a:xfrm>
            <a:off x="5715000" y="3581280"/>
            <a:ext cx="304920" cy="30492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33" name="Text Box 41"/>
          <p:cNvSpPr/>
          <p:nvPr/>
        </p:nvSpPr>
        <p:spPr>
          <a:xfrm>
            <a:off x="6019920" y="3505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第二层平台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34" name="Text Box 42"/>
          <p:cNvSpPr/>
          <p:nvPr/>
        </p:nvSpPr>
        <p:spPr>
          <a:xfrm>
            <a:off x="7543800" y="838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东长安街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35" name="Text Box 43"/>
          <p:cNvSpPr/>
          <p:nvPr/>
        </p:nvSpPr>
        <p:spPr>
          <a:xfrm>
            <a:off x="7943040" y="2514600"/>
            <a:ext cx="911880" cy="1371600"/>
          </a:xfrm>
          <a:prstGeom prst="rect">
            <a:avLst/>
          </a:prstGeom>
          <a:noFill/>
          <a:ln cap="sq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政协礼堂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36" name="Text Box 46"/>
          <p:cNvSpPr/>
          <p:nvPr/>
        </p:nvSpPr>
        <p:spPr>
          <a:xfrm>
            <a:off x="8229600" y="1371600"/>
            <a:ext cx="609480" cy="520560"/>
          </a:xfrm>
          <a:prstGeom prst="rect">
            <a:avLst/>
          </a:prstGeom>
          <a:noFill/>
          <a:ln cap="sq"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远</a:t>
            </a:r>
            <a:endParaRPr b="1" lang="en-US" sz="28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37" name="Text Box 47"/>
          <p:cNvSpPr/>
          <p:nvPr/>
        </p:nvSpPr>
        <p:spPr>
          <a:xfrm>
            <a:off x="3429000" y="2057400"/>
            <a:ext cx="685800" cy="520560"/>
          </a:xfrm>
          <a:prstGeom prst="rect">
            <a:avLst/>
          </a:prstGeom>
          <a:noFill/>
          <a:ln cap="sq"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近</a:t>
            </a:r>
            <a:endParaRPr b="1" lang="en-US" sz="28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38" name="Text Box 48"/>
          <p:cNvSpPr/>
          <p:nvPr/>
        </p:nvSpPr>
        <p:spPr>
          <a:xfrm>
            <a:off x="2209680" y="51814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按照由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远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到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近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空间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顺序介绍纪念碑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0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Times New Roman"/>
              </a:rPr>
              <a:t>课文分析（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6——10</a:t>
            </a:r>
            <a:r>
              <a:rPr b="0" lang="zh-CN" sz="4800" spc="-1" strike="noStrike">
                <a:solidFill>
                  <a:srgbClr val="003366"/>
                </a:solidFill>
                <a:latin typeface="Times New Roman"/>
              </a:rPr>
              <a:t>节）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0" name="Text Box 3"/>
          <p:cNvSpPr/>
          <p:nvPr/>
        </p:nvSpPr>
        <p:spPr>
          <a:xfrm>
            <a:off x="3221280" y="2511360"/>
            <a:ext cx="302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808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这一部分重点介绍了哪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座浮雕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？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41" name="Text Box 4"/>
          <p:cNvSpPr/>
          <p:nvPr/>
        </p:nvSpPr>
        <p:spPr>
          <a:xfrm>
            <a:off x="2133720" y="3581280"/>
            <a:ext cx="444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作者是按什么顺序来介绍的？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42" name="Text Box 6"/>
          <p:cNvSpPr/>
          <p:nvPr/>
        </p:nvSpPr>
        <p:spPr>
          <a:xfrm>
            <a:off x="3998160" y="144792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分组讨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Picture 2" descr="b01"/>
          <p:cNvPicPr/>
          <p:nvPr/>
        </p:nvPicPr>
        <p:blipFill>
          <a:blip r:embed="rId1"/>
          <a:stretch/>
        </p:blipFill>
        <p:spPr>
          <a:xfrm>
            <a:off x="457200" y="304920"/>
            <a:ext cx="3276720" cy="4724280"/>
          </a:xfrm>
          <a:prstGeom prst="rect">
            <a:avLst/>
          </a:prstGeom>
          <a:ln w="0">
            <a:noFill/>
          </a:ln>
        </p:spPr>
      </p:pic>
      <p:sp>
        <p:nvSpPr>
          <p:cNvPr id="944" name="Text Box 3"/>
          <p:cNvSpPr/>
          <p:nvPr/>
        </p:nvSpPr>
        <p:spPr>
          <a:xfrm>
            <a:off x="1022760" y="5029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人民英雄纪念碑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45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graphicFrame>
        <p:nvGraphicFramePr>
          <p:cNvPr id="946" name="Object 5"/>
          <p:cNvGraphicFramePr/>
          <p:nvPr/>
        </p:nvGraphicFramePr>
        <p:xfrm>
          <a:off x="3733920" y="228600"/>
          <a:ext cx="5029200" cy="31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228600"/>
                    <a:ext cx="50292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8" name="Text Box 6"/>
          <p:cNvSpPr/>
          <p:nvPr/>
        </p:nvSpPr>
        <p:spPr>
          <a:xfrm>
            <a:off x="4383360" y="1981080"/>
            <a:ext cx="353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销毁鸦片烟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839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年</a:t>
            </a:r>
            <a:endParaRPr b="1" lang="en-US" sz="4000" spc="-1" strike="noStrike">
              <a:solidFill>
                <a:srgbClr val="666633"/>
              </a:solidFill>
              <a:latin typeface="Times New Roman"/>
            </a:endParaRPr>
          </a:p>
        </p:txBody>
      </p:sp>
      <p:graphicFrame>
        <p:nvGraphicFramePr>
          <p:cNvPr id="949" name="Object 8"/>
          <p:cNvGraphicFramePr/>
          <p:nvPr/>
        </p:nvGraphicFramePr>
        <p:xfrm>
          <a:off x="3809880" y="3657600"/>
          <a:ext cx="4953240" cy="266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0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3657600"/>
                    <a:ext cx="49532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1" name="Text Box 9"/>
          <p:cNvSpPr/>
          <p:nvPr/>
        </p:nvSpPr>
        <p:spPr>
          <a:xfrm>
            <a:off x="4845960" y="5334120"/>
            <a:ext cx="30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金田起义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85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52" name="Text Box 10"/>
          <p:cNvSpPr/>
          <p:nvPr/>
        </p:nvSpPr>
        <p:spPr>
          <a:xfrm>
            <a:off x="1297080" y="5562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（东）</a:t>
            </a:r>
            <a:endParaRPr b="1" lang="en-US" sz="40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Object 2"/>
          <p:cNvGraphicFramePr/>
          <p:nvPr/>
        </p:nvGraphicFramePr>
        <p:xfrm>
          <a:off x="0" y="184320"/>
          <a:ext cx="9144000" cy="66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4320"/>
                    <a:ext cx="9144000" cy="66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9" name="Text Box 3"/>
          <p:cNvSpPr/>
          <p:nvPr/>
        </p:nvSpPr>
        <p:spPr>
          <a:xfrm>
            <a:off x="1905120" y="1459080"/>
            <a:ext cx="5029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00"/>
                </a:solidFill>
                <a:latin typeface="Times New Roman"/>
                <a:ea typeface="仿宋_GB2312"/>
              </a:rPr>
              <a:t>体裁：</a:t>
            </a:r>
            <a:endParaRPr b="1" lang="en-US" sz="72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Times New Roman"/>
              </a:rPr>
              <a:t>              </a:t>
            </a:r>
            <a:endParaRPr b="1" lang="en-US" sz="48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790" name="Text Box 4"/>
          <p:cNvSpPr/>
          <p:nvPr/>
        </p:nvSpPr>
        <p:spPr>
          <a:xfrm>
            <a:off x="4497480" y="25909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ff"/>
                </a:solidFill>
                <a:latin typeface="Times New Roman"/>
              </a:rPr>
              <a:t>说明文</a:t>
            </a: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791" name="Text Box 5"/>
          <p:cNvSpPr/>
          <p:nvPr/>
        </p:nvSpPr>
        <p:spPr>
          <a:xfrm>
            <a:off x="3848760" y="38862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Times New Roman"/>
              </a:rPr>
              <a:t>（事物说明文）</a:t>
            </a:r>
            <a:endParaRPr b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Picture 1026" descr="b01"/>
          <p:cNvPicPr/>
          <p:nvPr/>
        </p:nvPicPr>
        <p:blipFill>
          <a:blip r:embed="rId1"/>
          <a:stretch/>
        </p:blipFill>
        <p:spPr>
          <a:xfrm>
            <a:off x="457200" y="304920"/>
            <a:ext cx="3276720" cy="4724280"/>
          </a:xfrm>
          <a:prstGeom prst="rect">
            <a:avLst/>
          </a:prstGeom>
          <a:ln w="0">
            <a:noFill/>
          </a:ln>
        </p:spPr>
      </p:pic>
      <p:sp>
        <p:nvSpPr>
          <p:cNvPr id="954" name="Text Box 1028"/>
          <p:cNvSpPr/>
          <p:nvPr/>
        </p:nvSpPr>
        <p:spPr>
          <a:xfrm>
            <a:off x="4845960" y="1905120"/>
            <a:ext cx="30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武昌起义   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1911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年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55" name="Text Box 1030"/>
          <p:cNvSpPr/>
          <p:nvPr/>
        </p:nvSpPr>
        <p:spPr>
          <a:xfrm>
            <a:off x="4653720" y="3352680"/>
            <a:ext cx="34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五四爱国运动  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1919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年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56" name="Text Box 1032"/>
          <p:cNvSpPr/>
          <p:nvPr/>
        </p:nvSpPr>
        <p:spPr>
          <a:xfrm>
            <a:off x="4617360" y="5638680"/>
            <a:ext cx="30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五卅运动   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1925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年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57" name="Text Box 1033"/>
          <p:cNvSpPr/>
          <p:nvPr/>
        </p:nvSpPr>
        <p:spPr>
          <a:xfrm>
            <a:off x="870480" y="5029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人民英雄纪念碑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58" name="Text Box 1034"/>
          <p:cNvSpPr/>
          <p:nvPr/>
        </p:nvSpPr>
        <p:spPr>
          <a:xfrm>
            <a:off x="1440720" y="5526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Times New Roman"/>
              </a:rPr>
              <a:t>（南）</a:t>
            </a:r>
            <a:endParaRPr b="1" lang="en-US" sz="40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959" name="Picture 1035" descr=""/>
          <p:cNvPicPr/>
          <p:nvPr/>
        </p:nvPicPr>
        <p:blipFill>
          <a:blip r:embed="rId2"/>
          <a:stretch/>
        </p:blipFill>
        <p:spPr>
          <a:xfrm>
            <a:off x="3733920" y="304920"/>
            <a:ext cx="5181480" cy="21333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036" descr=""/>
          <p:cNvPicPr/>
          <p:nvPr/>
        </p:nvPicPr>
        <p:blipFill>
          <a:blip r:embed="rId3"/>
          <a:stretch/>
        </p:blipFill>
        <p:spPr>
          <a:xfrm>
            <a:off x="3733920" y="2514600"/>
            <a:ext cx="5181480" cy="18288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037" descr=""/>
          <p:cNvPicPr/>
          <p:nvPr/>
        </p:nvPicPr>
        <p:blipFill>
          <a:blip r:embed="rId4"/>
          <a:stretch/>
        </p:blipFill>
        <p:spPr>
          <a:xfrm>
            <a:off x="3733920" y="4343400"/>
            <a:ext cx="5181480" cy="2286000"/>
          </a:xfrm>
          <a:prstGeom prst="rect">
            <a:avLst/>
          </a:prstGeom>
          <a:ln w="0">
            <a:noFill/>
          </a:ln>
        </p:spPr>
      </p:pic>
      <p:sp>
        <p:nvSpPr>
          <p:cNvPr id="962" name="Text Box 11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2" descr="b01"/>
          <p:cNvPicPr/>
          <p:nvPr/>
        </p:nvPicPr>
        <p:blipFill>
          <a:blip r:embed="rId1"/>
          <a:stretch/>
        </p:blipFill>
        <p:spPr>
          <a:xfrm>
            <a:off x="457200" y="304920"/>
            <a:ext cx="3276720" cy="4724280"/>
          </a:xfrm>
          <a:prstGeom prst="rect">
            <a:avLst/>
          </a:prstGeom>
          <a:ln w="0">
            <a:noFill/>
          </a:ln>
        </p:spPr>
      </p:pic>
      <p:sp>
        <p:nvSpPr>
          <p:cNvPr id="964" name="Text Box 3"/>
          <p:cNvSpPr/>
          <p:nvPr/>
        </p:nvSpPr>
        <p:spPr>
          <a:xfrm>
            <a:off x="641880" y="51055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人民英雄纪念碑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65" name="Text Box 4"/>
          <p:cNvSpPr/>
          <p:nvPr/>
        </p:nvSpPr>
        <p:spPr>
          <a:xfrm>
            <a:off x="1304280" y="57913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（西）</a:t>
            </a:r>
            <a:endParaRPr b="1" lang="en-US" sz="4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66" name="Text Box 6"/>
          <p:cNvSpPr/>
          <p:nvPr/>
        </p:nvSpPr>
        <p:spPr>
          <a:xfrm>
            <a:off x="4772520" y="2438280"/>
            <a:ext cx="29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南昌起义  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1927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年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67" name="Text Box 8"/>
          <p:cNvSpPr/>
          <p:nvPr/>
        </p:nvSpPr>
        <p:spPr>
          <a:xfrm>
            <a:off x="5609160" y="4648320"/>
            <a:ext cx="199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抗日敌后游击战 </a:t>
            </a:r>
            <a:endParaRPr b="1" lang="en-US" sz="32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抗日战争时期</a:t>
            </a:r>
            <a:endParaRPr b="1" lang="en-US" sz="32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968" name="Picture 9" descr=""/>
          <p:cNvPicPr/>
          <p:nvPr/>
        </p:nvPicPr>
        <p:blipFill>
          <a:blip r:embed="rId2"/>
          <a:stretch/>
        </p:blipFill>
        <p:spPr>
          <a:xfrm>
            <a:off x="3657600" y="533520"/>
            <a:ext cx="5334120" cy="26668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0" descr=""/>
          <p:cNvPicPr/>
          <p:nvPr/>
        </p:nvPicPr>
        <p:blipFill>
          <a:blip r:embed="rId3"/>
          <a:stretch/>
        </p:blipFill>
        <p:spPr>
          <a:xfrm>
            <a:off x="3581280" y="3352680"/>
            <a:ext cx="53341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Picture 2" descr="b01"/>
          <p:cNvPicPr/>
          <p:nvPr/>
        </p:nvPicPr>
        <p:blipFill>
          <a:blip r:embed="rId1"/>
          <a:stretch/>
        </p:blipFill>
        <p:spPr>
          <a:xfrm>
            <a:off x="457200" y="609480"/>
            <a:ext cx="3276720" cy="472464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3"/>
          <p:cNvSpPr/>
          <p:nvPr/>
        </p:nvSpPr>
        <p:spPr>
          <a:xfrm>
            <a:off x="641880" y="54100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人民英雄纪念碑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72" name="Text Box 4"/>
          <p:cNvSpPr/>
          <p:nvPr/>
        </p:nvSpPr>
        <p:spPr>
          <a:xfrm>
            <a:off x="1106280" y="60958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（北）</a:t>
            </a:r>
            <a:endParaRPr b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73" name="Text Box 6"/>
          <p:cNvSpPr/>
          <p:nvPr/>
        </p:nvSpPr>
        <p:spPr>
          <a:xfrm>
            <a:off x="4324680" y="1523880"/>
            <a:ext cx="4533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胜利渡长江 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放战争时期</a:t>
            </a:r>
            <a:endParaRPr b="1" lang="en-US" sz="28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974" name="Picture 7" descr="支援前线"/>
          <p:cNvPicPr/>
          <p:nvPr/>
        </p:nvPicPr>
        <p:blipFill>
          <a:blip r:embed="rId2"/>
          <a:stretch/>
        </p:blipFill>
        <p:spPr>
          <a:xfrm>
            <a:off x="3809880" y="31240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8" descr="欢迎人民解放军"/>
          <p:cNvPicPr/>
          <p:nvPr/>
        </p:nvPicPr>
        <p:blipFill>
          <a:blip r:embed="rId3"/>
          <a:stretch/>
        </p:blipFill>
        <p:spPr>
          <a:xfrm>
            <a:off x="6400800" y="312408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976" name="Text Box 9"/>
          <p:cNvSpPr/>
          <p:nvPr/>
        </p:nvSpPr>
        <p:spPr>
          <a:xfrm>
            <a:off x="3809880" y="55627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热烈支援前线</a:t>
            </a:r>
            <a:endParaRPr b="1" lang="en-US" sz="28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77" name="Text Box 10"/>
          <p:cNvSpPr/>
          <p:nvPr/>
        </p:nvSpPr>
        <p:spPr>
          <a:xfrm>
            <a:off x="7147080" y="5562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欢迎解放军</a:t>
            </a:r>
            <a:endParaRPr b="1" lang="en-US" sz="28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978" name="Picture 11" descr=""/>
          <p:cNvPicPr/>
          <p:nvPr/>
        </p:nvPicPr>
        <p:blipFill>
          <a:blip r:embed="rId4"/>
          <a:stretch/>
        </p:blipFill>
        <p:spPr>
          <a:xfrm>
            <a:off x="3809880" y="533520"/>
            <a:ext cx="5334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Text Box 2"/>
          <p:cNvSpPr/>
          <p:nvPr/>
        </p:nvSpPr>
        <p:spPr>
          <a:xfrm>
            <a:off x="4687920" y="8380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Times New Roman"/>
              </a:rPr>
              <a:t>这一部分的说明顺序：</a:t>
            </a:r>
            <a:endParaRPr b="1" lang="en-US" sz="5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80" name="Text Box 3"/>
          <p:cNvSpPr/>
          <p:nvPr/>
        </p:nvSpPr>
        <p:spPr>
          <a:xfrm>
            <a:off x="2109240" y="2438280"/>
            <a:ext cx="556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1  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从东到南到西再到北的空间顺序</a:t>
            </a:r>
            <a:endParaRPr b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1836360" y="3505320"/>
            <a:ext cx="517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2    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从近代再到现代的时间顺序</a:t>
            </a:r>
            <a:endParaRPr b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Text Box 2"/>
          <p:cNvSpPr/>
          <p:nvPr/>
        </p:nvSpPr>
        <p:spPr>
          <a:xfrm>
            <a:off x="2957760" y="9208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Times New Roman"/>
              </a:rPr>
              <a:t>课文小结</a:t>
            </a: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83" name="Text Box 3"/>
          <p:cNvSpPr/>
          <p:nvPr/>
        </p:nvSpPr>
        <p:spPr>
          <a:xfrm>
            <a:off x="2515680" y="244008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本文说明的顺序是：</a:t>
            </a:r>
            <a:endParaRPr b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84" name="Text Box 4"/>
          <p:cNvSpPr/>
          <p:nvPr/>
        </p:nvSpPr>
        <p:spPr>
          <a:xfrm>
            <a:off x="2028960" y="3540240"/>
            <a:ext cx="48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33"/>
                </a:solidFill>
                <a:latin typeface="Times New Roman"/>
              </a:rPr>
              <a:t>一、从远到近的空间顺序（</a:t>
            </a:r>
            <a:r>
              <a:rPr b="1" lang="en-US" sz="3600" spc="-1" strike="noStrike">
                <a:solidFill>
                  <a:srgbClr val="666633"/>
                </a:solidFill>
                <a:latin typeface="Times New Roman"/>
              </a:rPr>
              <a:t>2-5</a:t>
            </a:r>
            <a:r>
              <a:rPr b="1" lang="zh-CN" sz="3600" spc="-1" strike="noStrike">
                <a:solidFill>
                  <a:srgbClr val="666633"/>
                </a:solidFill>
                <a:latin typeface="Times New Roman"/>
              </a:rPr>
              <a:t>节）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85" name="Text Box 5"/>
          <p:cNvSpPr/>
          <p:nvPr/>
        </p:nvSpPr>
        <p:spPr>
          <a:xfrm>
            <a:off x="2090160" y="4267080"/>
            <a:ext cx="467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Times New Roman"/>
              </a:rPr>
              <a:t>二、从东到南到西再到北的空间顺序</a:t>
            </a:r>
            <a:endParaRPr b="1" lang="en-US" sz="32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666633"/>
                </a:solidFill>
                <a:latin typeface="Times New Roman"/>
              </a:rPr>
              <a:t>与从近代到现代的时间顺序相结合</a:t>
            </a:r>
            <a:endParaRPr b="1" lang="en-US" sz="32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666633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6-10</a:t>
            </a:r>
            <a:r>
              <a:rPr b="1" lang="zh-CN" sz="3200" spc="-1" strike="noStrike">
                <a:solidFill>
                  <a:srgbClr val="666633"/>
                </a:solidFill>
                <a:latin typeface="Times New Roman"/>
              </a:rPr>
              <a:t>节）</a:t>
            </a:r>
            <a:endParaRPr b="1" lang="en-US" sz="32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86" name="AutoShape 7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2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828800" y="1142640"/>
            <a:ext cx="6921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6633"/>
                </a:solidFill>
                <a:latin typeface="Times New Roman"/>
                <a:ea typeface="幼圆"/>
              </a:rPr>
              <a:t>组织交流</a:t>
            </a:r>
            <a:br>
              <a:rPr sz="4800"/>
            </a:br>
            <a:br>
              <a:rPr sz="6000"/>
            </a:b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467676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人民英雄纪念碑要纪念的英雄究竟是哪些人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9" name="Text Box 5"/>
          <p:cNvSpPr/>
          <p:nvPr/>
        </p:nvSpPr>
        <p:spPr>
          <a:xfrm>
            <a:off x="2273040" y="14479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朗读第四段的碑文，思考</a:t>
            </a:r>
            <a:r>
              <a:rPr b="1" lang="zh-CN" sz="2400" spc="-1" strike="noStrike">
                <a:solidFill>
                  <a:srgbClr val="666633"/>
                </a:solidFill>
                <a:latin typeface="Times New Roman"/>
              </a:rPr>
              <a:t>：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90" name="Text Box 6"/>
          <p:cNvSpPr/>
          <p:nvPr/>
        </p:nvSpPr>
        <p:spPr>
          <a:xfrm>
            <a:off x="762120" y="4195800"/>
            <a:ext cx="506412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烈士们已经远离我们而</a:t>
            </a:r>
            <a:endParaRPr b="1" lang="en-US" sz="32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去了，作为新时期的青年，</a:t>
            </a:r>
            <a:endParaRPr b="1" lang="en-US" sz="32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我们能做些什么？</a:t>
            </a:r>
            <a:endParaRPr b="1" lang="en-US" sz="32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991" name="Picture 8" descr="图片2"/>
          <p:cNvPicPr/>
          <p:nvPr/>
        </p:nvPicPr>
        <p:blipFill>
          <a:blip r:embed="rId1"/>
          <a:stretch/>
        </p:blipFill>
        <p:spPr>
          <a:xfrm>
            <a:off x="5973840" y="2276640"/>
            <a:ext cx="3062160" cy="44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5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Text Box 2"/>
          <p:cNvSpPr/>
          <p:nvPr/>
        </p:nvSpPr>
        <p:spPr>
          <a:xfrm>
            <a:off x="3808440" y="539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6633"/>
                </a:solidFill>
                <a:latin typeface="Times New Roman"/>
              </a:rPr>
              <a:t>能力训练</a:t>
            </a: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93" name="Text Box 3"/>
          <p:cNvSpPr/>
          <p:nvPr/>
        </p:nvSpPr>
        <p:spPr>
          <a:xfrm>
            <a:off x="2380680" y="2462040"/>
            <a:ext cx="49028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Times New Roman"/>
              </a:rPr>
              <a:t>一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如果要在纪念碑 上补充建国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以来的人民英雄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你认为应该增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加哪些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?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94" name="Text Box 4"/>
          <p:cNvSpPr/>
          <p:nvPr/>
        </p:nvSpPr>
        <p:spPr>
          <a:xfrm>
            <a:off x="2625840" y="4572000"/>
            <a:ext cx="481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Times New Roman"/>
              </a:rPr>
              <a:t>二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666633"/>
                </a:solidFill>
                <a:latin typeface="Times New Roman"/>
              </a:rPr>
              <a:t>请你结合平面图向来宾们简单</a:t>
            </a:r>
            <a:endParaRPr b="1" lang="en-US" sz="40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666633"/>
                </a:solidFill>
                <a:latin typeface="Times New Roman"/>
              </a:rPr>
              <a:t>介绍我们的龙山中学 </a:t>
            </a:r>
            <a:endParaRPr b="1" lang="en-US" sz="40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Picture 2" descr="龙山中学平面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6" name="Text Box 3"/>
          <p:cNvSpPr/>
          <p:nvPr/>
        </p:nvSpPr>
        <p:spPr>
          <a:xfrm>
            <a:off x="6328440" y="4471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科学楼</a:t>
            </a:r>
            <a:endParaRPr b="1" lang="en-US" sz="2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97" name="Text Box 4"/>
          <p:cNvSpPr/>
          <p:nvPr/>
        </p:nvSpPr>
        <p:spPr>
          <a:xfrm>
            <a:off x="5625360" y="243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主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98" name="Text Box 5"/>
          <p:cNvSpPr/>
          <p:nvPr/>
        </p:nvSpPr>
        <p:spPr>
          <a:xfrm>
            <a:off x="5701320" y="4343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道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99" name="Text Box 6"/>
          <p:cNvSpPr/>
          <p:nvPr/>
        </p:nvSpPr>
        <p:spPr>
          <a:xfrm>
            <a:off x="8242200" y="29887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生物园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000" name="Text Box 8"/>
          <p:cNvSpPr/>
          <p:nvPr/>
        </p:nvSpPr>
        <p:spPr>
          <a:xfrm>
            <a:off x="6324480" y="2895480"/>
            <a:ext cx="8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地理园</a:t>
            </a:r>
            <a:endParaRPr b="1" lang="en-US" sz="18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001" name="Text Box 9"/>
          <p:cNvSpPr/>
          <p:nvPr/>
        </p:nvSpPr>
        <p:spPr>
          <a:xfrm>
            <a:off x="1658880" y="3159720"/>
            <a:ext cx="54612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实  验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002" name="Text Box 10"/>
          <p:cNvSpPr/>
          <p:nvPr/>
        </p:nvSpPr>
        <p:spPr>
          <a:xfrm>
            <a:off x="2257920" y="3678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楼</a:t>
            </a:r>
            <a:endParaRPr b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003" name="Text Box 11"/>
          <p:cNvSpPr/>
          <p:nvPr/>
        </p:nvSpPr>
        <p:spPr>
          <a:xfrm>
            <a:off x="4636800" y="441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教学楼</a:t>
            </a:r>
            <a:endParaRPr b="1" lang="en-US" sz="18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004" name="Text Box 12"/>
          <p:cNvSpPr/>
          <p:nvPr/>
        </p:nvSpPr>
        <p:spPr>
          <a:xfrm>
            <a:off x="4419720" y="3429000"/>
            <a:ext cx="87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教学楼</a:t>
            </a:r>
            <a:endParaRPr b="1" lang="en-US" sz="18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005" name="Text Box 13"/>
          <p:cNvSpPr/>
          <p:nvPr/>
        </p:nvSpPr>
        <p:spPr>
          <a:xfrm>
            <a:off x="7456320" y="5105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教学楼</a:t>
            </a:r>
            <a:endParaRPr b="1" lang="en-US" sz="18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006" name="Text Box 14"/>
          <p:cNvSpPr/>
          <p:nvPr/>
        </p:nvSpPr>
        <p:spPr>
          <a:xfrm>
            <a:off x="265572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教学楼</a:t>
            </a:r>
            <a:endParaRPr b="1" lang="en-US" sz="18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007" name="Text Box 15"/>
          <p:cNvSpPr/>
          <p:nvPr/>
        </p:nvSpPr>
        <p:spPr>
          <a:xfrm>
            <a:off x="6389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教学楼</a:t>
            </a:r>
            <a:endParaRPr b="1" lang="en-US" sz="18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Text Box 2"/>
          <p:cNvSpPr/>
          <p:nvPr/>
        </p:nvSpPr>
        <p:spPr>
          <a:xfrm>
            <a:off x="2990880" y="69228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6633"/>
                </a:solidFill>
                <a:latin typeface="Times New Roman"/>
              </a:rPr>
              <a:t>课后学习与作业</a:t>
            </a: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009" name="Text Box 3"/>
          <p:cNvSpPr/>
          <p:nvPr/>
        </p:nvSpPr>
        <p:spPr>
          <a:xfrm>
            <a:off x="2275560" y="2643120"/>
            <a:ext cx="536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到网上搜索更多有关人民英雄纪念碑的资料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小组</a:t>
            </a:r>
            <a:endParaRPr b="1" lang="en-US" sz="28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交流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把收集的资料出一期板报</a:t>
            </a:r>
            <a:endParaRPr b="1" lang="en-US" sz="28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010" name="Text Box 4"/>
          <p:cNvSpPr/>
          <p:nvPr/>
        </p:nvSpPr>
        <p:spPr>
          <a:xfrm>
            <a:off x="2277720" y="3886200"/>
            <a:ext cx="521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6666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33"/>
                </a:solidFill>
                <a:latin typeface="Times New Roman"/>
              </a:rPr>
              <a:t>课后请收集为国捐躯的顺德烈士的事迹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,   </a:t>
            </a:r>
            <a:r>
              <a:rPr b="1" lang="zh-CN" sz="2800" spc="-1" strike="noStrike">
                <a:solidFill>
                  <a:srgbClr val="666633"/>
                </a:solidFill>
                <a:latin typeface="Times New Roman"/>
              </a:rPr>
              <a:t>并讲</a:t>
            </a:r>
            <a:endParaRPr b="1" lang="en-US" sz="2800" spc="-1" strike="noStrike">
              <a:solidFill>
                <a:srgbClr val="666633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33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666633"/>
                </a:solidFill>
                <a:latin typeface="Times New Roman"/>
              </a:rPr>
              <a:t>给家人或同学听</a:t>
            </a:r>
            <a:endParaRPr b="1" lang="en-US" sz="28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011" name="Text Box 5"/>
          <p:cNvSpPr/>
          <p:nvPr/>
        </p:nvSpPr>
        <p:spPr>
          <a:xfrm>
            <a:off x="1106640" y="611820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0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之家整理发布，更多免费</a:t>
            </a:r>
            <a:r>
              <a:rPr b="0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0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0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1" lang="en-US" sz="14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2"/>
          <p:cNvSpPr/>
          <p:nvPr/>
        </p:nvSpPr>
        <p:spPr>
          <a:xfrm>
            <a:off x="1905120" y="762120"/>
            <a:ext cx="44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3333ff"/>
                </a:solidFill>
                <a:latin typeface="Times New Roman"/>
              </a:rPr>
              <a:t>教学目标</a:t>
            </a:r>
            <a:endParaRPr b="1" lang="en-US" sz="5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1219320" y="26668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整体感知课文，理清课文思路；</a:t>
            </a:r>
            <a:endParaRPr b="1" lang="en-US" sz="28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794" name="Text Box 5"/>
          <p:cNvSpPr/>
          <p:nvPr/>
        </p:nvSpPr>
        <p:spPr>
          <a:xfrm>
            <a:off x="1219320" y="3352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3333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了解课文的主要说明顺序；</a:t>
            </a:r>
            <a:endParaRPr b="1" lang="en-US" sz="28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795" name="Text Box 7"/>
          <p:cNvSpPr/>
          <p:nvPr/>
        </p:nvSpPr>
        <p:spPr>
          <a:xfrm>
            <a:off x="1219320" y="426708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.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革命先烈的丰功伟绩和革命精神</a:t>
            </a:r>
            <a:endParaRPr b="1" lang="en-US" sz="28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2"/>
          <p:cNvSpPr/>
          <p:nvPr/>
        </p:nvSpPr>
        <p:spPr>
          <a:xfrm>
            <a:off x="1676520" y="7621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3333ff"/>
                </a:solidFill>
                <a:latin typeface="Times New Roman"/>
              </a:rPr>
              <a:t>教学步骤</a:t>
            </a:r>
            <a:endParaRPr b="1" lang="en-US" sz="5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1752480" y="2743200"/>
            <a:ext cx="3276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1.</a:t>
            </a:r>
            <a:r>
              <a:rPr b="0" lang="zh-CN" sz="4400" spc="-1" strike="noStrike" u="sng">
                <a:solidFill>
                  <a:srgbClr val="003366"/>
                </a:solidFill>
                <a:uFillTx/>
                <a:latin typeface="Times New Roman"/>
                <a:hlinkClick r:id="rId1" action="ppaction://hlinksldjump"/>
              </a:rPr>
              <a:t>正音正字</a:t>
            </a:r>
            <a:endParaRPr b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798" name="Text Box 5"/>
          <p:cNvSpPr/>
          <p:nvPr/>
        </p:nvSpPr>
        <p:spPr>
          <a:xfrm>
            <a:off x="1752480" y="3733920"/>
            <a:ext cx="63248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2.</a:t>
            </a:r>
            <a:r>
              <a:rPr b="0" lang="zh-CN" sz="4400" spc="-1" strike="noStrike" u="sng">
                <a:solidFill>
                  <a:srgbClr val="003366"/>
                </a:solidFill>
                <a:uFillTx/>
                <a:latin typeface="Times New Roman"/>
                <a:hlinkClick r:id="rId2" action="ppaction://hlinksldjump"/>
              </a:rPr>
              <a:t>整体感知课文</a:t>
            </a:r>
            <a:endParaRPr b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799" name="AutoShape 7">
            <a:hlinkClick r:id="rId3" action="ppaction://hlinksldjump"/>
          </p:cNvPr>
          <p:cNvSpPr/>
          <p:nvPr/>
        </p:nvSpPr>
        <p:spPr>
          <a:xfrm>
            <a:off x="8001000" y="58672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7503"/>
                </a:moveTo>
                <a:lnTo>
                  <a:pt x="7301" y="7503"/>
                </a:lnTo>
                <a:lnTo>
                  <a:pt x="7301" y="12838"/>
                </a:lnTo>
                <a:cubicBezTo>
                  <a:pt x="7301" y="13761"/>
                  <a:pt x="8102" y="14492"/>
                  <a:pt x="9138" y="14492"/>
                </a:cubicBezTo>
                <a:lnTo>
                  <a:pt x="10800" y="14492"/>
                </a:lnTo>
                <a:cubicBezTo>
                  <a:pt x="11836" y="14492"/>
                  <a:pt x="12636" y="13761"/>
                  <a:pt x="12636" y="12838"/>
                </a:cubicBezTo>
                <a:lnTo>
                  <a:pt x="12636" y="7503"/>
                </a:lnTo>
                <a:lnTo>
                  <a:pt x="10800" y="7503"/>
                </a:lnTo>
                <a:lnTo>
                  <a:pt x="14308" y="3995"/>
                </a:lnTo>
                <a:lnTo>
                  <a:pt x="17981" y="7503"/>
                </a:lnTo>
                <a:lnTo>
                  <a:pt x="16144" y="7503"/>
                </a:lnTo>
                <a:lnTo>
                  <a:pt x="16144" y="12838"/>
                </a:lnTo>
                <a:cubicBezTo>
                  <a:pt x="16144" y="15606"/>
                  <a:pt x="13568" y="18165"/>
                  <a:pt x="10800" y="18165"/>
                </a:cubicBezTo>
                <a:lnTo>
                  <a:pt x="9138" y="18165"/>
                </a:lnTo>
                <a:cubicBezTo>
                  <a:pt x="6370" y="18165"/>
                  <a:pt x="3794" y="15606"/>
                  <a:pt x="3794" y="12838"/>
                </a:cubicBezTo>
                <a:close/>
              </a:path>
            </a:pathLst>
          </a:cu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2"/>
          <p:cNvSpPr/>
          <p:nvPr/>
        </p:nvSpPr>
        <p:spPr>
          <a:xfrm>
            <a:off x="1600200" y="7621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正音正字</a:t>
            </a:r>
            <a:endParaRPr b="1" lang="en-US" sz="5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01" name="Text Box 6"/>
          <p:cNvSpPr/>
          <p:nvPr/>
        </p:nvSpPr>
        <p:spPr>
          <a:xfrm>
            <a:off x="1295280" y="3200400"/>
            <a:ext cx="1219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3366"/>
                </a:solidFill>
                <a:uFillTx/>
                <a:latin typeface="Times New Roman"/>
                <a:hlinkClick r:id="rId1" action="ppaction://hlinksldjump"/>
              </a:rPr>
              <a:t>瞻仰</a:t>
            </a:r>
            <a:endParaRPr b="1" lang="en-US" sz="4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02" name="Text Box 7"/>
          <p:cNvSpPr/>
          <p:nvPr/>
        </p:nvSpPr>
        <p:spPr>
          <a:xfrm>
            <a:off x="3276720" y="32004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镏金</a:t>
            </a:r>
            <a:endParaRPr b="1" lang="en-US" sz="4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03" name="Text Box 8"/>
          <p:cNvSpPr/>
          <p:nvPr/>
        </p:nvSpPr>
        <p:spPr>
          <a:xfrm>
            <a:off x="4952880" y="3200400"/>
            <a:ext cx="1295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3366"/>
                </a:solidFill>
                <a:uFillTx/>
                <a:latin typeface="Times New Roman"/>
                <a:hlinkClick r:id="rId2" action="ppaction://hlinksldjump"/>
              </a:rPr>
              <a:t>上溯</a:t>
            </a:r>
            <a:endParaRPr b="1" lang="en-US" sz="4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04" name="Rectangle 10"/>
          <p:cNvSpPr/>
          <p:nvPr/>
        </p:nvSpPr>
        <p:spPr>
          <a:xfrm>
            <a:off x="7135560" y="3233880"/>
            <a:ext cx="11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重   幔</a:t>
            </a:r>
            <a:endParaRPr b="1" lang="en-US" sz="4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05" name="AutoShape 11"/>
          <p:cNvSpPr/>
          <p:nvPr/>
        </p:nvSpPr>
        <p:spPr>
          <a:xfrm>
            <a:off x="1523880" y="3886200"/>
            <a:ext cx="152640" cy="152280"/>
          </a:xfrm>
          <a:prstGeom prst="flowChartConnector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06" name="AutoShape 12"/>
          <p:cNvSpPr/>
          <p:nvPr/>
        </p:nvSpPr>
        <p:spPr>
          <a:xfrm>
            <a:off x="3581280" y="3886200"/>
            <a:ext cx="152640" cy="152280"/>
          </a:xfrm>
          <a:prstGeom prst="flowChartConnector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07" name="Oval 20"/>
          <p:cNvSpPr/>
          <p:nvPr/>
        </p:nvSpPr>
        <p:spPr>
          <a:xfrm>
            <a:off x="7238880" y="3886200"/>
            <a:ext cx="152640" cy="15228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08" name="Text Box 25"/>
          <p:cNvSpPr/>
          <p:nvPr/>
        </p:nvSpPr>
        <p:spPr>
          <a:xfrm>
            <a:off x="1371600" y="52578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庑殿</a:t>
            </a:r>
            <a:endParaRPr b="1" lang="en-US" sz="4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09" name="Text Box 26"/>
          <p:cNvSpPr/>
          <p:nvPr/>
        </p:nvSpPr>
        <p:spPr>
          <a:xfrm>
            <a:off x="3276720" y="5257800"/>
            <a:ext cx="160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3366"/>
                </a:solidFill>
                <a:uFillTx/>
                <a:latin typeface="Times New Roman"/>
                <a:hlinkClick r:id="rId3" action="ppaction://hlinksldjump"/>
              </a:rPr>
              <a:t>挑衅</a:t>
            </a:r>
            <a:endParaRPr b="1" lang="en-US" sz="4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10" name="Text Box 27"/>
          <p:cNvSpPr/>
          <p:nvPr/>
        </p:nvSpPr>
        <p:spPr>
          <a:xfrm>
            <a:off x="5181480" y="5257800"/>
            <a:ext cx="1219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3366"/>
                </a:solidFill>
                <a:uFillTx/>
                <a:latin typeface="Times New Roman"/>
                <a:hlinkClick r:id="rId4" action="ppaction://hlinksldjump"/>
              </a:rPr>
              <a:t>逾越</a:t>
            </a:r>
            <a:endParaRPr b="1" lang="en-US" sz="4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11" name="Text Box 28"/>
          <p:cNvSpPr/>
          <p:nvPr/>
        </p:nvSpPr>
        <p:spPr>
          <a:xfrm>
            <a:off x="7010280" y="5257800"/>
            <a:ext cx="1295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3366"/>
                </a:solidFill>
                <a:uFillTx/>
                <a:latin typeface="Times New Roman"/>
                <a:hlinkClick r:id="rId5" action="ppaction://hlinksldjump"/>
              </a:rPr>
              <a:t>天堑</a:t>
            </a:r>
            <a:endParaRPr b="1" lang="en-US" sz="4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12" name="Oval 31"/>
          <p:cNvSpPr/>
          <p:nvPr/>
        </p:nvSpPr>
        <p:spPr>
          <a:xfrm>
            <a:off x="5715000" y="3886200"/>
            <a:ext cx="152280" cy="15228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13" name="Oval 32"/>
          <p:cNvSpPr/>
          <p:nvPr/>
        </p:nvSpPr>
        <p:spPr>
          <a:xfrm>
            <a:off x="8153280" y="3886200"/>
            <a:ext cx="152640" cy="15228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14" name="Oval 33"/>
          <p:cNvSpPr/>
          <p:nvPr/>
        </p:nvSpPr>
        <p:spPr>
          <a:xfrm>
            <a:off x="1600200" y="6019920"/>
            <a:ext cx="152280" cy="15228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15" name="Oval 34"/>
          <p:cNvSpPr/>
          <p:nvPr/>
        </p:nvSpPr>
        <p:spPr>
          <a:xfrm>
            <a:off x="3581280" y="5943600"/>
            <a:ext cx="152640" cy="15228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16" name="Oval 39"/>
          <p:cNvSpPr/>
          <p:nvPr/>
        </p:nvSpPr>
        <p:spPr>
          <a:xfrm>
            <a:off x="4114800" y="5943600"/>
            <a:ext cx="152280" cy="15228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17" name="Oval 40"/>
          <p:cNvSpPr/>
          <p:nvPr/>
        </p:nvSpPr>
        <p:spPr>
          <a:xfrm>
            <a:off x="5486400" y="5943600"/>
            <a:ext cx="152280" cy="15228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18" name="Oval 41"/>
          <p:cNvSpPr/>
          <p:nvPr/>
        </p:nvSpPr>
        <p:spPr>
          <a:xfrm>
            <a:off x="7848720" y="6019920"/>
            <a:ext cx="152280" cy="15228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19" name="Text Box 42"/>
          <p:cNvSpPr/>
          <p:nvPr/>
        </p:nvSpPr>
        <p:spPr>
          <a:xfrm>
            <a:off x="1066680" y="2514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  <a:ea typeface="바탕"/>
              </a:rPr>
              <a:t>zh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ā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  <a:ea typeface="바탕"/>
              </a:rPr>
              <a:t>n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20" name="Text Box 43"/>
          <p:cNvSpPr/>
          <p:nvPr/>
        </p:nvSpPr>
        <p:spPr>
          <a:xfrm>
            <a:off x="3352680" y="25909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  <a:ea typeface="바탕"/>
              </a:rPr>
              <a:t>liú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21" name="Text Box 44"/>
          <p:cNvSpPr/>
          <p:nvPr/>
        </p:nvSpPr>
        <p:spPr>
          <a:xfrm>
            <a:off x="5486400" y="2590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  <a:ea typeface="바탕"/>
              </a:rPr>
              <a:t>sù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22" name="Text Box 45"/>
          <p:cNvSpPr/>
          <p:nvPr/>
        </p:nvSpPr>
        <p:spPr>
          <a:xfrm>
            <a:off x="6400800" y="25909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  <a:ea typeface="바탕"/>
              </a:rPr>
              <a:t>chóng  màn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23" name="Text Box 46"/>
          <p:cNvSpPr/>
          <p:nvPr/>
        </p:nvSpPr>
        <p:spPr>
          <a:xfrm>
            <a:off x="1295280" y="4572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  <a:ea typeface="바탕"/>
              </a:rPr>
              <a:t>w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ŭ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24" name="Text Box 47"/>
          <p:cNvSpPr/>
          <p:nvPr/>
        </p:nvSpPr>
        <p:spPr>
          <a:xfrm>
            <a:off x="2971800" y="4572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  <a:ea typeface="바탕"/>
              </a:rPr>
              <a:t>ti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ă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  <a:ea typeface="바탕"/>
              </a:rPr>
              <a:t>o   xìn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25" name="Text Box 48"/>
          <p:cNvSpPr/>
          <p:nvPr/>
        </p:nvSpPr>
        <p:spPr>
          <a:xfrm>
            <a:off x="5257800" y="4572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  <a:ea typeface="바탕"/>
              </a:rPr>
              <a:t>yú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26" name="Text Box 49"/>
          <p:cNvSpPr/>
          <p:nvPr/>
        </p:nvSpPr>
        <p:spPr>
          <a:xfrm>
            <a:off x="7391520" y="4572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  <a:ea typeface="바탕"/>
              </a:rPr>
              <a:t>qiàn</a:t>
            </a:r>
            <a:endParaRPr b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2"/>
          <p:cNvSpPr/>
          <p:nvPr/>
        </p:nvSpPr>
        <p:spPr>
          <a:xfrm>
            <a:off x="1371600" y="2666880"/>
            <a:ext cx="647712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  <a:ea typeface="华文行楷"/>
              </a:rPr>
              <a:t>瞻仰</a:t>
            </a: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：恭敬地看。瞻，往</a:t>
            </a:r>
            <a:endParaRPr b="1" lang="en-US" sz="44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上或者往前看。</a:t>
            </a:r>
            <a:endParaRPr b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28" name="AutoShape 4"/>
          <p:cNvSpPr/>
          <p:nvPr/>
        </p:nvSpPr>
        <p:spPr>
          <a:xfrm>
            <a:off x="8153280" y="58672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 Box 2"/>
          <p:cNvSpPr/>
          <p:nvPr/>
        </p:nvSpPr>
        <p:spPr>
          <a:xfrm>
            <a:off x="1905120" y="2590920"/>
            <a:ext cx="655308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隶书"/>
              </a:rPr>
              <a:t>上溯</a:t>
            </a: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：从现在往上推算。</a:t>
            </a:r>
            <a:endParaRPr b="1" lang="en-US" sz="4400" spc="-1" strike="noStrike">
              <a:solidFill>
                <a:srgbClr val="666633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溯，逆流而上。</a:t>
            </a:r>
            <a:endParaRPr b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30" name="AutoShape 3"/>
          <p:cNvSpPr/>
          <p:nvPr/>
        </p:nvSpPr>
        <p:spPr>
          <a:xfrm>
            <a:off x="7848720" y="56386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1026"/>
          <p:cNvSpPr/>
          <p:nvPr/>
        </p:nvSpPr>
        <p:spPr>
          <a:xfrm>
            <a:off x="1600200" y="304812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华文行楷"/>
              </a:rPr>
              <a:t>挑衅</a:t>
            </a: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：借端生事，企图引起冲突或战争。</a:t>
            </a:r>
            <a:endParaRPr b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32" name="AutoShape 1027"/>
          <p:cNvSpPr/>
          <p:nvPr/>
        </p:nvSpPr>
        <p:spPr>
          <a:xfrm>
            <a:off x="7696080" y="55627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7493"/>
                </a:moveTo>
                <a:lnTo>
                  <a:pt x="7311" y="7493"/>
                </a:lnTo>
                <a:lnTo>
                  <a:pt x="7311" y="12828"/>
                </a:lnTo>
                <a:cubicBezTo>
                  <a:pt x="7311" y="13751"/>
                  <a:pt x="8112" y="14482"/>
                  <a:pt x="9148" y="14482"/>
                </a:cubicBezTo>
                <a:lnTo>
                  <a:pt x="10810" y="14482"/>
                </a:lnTo>
                <a:cubicBezTo>
                  <a:pt x="11846" y="14482"/>
                  <a:pt x="12647" y="13751"/>
                  <a:pt x="12647" y="12828"/>
                </a:cubicBezTo>
                <a:lnTo>
                  <a:pt x="12647" y="7493"/>
                </a:lnTo>
                <a:lnTo>
                  <a:pt x="10810" y="7493"/>
                </a:lnTo>
                <a:lnTo>
                  <a:pt x="14318" y="3985"/>
                </a:lnTo>
                <a:lnTo>
                  <a:pt x="17991" y="7493"/>
                </a:lnTo>
                <a:lnTo>
                  <a:pt x="16154" y="7493"/>
                </a:lnTo>
                <a:lnTo>
                  <a:pt x="16154" y="12828"/>
                </a:lnTo>
                <a:cubicBezTo>
                  <a:pt x="16154" y="15596"/>
                  <a:pt x="13578" y="18155"/>
                  <a:pt x="10810" y="18155"/>
                </a:cubicBezTo>
                <a:lnTo>
                  <a:pt x="9148" y="18155"/>
                </a:lnTo>
                <a:cubicBezTo>
                  <a:pt x="6380" y="18155"/>
                  <a:pt x="3804" y="15596"/>
                  <a:pt x="3804" y="12828"/>
                </a:cubicBezTo>
                <a:close/>
              </a:path>
            </a:pathLst>
          </a:cu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2"/>
          <p:cNvSpPr/>
          <p:nvPr/>
        </p:nvSpPr>
        <p:spPr>
          <a:xfrm>
            <a:off x="1752480" y="312408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  <a:ea typeface="华文行楷"/>
              </a:rPr>
              <a:t>逾越</a:t>
            </a: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：跨越，超越。</a:t>
            </a:r>
            <a:endParaRPr b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34" name="AutoShape 3"/>
          <p:cNvSpPr/>
          <p:nvPr/>
        </p:nvSpPr>
        <p:spPr>
          <a:xfrm>
            <a:off x="7772400" y="55627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16:54:20Z</dcterms:created>
  <dc:creator/>
  <dc:description/>
  <cp:keywords>幻灯片之家 http:/www.eeppt.com</cp:keywords>
  <dc:language>en-US</dc:language>
  <cp:lastModifiedBy/>
  <dcterms:modified xsi:type="dcterms:W3CDTF">2015-07-20T06:39:3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