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4752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565656"/>
                </a:solidFill>
                <a:latin typeface="Microsoft Sans Serif"/>
                <a:ea typeface="宋体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828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565656"/>
                </a:solidFill>
                <a:latin typeface="Microsoft Sans Serif"/>
                <a:ea typeface="宋体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37960" y="304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入职培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图片素材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0bef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0Z</dcterms:modified>
  <cp:revision>4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2004000000000001024140</vt:lpwstr>
  </property>
</Properties>
</file>