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52.png" ContentType="image/png"/>
  <Override PartName="/ppt/media/image13.wmf" ContentType="image/x-wmf"/>
  <Override PartName="/ppt/media/image28.png" ContentType="image/png"/>
  <Override PartName="/ppt/media/image31.png" ContentType="image/png"/>
  <Override PartName="/ppt/media/image29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51.png" ContentType="image/pn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293-3EE5-436D-B745-6F2D2ED7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7AD-0BCD-4417-AFD9-D147DA79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5D2-8198-42B1-9C15-EDDD56CE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173-8CB9-4FA9-90F1-9F5D8F40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59C-66F1-4818-8FF3-FB78BF54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203-078F-4712-818E-02E28AB4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FAB-6F12-47C6-8035-5516097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E65-1C13-432E-8379-9180D005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8A3-0819-43D7-B66E-30B4ED38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FF9-36BE-466F-8902-47149C2E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39B-4565-4A71-9AF3-A8AD14C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691-B7AD-4BD8-AB58-CFAB2FF3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EBF8-08D7-43E8-BB5C-782FEC4C877E}" type="slidenum">
              <a:rPr b="0" lang="fr-CA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3.wmf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hyperlink" Target="http://www.eeppt.com/sucai/" TargetMode="Externa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1125360"/>
            <a:ext cx="611964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社保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简洁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56000" y="23781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授课内容：社会保险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圆角矩形 3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80880" y="306360"/>
            <a:ext cx="3830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可保风险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9"/>
          <p:cNvSpPr/>
          <p:nvPr/>
        </p:nvSpPr>
        <p:spPr>
          <a:xfrm>
            <a:off x="1042920" y="2678040"/>
            <a:ext cx="274788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条件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风险事件发生以后，保险对象只有损失的机会而没有获利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4784760" y="3535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8"/>
          <p:cNvSpPr/>
          <p:nvPr/>
        </p:nvSpPr>
        <p:spPr>
          <a:xfrm flipV="1">
            <a:off x="4427640" y="2525760"/>
            <a:ext cx="1728720" cy="792000"/>
          </a:xfrm>
          <a:prstGeom prst="cloudCallout">
            <a:avLst>
              <a:gd name="adj1" fmla="val 55597"/>
              <a:gd name="adj2" fmla="val -110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炒不炒股票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3"/>
          <a:stretch/>
        </p:blipFill>
        <p:spPr>
          <a:xfrm>
            <a:off x="6578640" y="4221000"/>
            <a:ext cx="1560600" cy="1679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4"/>
          <a:stretch/>
        </p:blipFill>
        <p:spPr>
          <a:xfrm>
            <a:off x="6458040" y="2276640"/>
            <a:ext cx="18032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68360" y="2104920"/>
            <a:ext cx="42339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条件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风险事件的发生必须具有概率上的可预测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3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80880" y="306360"/>
            <a:ext cx="3830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可保风险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6443640" y="4335480"/>
            <a:ext cx="2519280" cy="1762200"/>
          </a:xfrm>
          <a:prstGeom prst="rect">
            <a:avLst/>
          </a:prstGeom>
          <a:ln w="0">
            <a:noFill/>
          </a:ln>
        </p:spPr>
      </p:pic>
      <p:sp>
        <p:nvSpPr>
          <p:cNvPr id="251" name="未知"/>
          <p:cNvSpPr/>
          <p:nvPr/>
        </p:nvSpPr>
        <p:spPr>
          <a:xfrm>
            <a:off x="2421000" y="5086440"/>
            <a:ext cx="416700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63"/>
                </a:moveTo>
                <a:cubicBezTo>
                  <a:pt x="210" y="1588"/>
                  <a:pt x="985" y="0"/>
                  <a:pt x="1271" y="700"/>
                </a:cubicBezTo>
                <a:cubicBezTo>
                  <a:pt x="1558" y="1401"/>
                  <a:pt x="1835" y="5432"/>
                  <a:pt x="1723" y="6004"/>
                </a:cubicBezTo>
                <a:cubicBezTo>
                  <a:pt x="1611" y="6576"/>
                  <a:pt x="461" y="4941"/>
                  <a:pt x="599" y="4147"/>
                </a:cubicBezTo>
                <a:cubicBezTo>
                  <a:pt x="738" y="3352"/>
                  <a:pt x="2036" y="1004"/>
                  <a:pt x="2547" y="1226"/>
                </a:cubicBezTo>
                <a:cubicBezTo>
                  <a:pt x="3057" y="1448"/>
                  <a:pt x="3720" y="4544"/>
                  <a:pt x="3670" y="5478"/>
                </a:cubicBezTo>
                <a:cubicBezTo>
                  <a:pt x="3621" y="6413"/>
                  <a:pt x="2234" y="7558"/>
                  <a:pt x="2247" y="6810"/>
                </a:cubicBezTo>
                <a:cubicBezTo>
                  <a:pt x="2260" y="6062"/>
                  <a:pt x="3160" y="911"/>
                  <a:pt x="3746" y="957"/>
                </a:cubicBezTo>
                <a:cubicBezTo>
                  <a:pt x="4333" y="1004"/>
                  <a:pt x="5743" y="5922"/>
                  <a:pt x="5766" y="7067"/>
                </a:cubicBezTo>
                <a:cubicBezTo>
                  <a:pt x="5789" y="8212"/>
                  <a:pt x="3881" y="8609"/>
                  <a:pt x="3894" y="7861"/>
                </a:cubicBezTo>
                <a:cubicBezTo>
                  <a:pt x="3908" y="7114"/>
                  <a:pt x="5166" y="2686"/>
                  <a:pt x="5842" y="2558"/>
                </a:cubicBezTo>
                <a:cubicBezTo>
                  <a:pt x="6517" y="2429"/>
                  <a:pt x="7677" y="5922"/>
                  <a:pt x="7941" y="7067"/>
                </a:cubicBezTo>
                <a:cubicBezTo>
                  <a:pt x="8205" y="8212"/>
                  <a:pt x="7618" y="9333"/>
                  <a:pt x="7417" y="9462"/>
                </a:cubicBezTo>
                <a:cubicBezTo>
                  <a:pt x="7216" y="9590"/>
                  <a:pt x="6419" y="8796"/>
                  <a:pt x="6741" y="7861"/>
                </a:cubicBezTo>
                <a:cubicBezTo>
                  <a:pt x="7064" y="6927"/>
                  <a:pt x="8814" y="3212"/>
                  <a:pt x="9364" y="3878"/>
                </a:cubicBezTo>
                <a:cubicBezTo>
                  <a:pt x="9915" y="4544"/>
                  <a:pt x="10112" y="11016"/>
                  <a:pt x="10037" y="11857"/>
                </a:cubicBezTo>
                <a:cubicBezTo>
                  <a:pt x="9961" y="12698"/>
                  <a:pt x="8738" y="9812"/>
                  <a:pt x="8913" y="8925"/>
                </a:cubicBezTo>
                <a:cubicBezTo>
                  <a:pt x="9088" y="8037"/>
                  <a:pt x="10577" y="5922"/>
                  <a:pt x="11088" y="6541"/>
                </a:cubicBezTo>
                <a:cubicBezTo>
                  <a:pt x="11599" y="7161"/>
                  <a:pt x="12001" y="11506"/>
                  <a:pt x="11987" y="12651"/>
                </a:cubicBezTo>
                <a:cubicBezTo>
                  <a:pt x="11974" y="13796"/>
                  <a:pt x="11223" y="13749"/>
                  <a:pt x="11012" y="13445"/>
                </a:cubicBezTo>
                <a:cubicBezTo>
                  <a:pt x="10801" y="13142"/>
                  <a:pt x="10663" y="11938"/>
                  <a:pt x="10712" y="10794"/>
                </a:cubicBezTo>
                <a:cubicBezTo>
                  <a:pt x="10762" y="9649"/>
                  <a:pt x="10864" y="7032"/>
                  <a:pt x="11312" y="6541"/>
                </a:cubicBezTo>
                <a:cubicBezTo>
                  <a:pt x="11760" y="6051"/>
                  <a:pt x="12973" y="6448"/>
                  <a:pt x="13411" y="7861"/>
                </a:cubicBezTo>
                <a:cubicBezTo>
                  <a:pt x="13849" y="9275"/>
                  <a:pt x="14110" y="13843"/>
                  <a:pt x="13935" y="15034"/>
                </a:cubicBezTo>
                <a:cubicBezTo>
                  <a:pt x="13760" y="16226"/>
                  <a:pt x="12521" y="16097"/>
                  <a:pt x="12360" y="15034"/>
                </a:cubicBezTo>
                <a:cubicBezTo>
                  <a:pt x="12198" y="13971"/>
                  <a:pt x="12459" y="9509"/>
                  <a:pt x="12960" y="8668"/>
                </a:cubicBezTo>
                <a:cubicBezTo>
                  <a:pt x="13460" y="7826"/>
                  <a:pt x="14785" y="8796"/>
                  <a:pt x="15358" y="9988"/>
                </a:cubicBezTo>
                <a:cubicBezTo>
                  <a:pt x="15932" y="11179"/>
                  <a:pt x="16505" y="14684"/>
                  <a:pt x="16406" y="15840"/>
                </a:cubicBezTo>
                <a:cubicBezTo>
                  <a:pt x="16307" y="16997"/>
                  <a:pt x="15045" y="17219"/>
                  <a:pt x="14759" y="16903"/>
                </a:cubicBezTo>
                <a:cubicBezTo>
                  <a:pt x="14472" y="16588"/>
                  <a:pt x="14495" y="15209"/>
                  <a:pt x="14683" y="13971"/>
                </a:cubicBezTo>
                <a:cubicBezTo>
                  <a:pt x="14871" y="12733"/>
                  <a:pt x="15322" y="9637"/>
                  <a:pt x="15882" y="9462"/>
                </a:cubicBezTo>
                <a:cubicBezTo>
                  <a:pt x="16443" y="9287"/>
                  <a:pt x="17794" y="11319"/>
                  <a:pt x="18054" y="12908"/>
                </a:cubicBezTo>
                <a:cubicBezTo>
                  <a:pt x="18314" y="14497"/>
                  <a:pt x="17691" y="18270"/>
                  <a:pt x="17454" y="19018"/>
                </a:cubicBezTo>
                <a:cubicBezTo>
                  <a:pt x="17217" y="19765"/>
                  <a:pt x="16541" y="18761"/>
                  <a:pt x="16630" y="17429"/>
                </a:cubicBezTo>
                <a:cubicBezTo>
                  <a:pt x="16719" y="16097"/>
                  <a:pt x="17457" y="11319"/>
                  <a:pt x="17981" y="11051"/>
                </a:cubicBezTo>
                <a:cubicBezTo>
                  <a:pt x="18505" y="10782"/>
                  <a:pt x="19715" y="14252"/>
                  <a:pt x="19777" y="15840"/>
                </a:cubicBezTo>
                <a:cubicBezTo>
                  <a:pt x="19840" y="17429"/>
                  <a:pt x="18565" y="20665"/>
                  <a:pt x="18354" y="20618"/>
                </a:cubicBezTo>
                <a:cubicBezTo>
                  <a:pt x="18143" y="20571"/>
                  <a:pt x="18057" y="16413"/>
                  <a:pt x="18505" y="15572"/>
                </a:cubicBezTo>
                <a:cubicBezTo>
                  <a:pt x="18953" y="14730"/>
                  <a:pt x="20654" y="14684"/>
                  <a:pt x="21052" y="15572"/>
                </a:cubicBezTo>
                <a:cubicBezTo>
                  <a:pt x="21451" y="16459"/>
                  <a:pt x="20987" y="20174"/>
                  <a:pt x="20901" y="20887"/>
                </a:cubicBezTo>
                <a:cubicBezTo>
                  <a:pt x="20815" y="21600"/>
                  <a:pt x="20614" y="20712"/>
                  <a:pt x="20529" y="19824"/>
                </a:cubicBezTo>
                <a:cubicBezTo>
                  <a:pt x="20443" y="18936"/>
                  <a:pt x="20229" y="16681"/>
                  <a:pt x="20377" y="15572"/>
                </a:cubicBezTo>
                <a:cubicBezTo>
                  <a:pt x="20525" y="14462"/>
                  <a:pt x="21250" y="13621"/>
                  <a:pt x="21425" y="13177"/>
                </a:cubicBezTo>
                <a:cubicBezTo>
                  <a:pt x="21600" y="12733"/>
                  <a:pt x="21425" y="12955"/>
                  <a:pt x="21425" y="129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2987640" y="3657600"/>
            <a:ext cx="3413160" cy="15717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楷体_GB2312"/>
              </a:rPr>
              <a:t>火灾概率预测错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"/>
          <p:cNvPicPr/>
          <p:nvPr/>
        </p:nvPicPr>
        <p:blipFill>
          <a:blip r:embed="rId3"/>
          <a:stretch/>
        </p:blipFill>
        <p:spPr>
          <a:xfrm>
            <a:off x="322200" y="4149720"/>
            <a:ext cx="25210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1"/>
          <p:cNvSpPr/>
          <p:nvPr/>
        </p:nvSpPr>
        <p:spPr>
          <a:xfrm>
            <a:off x="1114560" y="5373720"/>
            <a:ext cx="64818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条件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风险事件发生的概率较小。</a:t>
            </a:r>
            <a:r>
              <a:rPr b="0" lang="zh-CN" sz="1800" spc="-1" strike="noStrike">
                <a:solidFill>
                  <a:srgbClr val="0070c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3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80880" y="306360"/>
            <a:ext cx="3830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可保风险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C:\Users\Administrator\Desktop\1912176_032015376393_2_副本.png"/>
          <p:cNvPicPr/>
          <p:nvPr/>
        </p:nvPicPr>
        <p:blipFill>
          <a:blip r:embed="rId2"/>
          <a:stretch/>
        </p:blipFill>
        <p:spPr>
          <a:xfrm>
            <a:off x="179280" y="177336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C:\Users\Administrator\Desktop\1912176_032015376393_2_副本.png"/>
          <p:cNvPicPr/>
          <p:nvPr/>
        </p:nvPicPr>
        <p:blipFill>
          <a:blip r:embed="rId3"/>
          <a:stretch/>
        </p:blipFill>
        <p:spPr>
          <a:xfrm>
            <a:off x="539640" y="177336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C:\Users\Administrator\Desktop\1912176_032015376393_2_副本.png"/>
          <p:cNvPicPr/>
          <p:nvPr/>
        </p:nvPicPr>
        <p:blipFill>
          <a:blip r:embed="rId4"/>
          <a:stretch/>
        </p:blipFill>
        <p:spPr>
          <a:xfrm>
            <a:off x="971640" y="1763640"/>
            <a:ext cx="3809880" cy="507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C:\Users\Administrator\Desktop\1912176_032015376393_2_副本.png"/>
          <p:cNvPicPr/>
          <p:nvPr/>
        </p:nvPicPr>
        <p:blipFill>
          <a:blip r:embed="rId5"/>
          <a:stretch/>
        </p:blipFill>
        <p:spPr>
          <a:xfrm>
            <a:off x="1403280" y="1763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C:\Users\Administrator\Desktop\1912176_032015376393_2_副本.png"/>
          <p:cNvPicPr/>
          <p:nvPr/>
        </p:nvPicPr>
        <p:blipFill>
          <a:blip r:embed="rId6"/>
          <a:stretch/>
        </p:blipFill>
        <p:spPr>
          <a:xfrm>
            <a:off x="1841400" y="1763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Users\Administrator\Desktop\1912176_032015376393_2_副本.png"/>
          <p:cNvPicPr/>
          <p:nvPr/>
        </p:nvPicPr>
        <p:blipFill>
          <a:blip r:embed="rId7"/>
          <a:stretch/>
        </p:blipFill>
        <p:spPr>
          <a:xfrm>
            <a:off x="2274840" y="1763640"/>
            <a:ext cx="3809880" cy="5076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C:\Users\Administrator\Desktop\1912176_032015376393_2_副本.png"/>
          <p:cNvPicPr/>
          <p:nvPr/>
        </p:nvPicPr>
        <p:blipFill>
          <a:blip r:embed="rId8"/>
          <a:stretch/>
        </p:blipFill>
        <p:spPr>
          <a:xfrm>
            <a:off x="2706840" y="1755720"/>
            <a:ext cx="3809880" cy="5076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C:\Users\Administrator\Desktop\1912176_032015376393_2_副本.png"/>
          <p:cNvPicPr/>
          <p:nvPr/>
        </p:nvPicPr>
        <p:blipFill>
          <a:blip r:embed="rId9"/>
          <a:stretch/>
        </p:blipFill>
        <p:spPr>
          <a:xfrm>
            <a:off x="2987640" y="1755720"/>
            <a:ext cx="3809880" cy="5076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Administrator\Desktop\1912176_032015376393_2_副本.png"/>
          <p:cNvPicPr/>
          <p:nvPr/>
        </p:nvPicPr>
        <p:blipFill>
          <a:blip r:embed="rId10"/>
          <a:stretch/>
        </p:blipFill>
        <p:spPr>
          <a:xfrm>
            <a:off x="3382920" y="1755720"/>
            <a:ext cx="3809880" cy="5076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Users\Administrator\Desktop\1912176_032015376393_2_副本.png"/>
          <p:cNvPicPr/>
          <p:nvPr/>
        </p:nvPicPr>
        <p:blipFill>
          <a:blip r:embed="rId11"/>
          <a:stretch/>
        </p:blipFill>
        <p:spPr>
          <a:xfrm>
            <a:off x="3746520" y="1781280"/>
            <a:ext cx="3809880" cy="507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:\Users\Administrator\Desktop\1912176_032015376393_2_副本.png"/>
          <p:cNvPicPr/>
          <p:nvPr/>
        </p:nvPicPr>
        <p:blipFill>
          <a:blip r:embed="rId12"/>
          <a:stretch/>
        </p:blipFill>
        <p:spPr>
          <a:xfrm>
            <a:off x="4138560" y="1806480"/>
            <a:ext cx="3809880" cy="5077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Users\Administrator\Desktop\1912176_032015376393_2_副本.png"/>
          <p:cNvPicPr/>
          <p:nvPr/>
        </p:nvPicPr>
        <p:blipFill>
          <a:blip r:embed="rId13"/>
          <a:stretch/>
        </p:blipFill>
        <p:spPr>
          <a:xfrm>
            <a:off x="4611600" y="1822320"/>
            <a:ext cx="3810240" cy="5077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C:\Users\Administrator\Desktop\3321654_175512077064_2_副本.png"/>
          <p:cNvPicPr/>
          <p:nvPr/>
        </p:nvPicPr>
        <p:blipFill>
          <a:blip r:embed="rId14"/>
          <a:stretch/>
        </p:blipFill>
        <p:spPr>
          <a:xfrm>
            <a:off x="6872400" y="1822320"/>
            <a:ext cx="24145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xit" presetID="2" presetSubtype="8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6" dur="1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Users\Administrator\Desktop\7_110312123205_1.jpg"/>
          <p:cNvPicPr/>
          <p:nvPr/>
        </p:nvPicPr>
        <p:blipFill>
          <a:blip r:embed="rId2"/>
          <a:stretch/>
        </p:blipFill>
        <p:spPr>
          <a:xfrm>
            <a:off x="0" y="2395440"/>
            <a:ext cx="9144000" cy="4462560"/>
          </a:xfrm>
          <a:prstGeom prst="rect">
            <a:avLst/>
          </a:prstGeom>
          <a:ln w="0">
            <a:noFill/>
          </a:ln>
        </p:spPr>
      </p:pic>
      <p:sp>
        <p:nvSpPr>
          <p:cNvPr id="274" name="矩形 1"/>
          <p:cNvSpPr/>
          <p:nvPr/>
        </p:nvSpPr>
        <p:spPr>
          <a:xfrm>
            <a:off x="611280" y="1341360"/>
            <a:ext cx="82087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条件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风险事件发生以后，不能使大多数保险对象同时遭受损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3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380880" y="306360"/>
            <a:ext cx="3830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可保风险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C:\Users\Administrator\Desktop\7_110312123205_1.jpg"/>
          <p:cNvPicPr/>
          <p:nvPr/>
        </p:nvPicPr>
        <p:blipFill>
          <a:blip r:embed="rId3"/>
          <a:stretch/>
        </p:blipFill>
        <p:spPr>
          <a:xfrm>
            <a:off x="0" y="2394000"/>
            <a:ext cx="9144000" cy="446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7" descr="C:\Users\Administrator\Desktop\80d25fa7911737a2d0435836_副本.png"/>
          <p:cNvPicPr/>
          <p:nvPr/>
        </p:nvPicPr>
        <p:blipFill>
          <a:blip r:embed="rId4"/>
          <a:stretch/>
        </p:blipFill>
        <p:spPr>
          <a:xfrm>
            <a:off x="6900840" y="5473800"/>
            <a:ext cx="2206800" cy="2944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8" descr="C:\Users\Administrator\Desktop\1211423347481_000.jpg"/>
          <p:cNvPicPr/>
          <p:nvPr/>
        </p:nvPicPr>
        <p:blipFill>
          <a:blip r:embed="rId5"/>
          <a:stretch/>
        </p:blipFill>
        <p:spPr>
          <a:xfrm>
            <a:off x="6872400" y="2394000"/>
            <a:ext cx="2236680" cy="1519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9" descr="C:\Users\Administrator\Desktop\1211423076621_000.jpg"/>
          <p:cNvPicPr/>
          <p:nvPr/>
        </p:nvPicPr>
        <p:blipFill>
          <a:blip r:embed="rId6"/>
          <a:stretch/>
        </p:blipFill>
        <p:spPr>
          <a:xfrm>
            <a:off x="6888240" y="3913200"/>
            <a:ext cx="2255760" cy="1560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C:\Users\Administrator\Desktop\图片1.png"/>
          <p:cNvPicPr/>
          <p:nvPr/>
        </p:nvPicPr>
        <p:blipFill>
          <a:blip r:embed="rId7"/>
          <a:stretch/>
        </p:blipFill>
        <p:spPr>
          <a:xfrm>
            <a:off x="4249800" y="3429000"/>
            <a:ext cx="593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6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9" dur="125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4"/>
          <p:cNvSpPr/>
          <p:nvPr/>
        </p:nvSpPr>
        <p:spPr>
          <a:xfrm>
            <a:off x="2259000" y="231840"/>
            <a:ext cx="66247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3606840" y="260280"/>
            <a:ext cx="39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 保险的内涵和外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4"/>
          <p:cNvSpPr/>
          <p:nvPr/>
        </p:nvSpPr>
        <p:spPr>
          <a:xfrm>
            <a:off x="2759040" y="1685880"/>
            <a:ext cx="6205680" cy="55728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1994040" y="1197000"/>
            <a:ext cx="922320" cy="1077840"/>
            <a:chOff x="1994040" y="1197000"/>
            <a:chExt cx="922320" cy="1077840"/>
          </a:xfrm>
        </p:grpSpPr>
        <p:pic>
          <p:nvPicPr>
            <p:cNvPr id="48" name="Picture 2" descr="C:\Documents and Settings\鱼不愚\桌面\3dicon1_zcool.com.cn [转换]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94040" y="1197000"/>
              <a:ext cx="9223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5">
              <a:hlinkClick r:id="rId4" action="ppaction://hlinksldjump"/>
            </p:cNvPr>
            <p:cNvSpPr/>
            <p:nvPr/>
          </p:nvSpPr>
          <p:spPr>
            <a:xfrm>
              <a:off x="2171880" y="1674720"/>
              <a:ext cx="6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Arial Black"/>
                  <a:ea typeface="ClassizismAntiqua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886120" y="1716120"/>
            <a:ext cx="60069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险机制产生的原因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4"/>
          <p:cNvSpPr/>
          <p:nvPr/>
        </p:nvSpPr>
        <p:spPr>
          <a:xfrm>
            <a:off x="2401920" y="2852640"/>
            <a:ext cx="6562800" cy="100800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1619280" y="2711520"/>
            <a:ext cx="922320" cy="1077840"/>
            <a:chOff x="1619280" y="2711520"/>
            <a:chExt cx="922320" cy="1077840"/>
          </a:xfrm>
        </p:grpSpPr>
        <p:pic>
          <p:nvPicPr>
            <p:cNvPr id="53" name="Picture 2" descr="C:\Documents and Settings\鱼不愚\桌面\3dicon1_zcool.com.cn [转换].pn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619280" y="2711520"/>
              <a:ext cx="9223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5">
              <a:hlinkClick r:id="rId7" action="ppaction://hlinksldjump"/>
            </p:cNvPr>
            <p:cNvSpPr/>
            <p:nvPr/>
          </p:nvSpPr>
          <p:spPr>
            <a:xfrm>
              <a:off x="1797120" y="3188520"/>
              <a:ext cx="6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Arial Black"/>
                  <a:ea typeface="ClassizismAntiqua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2445840" y="2865240"/>
            <a:ext cx="66978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实际生活中，社会保险和保险机制可以覆盖何种风险事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6553080" y="3916440"/>
            <a:ext cx="2117880" cy="2825640"/>
            <a:chOff x="6553080" y="3916440"/>
            <a:chExt cx="2117880" cy="2825640"/>
          </a:xfrm>
        </p:grpSpPr>
        <p:pic>
          <p:nvPicPr>
            <p:cNvPr id="57" name="Picture 4" descr="G:\PPT动画制作之路\可爱PPT素材\3D小人\2-3375x4500.jpg"/>
            <p:cNvPicPr/>
            <p:nvPr/>
          </p:nvPicPr>
          <p:blipFill>
            <a:blip r:embed="rId8"/>
            <a:stretch/>
          </p:blipFill>
          <p:spPr>
            <a:xfrm>
              <a:off x="6553080" y="3916440"/>
              <a:ext cx="211788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6"/>
            <p:cNvSpPr/>
            <p:nvPr/>
          </p:nvSpPr>
          <p:spPr>
            <a:xfrm rot="1026000">
              <a:off x="7244640" y="5020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主要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 4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3946680" y="2738520"/>
            <a:ext cx="1558800" cy="1554120"/>
            <a:chOff x="3946680" y="2738520"/>
            <a:chExt cx="1558800" cy="1554120"/>
          </a:xfrm>
        </p:grpSpPr>
        <p:grpSp>
          <p:nvGrpSpPr>
            <p:cNvPr id="61" name="Group 4"/>
            <p:cNvGrpSpPr/>
            <p:nvPr/>
          </p:nvGrpSpPr>
          <p:grpSpPr>
            <a:xfrm>
              <a:off x="3946680" y="2738520"/>
              <a:ext cx="1558800" cy="1554120"/>
              <a:chOff x="3946680" y="2738520"/>
              <a:chExt cx="1558800" cy="1554120"/>
            </a:xfrm>
          </p:grpSpPr>
          <p:pic>
            <p:nvPicPr>
              <p:cNvPr id="62" name="任意多边形 2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6680" y="2738520"/>
                <a:ext cx="155880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5"/>
              <p:cNvSpPr/>
              <p:nvPr/>
            </p:nvSpPr>
            <p:spPr>
              <a:xfrm>
                <a:off x="4003560" y="2766960"/>
                <a:ext cx="144432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00320" rIns="400320" tIns="400320" bIns="40032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1576"/>
                  </a:spcAft>
                  <a:tabLst>
                    <a:tab algn="l" pos="0"/>
                    <a:tab algn="l" pos="1600200"/>
                    <a:tab algn="l" pos="3200400"/>
                    <a:tab algn="l" pos="4800600"/>
                    <a:tab algn="l" pos="6400800"/>
                    <a:tab algn="l" pos="8001000"/>
                    <a:tab algn="l" pos="96012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 Box 3"/>
            <p:cNvSpPr/>
            <p:nvPr/>
          </p:nvSpPr>
          <p:spPr>
            <a:xfrm>
              <a:off x="4284720" y="3025800"/>
              <a:ext cx="1028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婚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选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610000" y="1805040"/>
            <a:ext cx="4327200" cy="3522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380880" y="306360"/>
            <a:ext cx="456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产生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1704960" y="5318280"/>
            <a:ext cx="6043680" cy="82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请分析为什么这位女同学会做这样的选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022E-016 L -0.38698 -0.00208 E">
                                      <p:cBhvr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7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7" dur="7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2"/>
          <p:cNvSpPr/>
          <p:nvPr/>
        </p:nvSpPr>
        <p:spPr>
          <a:xfrm>
            <a:off x="1835280" y="5300640"/>
            <a:ext cx="701028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于对风险的厌恶，人们创造了一种管理风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方法，这就是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保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4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0880" y="306360"/>
            <a:ext cx="456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产生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G:\PPT动画制作之路\可爱PPT素材\3D小人\2-3375x4500.jpg"/>
          <p:cNvPicPr/>
          <p:nvPr/>
        </p:nvPicPr>
        <p:blipFill>
          <a:blip r:embed="rId2"/>
          <a:stretch/>
        </p:blipFill>
        <p:spPr>
          <a:xfrm>
            <a:off x="328680" y="2112840"/>
            <a:ext cx="1974960" cy="2633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 rot="20724000">
            <a:off x="1022760" y="3040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风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7"/>
          <p:cNvSpPr/>
          <p:nvPr/>
        </p:nvSpPr>
        <p:spPr>
          <a:xfrm rot="20724000">
            <a:off x="1020960" y="305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肘形连接符 25"/>
          <p:cNvCxnSpPr>
            <a:stCxn id="72" idx="3"/>
          </p:cNvCxnSpPr>
          <p:nvPr/>
        </p:nvCxnSpPr>
        <p:spPr>
          <a:xfrm flipV="1">
            <a:off x="1924200" y="2153880"/>
            <a:ext cx="660600" cy="977040"/>
          </a:xfrm>
          <a:prstGeom prst="bentConnector3">
            <a:avLst>
              <a:gd name="adj1" fmla="val 50000"/>
            </a:avLst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grpSp>
        <p:nvGrpSpPr>
          <p:cNvPr id="75" name="Group 9"/>
          <p:cNvGrpSpPr/>
          <p:nvPr/>
        </p:nvGrpSpPr>
        <p:grpSpPr>
          <a:xfrm>
            <a:off x="2634480" y="2984400"/>
            <a:ext cx="1922400" cy="1922400"/>
            <a:chOff x="2634480" y="2984400"/>
            <a:chExt cx="1922400" cy="1922400"/>
          </a:xfrm>
        </p:grpSpPr>
        <p:sp>
          <p:nvSpPr>
            <p:cNvPr id="76" name="Oval 16"/>
            <p:cNvSpPr/>
            <p:nvPr/>
          </p:nvSpPr>
          <p:spPr>
            <a:xfrm>
              <a:off x="2916360" y="3265560"/>
              <a:ext cx="1365120" cy="136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4823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ubChord"/>
            <p:cNvSpPr/>
            <p:nvPr/>
          </p:nvSpPr>
          <p:spPr>
            <a:xfrm rot="18900000">
              <a:off x="2916360" y="3265560"/>
              <a:ext cx="1358640" cy="1360080"/>
            </a:xfrm>
            <a:custGeom>
              <a:avLst/>
              <a:gdLst>
                <a:gd name="textAreaLeft" fmla="*/ 198720 w 1358640"/>
                <a:gd name="textAreaRight" fmla="*/ 1159920 w 1358640"/>
                <a:gd name="textAreaTop" fmla="*/ 198720 h 1360080"/>
                <a:gd name="textAreaBottom" fmla="*/ 1161360 h 13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66" y="74"/>
                  </a:moveTo>
                  <a:cubicBezTo>
                    <a:pt x="11646" y="24"/>
                    <a:pt x="11223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5668"/>
                    <a:pt x="17988" y="1245"/>
                    <a:pt x="12960" y="218"/>
                  </a:cubicBezTo>
                  <a:lnTo>
                    <a:pt x="12066" y="7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99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2789640" y="3228840"/>
              <a:ext cx="1601280" cy="1601280"/>
              <a:chOff x="2789640" y="3228840"/>
              <a:chExt cx="1601280" cy="1601280"/>
            </a:xfrm>
          </p:grpSpPr>
          <p:sp>
            <p:nvSpPr>
              <p:cNvPr id="79" name="PubChord"/>
              <p:cNvSpPr/>
              <p:nvPr/>
            </p:nvSpPr>
            <p:spPr>
              <a:xfrm rot="18900000">
                <a:off x="3037680" y="3449520"/>
                <a:ext cx="1104840" cy="1159920"/>
              </a:xfrm>
              <a:custGeom>
                <a:avLst/>
                <a:gdLst>
                  <a:gd name="textAreaLeft" fmla="*/ 161640 w 1104840"/>
                  <a:gd name="textAreaRight" fmla="*/ 943200 w 1104840"/>
                  <a:gd name="textAreaTop" fmla="*/ 169560 h 1159920"/>
                  <a:gd name="textAreaBottom" fmla="*/ 990360 h 1159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4840" y="784"/>
                    </a:moveTo>
                    <a:cubicBezTo>
                      <a:pt x="14731" y="740"/>
                      <a:pt x="14621" y="698"/>
                      <a:pt x="14510" y="657"/>
                    </a:cubicBezTo>
                    <a:lnTo>
                      <a:pt x="14840" y="7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c4f3">
                      <a:alpha val="11372"/>
                    </a:srgbClr>
                  </a:gs>
                  <a:gs pos="100000">
                    <a:srgbClr val="3333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20"/>
              <p:cNvSpPr/>
              <p:nvPr/>
            </p:nvSpPr>
            <p:spPr>
              <a:xfrm>
                <a:off x="3223800" y="3268440"/>
                <a:ext cx="753480" cy="587160"/>
              </a:xfrm>
              <a:prstGeom prst="ellipse">
                <a:avLst/>
              </a:prstGeom>
              <a:gradFill rotWithShape="0">
                <a:gsLst>
                  <a:gs pos="0">
                    <a:srgbClr val="f8f8f8">
                      <a:alpha val="80000"/>
                    </a:srgbClr>
                  </a:gs>
                  <a:gs pos="100000">
                    <a:srgbClr val="c0c0c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ctangle 21"/>
            <p:cNvSpPr/>
            <p:nvPr/>
          </p:nvSpPr>
          <p:spPr>
            <a:xfrm>
              <a:off x="3316680" y="3739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观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6"/>
          <p:cNvGrpSpPr/>
          <p:nvPr/>
        </p:nvGrpSpPr>
        <p:grpSpPr>
          <a:xfrm>
            <a:off x="4507560" y="2984040"/>
            <a:ext cx="1922760" cy="1922760"/>
            <a:chOff x="4507560" y="2984040"/>
            <a:chExt cx="1922760" cy="1922760"/>
          </a:xfrm>
        </p:grpSpPr>
        <p:sp>
          <p:nvSpPr>
            <p:cNvPr id="83" name="Oval 24"/>
            <p:cNvSpPr/>
            <p:nvPr/>
          </p:nvSpPr>
          <p:spPr>
            <a:xfrm>
              <a:off x="4789440" y="3265560"/>
              <a:ext cx="1365120" cy="136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4823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PubChord"/>
            <p:cNvSpPr/>
            <p:nvPr/>
          </p:nvSpPr>
          <p:spPr>
            <a:xfrm rot="18906000">
              <a:off x="4789080" y="3265200"/>
              <a:ext cx="1359000" cy="1360080"/>
            </a:xfrm>
            <a:custGeom>
              <a:avLst/>
              <a:gdLst>
                <a:gd name="textAreaLeft" fmla="*/ 198360 w 1359000"/>
                <a:gd name="textAreaRight" fmla="*/ 1160640 w 1359000"/>
                <a:gd name="textAreaTop" fmla="*/ 198360 h 1360080"/>
                <a:gd name="textAreaBottom" fmla="*/ 1161720 h 13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66" y="74"/>
                  </a:moveTo>
                  <a:cubicBezTo>
                    <a:pt x="11646" y="24"/>
                    <a:pt x="11223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5668"/>
                    <a:pt x="17988" y="1245"/>
                    <a:pt x="12960" y="218"/>
                  </a:cubicBezTo>
                  <a:lnTo>
                    <a:pt x="12066" y="7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990000"/>
                </a:gs>
              </a:gsLst>
              <a:lin ang="8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ubChord"/>
            <p:cNvSpPr/>
            <p:nvPr/>
          </p:nvSpPr>
          <p:spPr>
            <a:xfrm rot="18906000">
              <a:off x="4911480" y="3450960"/>
              <a:ext cx="1104840" cy="1159920"/>
            </a:xfrm>
            <a:custGeom>
              <a:avLst/>
              <a:gdLst>
                <a:gd name="textAreaLeft" fmla="*/ 161640 w 1104840"/>
                <a:gd name="textAreaRight" fmla="*/ 943200 w 1104840"/>
                <a:gd name="textAreaTop" fmla="*/ 169920 h 1159920"/>
                <a:gd name="textAreaBottom" fmla="*/ 990000 h 11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840" y="784"/>
                  </a:moveTo>
                  <a:cubicBezTo>
                    <a:pt x="14731" y="740"/>
                    <a:pt x="14621" y="698"/>
                    <a:pt x="14510" y="657"/>
                  </a:cubicBezTo>
                  <a:lnTo>
                    <a:pt x="14840" y="784"/>
                  </a:lnTo>
                  <a:close/>
                </a:path>
              </a:pathLst>
            </a:custGeom>
            <a:gradFill rotWithShape="0">
              <a:gsLst>
                <a:gs pos="0">
                  <a:srgbClr val="91c4f3">
                    <a:alpha val="11372"/>
                  </a:srgbClr>
                </a:gs>
                <a:gs pos="100000">
                  <a:srgbClr val="3333ff">
                    <a:alpha val="0"/>
                  </a:srgbClr>
                </a:gs>
              </a:gsLst>
              <a:lin ang="26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7"/>
            <p:cNvSpPr/>
            <p:nvPr/>
          </p:nvSpPr>
          <p:spPr>
            <a:xfrm>
              <a:off x="5097240" y="3268800"/>
              <a:ext cx="754200" cy="587520"/>
            </a:xfrm>
            <a:prstGeom prst="ellipse">
              <a:avLst/>
            </a:prstGeom>
            <a:gradFill rotWithShape="0">
              <a:gsLst>
                <a:gs pos="0">
                  <a:srgbClr val="f8f8f8">
                    <a:alpha val="80000"/>
                  </a:srgbClr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8"/>
            <p:cNvSpPr/>
            <p:nvPr/>
          </p:nvSpPr>
          <p:spPr>
            <a:xfrm>
              <a:off x="5136480" y="37389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损害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2"/>
          <p:cNvGrpSpPr/>
          <p:nvPr/>
        </p:nvGrpSpPr>
        <p:grpSpPr>
          <a:xfrm>
            <a:off x="6381000" y="2984040"/>
            <a:ext cx="1922760" cy="1922760"/>
            <a:chOff x="6381000" y="2984040"/>
            <a:chExt cx="1922760" cy="1922760"/>
          </a:xfrm>
        </p:grpSpPr>
        <p:sp>
          <p:nvSpPr>
            <p:cNvPr id="89" name="Oval 31"/>
            <p:cNvSpPr/>
            <p:nvPr/>
          </p:nvSpPr>
          <p:spPr>
            <a:xfrm>
              <a:off x="6662880" y="3265560"/>
              <a:ext cx="1365120" cy="136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4823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ubChord"/>
            <p:cNvSpPr/>
            <p:nvPr/>
          </p:nvSpPr>
          <p:spPr>
            <a:xfrm rot="18906000">
              <a:off x="6662520" y="3265200"/>
              <a:ext cx="1359000" cy="1360080"/>
            </a:xfrm>
            <a:custGeom>
              <a:avLst/>
              <a:gdLst>
                <a:gd name="textAreaLeft" fmla="*/ 198360 w 1359000"/>
                <a:gd name="textAreaRight" fmla="*/ 1160640 w 1359000"/>
                <a:gd name="textAreaTop" fmla="*/ 198360 h 1360080"/>
                <a:gd name="textAreaBottom" fmla="*/ 1161720 h 13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66" y="74"/>
                  </a:moveTo>
                  <a:cubicBezTo>
                    <a:pt x="11646" y="24"/>
                    <a:pt x="11223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5668"/>
                    <a:pt x="17988" y="1245"/>
                    <a:pt x="12960" y="218"/>
                  </a:cubicBezTo>
                  <a:lnTo>
                    <a:pt x="12066" y="7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990000"/>
                </a:gs>
              </a:gsLst>
              <a:lin ang="8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ubChord"/>
            <p:cNvSpPr/>
            <p:nvPr/>
          </p:nvSpPr>
          <p:spPr>
            <a:xfrm rot="18906000">
              <a:off x="6784920" y="3450960"/>
              <a:ext cx="1104840" cy="1159920"/>
            </a:xfrm>
            <a:custGeom>
              <a:avLst/>
              <a:gdLst>
                <a:gd name="textAreaLeft" fmla="*/ 161640 w 1104840"/>
                <a:gd name="textAreaRight" fmla="*/ 943200 w 1104840"/>
                <a:gd name="textAreaTop" fmla="*/ 169920 h 1159920"/>
                <a:gd name="textAreaBottom" fmla="*/ 990000 h 11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840" y="784"/>
                  </a:moveTo>
                  <a:cubicBezTo>
                    <a:pt x="14731" y="740"/>
                    <a:pt x="14621" y="698"/>
                    <a:pt x="14510" y="657"/>
                  </a:cubicBezTo>
                  <a:lnTo>
                    <a:pt x="14840" y="784"/>
                  </a:lnTo>
                  <a:close/>
                </a:path>
              </a:pathLst>
            </a:custGeom>
            <a:gradFill rotWithShape="0">
              <a:gsLst>
                <a:gs pos="0">
                  <a:srgbClr val="91c4f3">
                    <a:alpha val="11372"/>
                  </a:srgbClr>
                </a:gs>
                <a:gs pos="100000">
                  <a:srgbClr val="3333ff">
                    <a:alpha val="0"/>
                  </a:srgbClr>
                </a:gs>
              </a:gsLst>
              <a:lin ang="26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4"/>
            <p:cNvSpPr/>
            <p:nvPr/>
          </p:nvSpPr>
          <p:spPr>
            <a:xfrm>
              <a:off x="6970680" y="3268800"/>
              <a:ext cx="754200" cy="587520"/>
            </a:xfrm>
            <a:prstGeom prst="ellipse">
              <a:avLst/>
            </a:prstGeom>
            <a:gradFill rotWithShape="0">
              <a:gsLst>
                <a:gs pos="0">
                  <a:srgbClr val="f8f8f8">
                    <a:alpha val="80000"/>
                  </a:srgbClr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5"/>
            <p:cNvSpPr/>
            <p:nvPr/>
          </p:nvSpPr>
          <p:spPr>
            <a:xfrm>
              <a:off x="6969960" y="37407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确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8"/>
          <p:cNvGrpSpPr/>
          <p:nvPr/>
        </p:nvGrpSpPr>
        <p:grpSpPr>
          <a:xfrm>
            <a:off x="1386000" y="4230720"/>
            <a:ext cx="1960560" cy="1862640"/>
            <a:chOff x="1386000" y="4230720"/>
            <a:chExt cx="1960560" cy="1862640"/>
          </a:xfrm>
        </p:grpSpPr>
        <p:grpSp>
          <p:nvGrpSpPr>
            <p:cNvPr id="95" name="Group 29"/>
            <p:cNvGrpSpPr/>
            <p:nvPr/>
          </p:nvGrpSpPr>
          <p:grpSpPr>
            <a:xfrm>
              <a:off x="1386000" y="4230720"/>
              <a:ext cx="1367640" cy="984240"/>
              <a:chOff x="1386000" y="4230720"/>
              <a:chExt cx="1367640" cy="984240"/>
            </a:xfrm>
          </p:grpSpPr>
          <p:pic>
            <p:nvPicPr>
              <p:cNvPr id="96" name="椭圆 1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386000" y="4230720"/>
                <a:ext cx="1367640" cy="9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Text Box 31"/>
              <p:cNvSpPr/>
              <p:nvPr/>
            </p:nvSpPr>
            <p:spPr>
              <a:xfrm>
                <a:off x="1587960" y="4375440"/>
                <a:ext cx="96552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椭圆 125"/>
            <p:cNvGrpSpPr/>
            <p:nvPr/>
          </p:nvGrpSpPr>
          <p:grpSpPr>
            <a:xfrm>
              <a:off x="2135160" y="5454360"/>
              <a:ext cx="1211400" cy="639000"/>
              <a:chOff x="2135160" y="5454360"/>
              <a:chExt cx="1211400" cy="639000"/>
            </a:xfrm>
          </p:grpSpPr>
          <p:pic>
            <p:nvPicPr>
              <p:cNvPr id="99" name="椭圆 125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5160" y="5461200"/>
                <a:ext cx="1211400" cy="62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Text Box 34"/>
              <p:cNvSpPr/>
              <p:nvPr/>
            </p:nvSpPr>
            <p:spPr>
              <a:xfrm rot="20122200">
                <a:off x="2278800" y="5634360"/>
                <a:ext cx="9255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Oval 65"/>
          <p:cNvSpPr/>
          <p:nvPr/>
        </p:nvSpPr>
        <p:spPr>
          <a:xfrm>
            <a:off x="6823080" y="4960800"/>
            <a:ext cx="1143000" cy="230400"/>
          </a:xfrm>
          <a:prstGeom prst="ellipse">
            <a:avLst/>
          </a:prstGeom>
          <a:gradFill rotWithShape="0">
            <a:gsLst>
              <a:gs pos="0">
                <a:srgbClr val="3b3b3b">
                  <a:alpha val="57254"/>
                </a:srgbClr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5"/>
          <p:cNvSpPr/>
          <p:nvPr/>
        </p:nvSpPr>
        <p:spPr>
          <a:xfrm>
            <a:off x="4932360" y="4921200"/>
            <a:ext cx="1143000" cy="230400"/>
          </a:xfrm>
          <a:prstGeom prst="ellipse">
            <a:avLst/>
          </a:prstGeom>
          <a:gradFill rotWithShape="0">
            <a:gsLst>
              <a:gs pos="0">
                <a:srgbClr val="3b3b3b">
                  <a:alpha val="57254"/>
                </a:srgbClr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5"/>
          <p:cNvSpPr/>
          <p:nvPr/>
        </p:nvSpPr>
        <p:spPr>
          <a:xfrm>
            <a:off x="3048120" y="4921200"/>
            <a:ext cx="1143000" cy="230400"/>
          </a:xfrm>
          <a:prstGeom prst="ellipse">
            <a:avLst/>
          </a:prstGeom>
          <a:gradFill rotWithShape="0">
            <a:gsLst>
              <a:gs pos="0">
                <a:srgbClr val="3b3b3b">
                  <a:alpha val="57254"/>
                </a:srgbClr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2590920" y="1743120"/>
            <a:ext cx="6043320" cy="82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风险就是一种未来给当事人带来</a:t>
            </a:r>
            <a:r>
              <a:rPr b="0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损失的不确定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圆角矩形 4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80880" y="306360"/>
            <a:ext cx="456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产生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14"/>
          <p:cNvSpPr/>
          <p:nvPr/>
        </p:nvSpPr>
        <p:spPr>
          <a:xfrm>
            <a:off x="3498840" y="3308400"/>
            <a:ext cx="2160720" cy="1297080"/>
          </a:xfrm>
          <a:prstGeom prst="roundRect">
            <a:avLst>
              <a:gd name="adj" fmla="val 4500"/>
            </a:avLst>
          </a:prstGeom>
          <a:gradFill rotWithShape="0">
            <a:gsLst>
              <a:gs pos="0">
                <a:srgbClr val="8eb4e3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1468440" y="2814480"/>
            <a:ext cx="62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险是指投保人根据合同约定，定期向承保人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缴纳保险费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承保人对于合同约定的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风险事件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及因其发生而造成的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财产损失承担赔偿保险金责任。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0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3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1353960" y="5208480"/>
            <a:ext cx="2948040" cy="200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3375000" y="1844640"/>
            <a:ext cx="25002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保险基本流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353960" y="4640400"/>
            <a:ext cx="2948040" cy="228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353960" y="4186080"/>
            <a:ext cx="2948040" cy="22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574560" y="2451240"/>
            <a:ext cx="1648080" cy="909000"/>
            <a:chOff x="574560" y="2451240"/>
            <a:chExt cx="1648080" cy="909000"/>
          </a:xfrm>
        </p:grpSpPr>
        <p:grpSp>
          <p:nvGrpSpPr>
            <p:cNvPr id="114" name="Group 10"/>
            <p:cNvGrpSpPr/>
            <p:nvPr/>
          </p:nvGrpSpPr>
          <p:grpSpPr>
            <a:xfrm>
              <a:off x="745560" y="2451240"/>
              <a:ext cx="1342440" cy="728640"/>
              <a:chOff x="745560" y="2451240"/>
              <a:chExt cx="1342440" cy="728640"/>
            </a:xfrm>
          </p:grpSpPr>
          <p:grpSp>
            <p:nvGrpSpPr>
              <p:cNvPr id="115" name="Group 11"/>
              <p:cNvGrpSpPr/>
              <p:nvPr/>
            </p:nvGrpSpPr>
            <p:grpSpPr>
              <a:xfrm>
                <a:off x="745560" y="2451240"/>
                <a:ext cx="1342440" cy="728640"/>
                <a:chOff x="745560" y="2451240"/>
                <a:chExt cx="1342440" cy="728640"/>
              </a:xfrm>
            </p:grpSpPr>
            <p:pic>
              <p:nvPicPr>
                <p:cNvPr id="116" name="Picture 12" descr="circuler_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45560" y="2451240"/>
                  <a:ext cx="1342440" cy="72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Oval 13"/>
                <p:cNvSpPr/>
                <p:nvPr/>
              </p:nvSpPr>
              <p:spPr>
                <a:xfrm>
                  <a:off x="745560" y="2451240"/>
                  <a:ext cx="1333440" cy="72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" name="Picture 14" descr="Picture2"/>
              <p:cNvPicPr/>
              <p:nvPr/>
            </p:nvPicPr>
            <p:blipFill>
              <a:blip r:embed="rId3"/>
              <a:stretch/>
            </p:blipFill>
            <p:spPr>
              <a:xfrm>
                <a:off x="879480" y="2458080"/>
                <a:ext cx="1060200" cy="25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WordArt 15"/>
            <p:cNvSpPr txBox="1"/>
            <p:nvPr/>
          </p:nvSpPr>
          <p:spPr>
            <a:xfrm>
              <a:off x="929160" y="2668680"/>
              <a:ext cx="938160" cy="29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缴纳保险费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20" name="Oval 16"/>
            <p:cNvSpPr/>
            <p:nvPr/>
          </p:nvSpPr>
          <p:spPr>
            <a:xfrm>
              <a:off x="574560" y="3223800"/>
              <a:ext cx="1648080" cy="136440"/>
            </a:xfrm>
            <a:prstGeom prst="ellipse">
              <a:avLst/>
            </a:prstGeom>
            <a:gradFill rotWithShape="0">
              <a:gsLst>
                <a:gs pos="0">
                  <a:srgbClr val="990000">
                    <a:alpha val="20000"/>
                  </a:srgbClr>
                </a:gs>
                <a:gs pos="100000">
                  <a:srgbClr val="99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Line 42"/>
          <p:cNvSpPr/>
          <p:nvPr/>
        </p:nvSpPr>
        <p:spPr>
          <a:xfrm>
            <a:off x="3198960" y="3651120"/>
            <a:ext cx="0" cy="24948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形标注 55"/>
          <p:cNvSpPr/>
          <p:nvPr/>
        </p:nvSpPr>
        <p:spPr>
          <a:xfrm flipH="1">
            <a:off x="395280" y="4989600"/>
            <a:ext cx="1643040" cy="438120"/>
          </a:xfrm>
          <a:prstGeom prst="wedgeEllipseCallout">
            <a:avLst>
              <a:gd name="adj1" fmla="val -52824"/>
              <a:gd name="adj2" fmla="val 10324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保人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形标注 55"/>
          <p:cNvSpPr/>
          <p:nvPr/>
        </p:nvSpPr>
        <p:spPr>
          <a:xfrm flipH="1">
            <a:off x="395280" y="4462560"/>
            <a:ext cx="1643040" cy="438120"/>
          </a:xfrm>
          <a:prstGeom prst="wedgeEllipseCallout">
            <a:avLst>
              <a:gd name="adj1" fmla="val -52824"/>
              <a:gd name="adj2" fmla="val 10324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保人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形标注 55"/>
          <p:cNvSpPr/>
          <p:nvPr/>
        </p:nvSpPr>
        <p:spPr>
          <a:xfrm flipH="1">
            <a:off x="395280" y="3963960"/>
            <a:ext cx="1643040" cy="438120"/>
          </a:xfrm>
          <a:prstGeom prst="wedgeEllipseCallout">
            <a:avLst>
              <a:gd name="adj1" fmla="val -52824"/>
              <a:gd name="adj2" fmla="val 10324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保人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6983280" y="2451240"/>
            <a:ext cx="1648080" cy="911160"/>
            <a:chOff x="6983280" y="2451240"/>
            <a:chExt cx="1648080" cy="911160"/>
          </a:xfrm>
        </p:grpSpPr>
        <p:grpSp>
          <p:nvGrpSpPr>
            <p:cNvPr id="126" name="Group 10"/>
            <p:cNvGrpSpPr/>
            <p:nvPr/>
          </p:nvGrpSpPr>
          <p:grpSpPr>
            <a:xfrm>
              <a:off x="7154280" y="2451240"/>
              <a:ext cx="1342440" cy="730080"/>
              <a:chOff x="7154280" y="2451240"/>
              <a:chExt cx="1342440" cy="730080"/>
            </a:xfrm>
          </p:grpSpPr>
          <p:grpSp>
            <p:nvGrpSpPr>
              <p:cNvPr id="127" name="Group 11"/>
              <p:cNvGrpSpPr/>
              <p:nvPr/>
            </p:nvGrpSpPr>
            <p:grpSpPr>
              <a:xfrm>
                <a:off x="7154280" y="2451240"/>
                <a:ext cx="1342440" cy="730080"/>
                <a:chOff x="7154280" y="2451240"/>
                <a:chExt cx="1342440" cy="730080"/>
              </a:xfrm>
            </p:grpSpPr>
            <p:pic>
              <p:nvPicPr>
                <p:cNvPr id="128" name="Picture 12" descr="circuler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54280" y="2451240"/>
                  <a:ext cx="1342440" cy="72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Oval 13"/>
                <p:cNvSpPr/>
                <p:nvPr/>
              </p:nvSpPr>
              <p:spPr>
                <a:xfrm>
                  <a:off x="7154280" y="2451240"/>
                  <a:ext cx="1333440" cy="73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0" name="Picture 14" descr="Picture2"/>
              <p:cNvPicPr/>
              <p:nvPr/>
            </p:nvPicPr>
            <p:blipFill>
              <a:blip r:embed="rId5"/>
              <a:stretch/>
            </p:blipFill>
            <p:spPr>
              <a:xfrm>
                <a:off x="7288200" y="2458080"/>
                <a:ext cx="1060200" cy="25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WordArt 15"/>
            <p:cNvSpPr txBox="1"/>
            <p:nvPr/>
          </p:nvSpPr>
          <p:spPr>
            <a:xfrm>
              <a:off x="7356240" y="2669040"/>
              <a:ext cx="9381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支付赔偿金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6983280" y="3225600"/>
              <a:ext cx="1648080" cy="136800"/>
            </a:xfrm>
            <a:prstGeom prst="ellipse">
              <a:avLst/>
            </a:prstGeom>
            <a:gradFill rotWithShape="0">
              <a:gsLst>
                <a:gs pos="0">
                  <a:srgbClr val="990000">
                    <a:alpha val="20000"/>
                  </a:srgbClr>
                </a:gs>
                <a:gs pos="100000">
                  <a:srgbClr val="99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6"/>
          <p:cNvSpPr/>
          <p:nvPr/>
        </p:nvSpPr>
        <p:spPr>
          <a:xfrm>
            <a:off x="4302000" y="4186080"/>
            <a:ext cx="3838680" cy="1216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6"/>
          <p:cNvGrpSpPr/>
          <p:nvPr/>
        </p:nvGrpSpPr>
        <p:grpSpPr>
          <a:xfrm>
            <a:off x="6829560" y="4140360"/>
            <a:ext cx="2096640" cy="1520640"/>
            <a:chOff x="6829560" y="4140360"/>
            <a:chExt cx="2096640" cy="1520640"/>
          </a:xfrm>
        </p:grpSpPr>
        <p:grpSp>
          <p:nvGrpSpPr>
            <p:cNvPr id="135" name="Group 27"/>
            <p:cNvGrpSpPr/>
            <p:nvPr/>
          </p:nvGrpSpPr>
          <p:grpSpPr>
            <a:xfrm>
              <a:off x="7003800" y="4140360"/>
              <a:ext cx="1705680" cy="1260360"/>
              <a:chOff x="7003800" y="4140360"/>
              <a:chExt cx="1705680" cy="1260360"/>
            </a:xfrm>
          </p:grpSpPr>
          <p:grpSp>
            <p:nvGrpSpPr>
              <p:cNvPr id="136" name="Group 28"/>
              <p:cNvGrpSpPr/>
              <p:nvPr/>
            </p:nvGrpSpPr>
            <p:grpSpPr>
              <a:xfrm>
                <a:off x="7003800" y="4140360"/>
                <a:ext cx="1705680" cy="1260360"/>
                <a:chOff x="7003800" y="4140360"/>
                <a:chExt cx="1705680" cy="1260360"/>
              </a:xfrm>
            </p:grpSpPr>
            <p:pic>
              <p:nvPicPr>
                <p:cNvPr id="137" name="Picture 37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003800" y="4140360"/>
                  <a:ext cx="1705680" cy="121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Oval 38"/>
                <p:cNvSpPr/>
                <p:nvPr/>
              </p:nvSpPr>
              <p:spPr>
                <a:xfrm>
                  <a:off x="7003800" y="4185720"/>
                  <a:ext cx="1694160" cy="121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9" name="Picture 39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7174080" y="4152240"/>
                <a:ext cx="1347480" cy="42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WordArt 40"/>
            <p:cNvSpPr txBox="1"/>
            <p:nvPr/>
          </p:nvSpPr>
          <p:spPr>
            <a:xfrm>
              <a:off x="7281000" y="4502520"/>
              <a:ext cx="119196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风险事件受损者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41" name="Oval 41"/>
            <p:cNvSpPr/>
            <p:nvPr/>
          </p:nvSpPr>
          <p:spPr>
            <a:xfrm>
              <a:off x="6829560" y="5434560"/>
              <a:ext cx="209664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3595680" y="4186080"/>
            <a:ext cx="1527120" cy="1521000"/>
            <a:chOff x="3595680" y="4186080"/>
            <a:chExt cx="1527120" cy="1521000"/>
          </a:xfrm>
        </p:grpSpPr>
        <p:grpSp>
          <p:nvGrpSpPr>
            <p:cNvPr id="143" name="Group 18"/>
            <p:cNvGrpSpPr/>
            <p:nvPr/>
          </p:nvGrpSpPr>
          <p:grpSpPr>
            <a:xfrm>
              <a:off x="3722760" y="4186080"/>
              <a:ext cx="1242720" cy="1214640"/>
              <a:chOff x="3722760" y="4186080"/>
              <a:chExt cx="1242720" cy="1214640"/>
            </a:xfrm>
          </p:grpSpPr>
          <p:grpSp>
            <p:nvGrpSpPr>
              <p:cNvPr id="144" name="Group 19"/>
              <p:cNvGrpSpPr/>
              <p:nvPr/>
            </p:nvGrpSpPr>
            <p:grpSpPr>
              <a:xfrm>
                <a:off x="3722760" y="4186080"/>
                <a:ext cx="1242720" cy="1214640"/>
                <a:chOff x="3722760" y="4186080"/>
                <a:chExt cx="1242720" cy="1214640"/>
              </a:xfrm>
            </p:grpSpPr>
            <p:pic>
              <p:nvPicPr>
                <p:cNvPr id="145" name="Picture 28" descr="circuler_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722760" y="4186080"/>
                  <a:ext cx="1242720" cy="12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Oval 29"/>
                <p:cNvSpPr/>
                <p:nvPr/>
              </p:nvSpPr>
              <p:spPr>
                <a:xfrm>
                  <a:off x="3722760" y="4186080"/>
                  <a:ext cx="123408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7" name="Picture 30" descr="Picture2"/>
              <p:cNvPicPr/>
              <p:nvPr/>
            </p:nvPicPr>
            <p:blipFill>
              <a:blip r:embed="rId9"/>
              <a:stretch/>
            </p:blipFill>
            <p:spPr>
              <a:xfrm>
                <a:off x="3846600" y="4197960"/>
                <a:ext cx="981360" cy="42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WordArt 31"/>
            <p:cNvSpPr txBox="1"/>
            <p:nvPr/>
          </p:nvSpPr>
          <p:spPr>
            <a:xfrm>
              <a:off x="3903120" y="4548240"/>
              <a:ext cx="86832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保险基金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49" name="Oval 32"/>
            <p:cNvSpPr/>
            <p:nvPr/>
          </p:nvSpPr>
          <p:spPr>
            <a:xfrm>
              <a:off x="3595680" y="548064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椭圆形标注 56"/>
          <p:cNvSpPr/>
          <p:nvPr/>
        </p:nvSpPr>
        <p:spPr>
          <a:xfrm>
            <a:off x="5548320" y="3548160"/>
            <a:ext cx="1455840" cy="501480"/>
          </a:xfrm>
          <a:prstGeom prst="wedgeEllipseCallout">
            <a:avLst>
              <a:gd name="adj1" fmla="val -32342"/>
              <a:gd name="adj2" fmla="val 86240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额流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3"/>
          <p:cNvSpPr/>
          <p:nvPr/>
        </p:nvSpPr>
        <p:spPr>
          <a:xfrm>
            <a:off x="4965840" y="4795920"/>
            <a:ext cx="203832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形标注 56"/>
          <p:cNvSpPr/>
          <p:nvPr/>
        </p:nvSpPr>
        <p:spPr>
          <a:xfrm>
            <a:off x="2438280" y="3540240"/>
            <a:ext cx="1465560" cy="500040"/>
          </a:xfrm>
          <a:prstGeom prst="wedgeEllipseCallout">
            <a:avLst>
              <a:gd name="adj1" fmla="val -32342"/>
              <a:gd name="adj2" fmla="val 86240"/>
            </a:avLst>
          </a:prstGeom>
          <a:solidFill>
            <a:srgbClr val="badde1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额流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:\Users\Administrator\Desktop\3DSYRW_5017_副本.png"/>
          <p:cNvPicPr/>
          <p:nvPr/>
        </p:nvPicPr>
        <p:blipFill>
          <a:blip r:embed="rId10"/>
          <a:stretch/>
        </p:blipFill>
        <p:spPr>
          <a:xfrm>
            <a:off x="1581120" y="370044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Administrator\Desktop\3DSYRW_5017_副本.png"/>
          <p:cNvPicPr/>
          <p:nvPr/>
        </p:nvPicPr>
        <p:blipFill>
          <a:blip r:embed="rId11"/>
          <a:stretch/>
        </p:blipFill>
        <p:spPr>
          <a:xfrm>
            <a:off x="1581120" y="42991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ministrator\Desktop\3DSYRW_5017_副本.png"/>
          <p:cNvPicPr/>
          <p:nvPr/>
        </p:nvPicPr>
        <p:blipFill>
          <a:blip r:embed="rId12"/>
          <a:stretch/>
        </p:blipFill>
        <p:spPr>
          <a:xfrm>
            <a:off x="1598760" y="490068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Administrator\Desktop\3DSYRW_5017_副本.png"/>
          <p:cNvPicPr/>
          <p:nvPr/>
        </p:nvPicPr>
        <p:blipFill>
          <a:blip r:embed="rId13"/>
          <a:stretch/>
        </p:blipFill>
        <p:spPr>
          <a:xfrm>
            <a:off x="4572000" y="3675240"/>
            <a:ext cx="1290600" cy="17190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4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80880" y="306360"/>
            <a:ext cx="456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产生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"/>
          <p:cNvSpPr/>
          <p:nvPr/>
        </p:nvSpPr>
        <p:spPr>
          <a:xfrm>
            <a:off x="3670200" y="5634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承保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收支平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0.28907 -7.40741E-007 E">
                                      <p:cBhvr>
                                        <p:cTn id="294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7.40741E-007 L 0.28907 7.40741E-007 E">
                                      <p:cBhvr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11111E-006 -7.40741E-007 L 0.28733 -7.40741E-007 E">
                                      <p:cBhvr>
                                        <p:cTn id="304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7 L 0.32292 3.7037E-007 E">
                                      <p:cBhvr>
                                        <p:cTn id="320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5"/>
          <p:cNvGrpSpPr/>
          <p:nvPr/>
        </p:nvGrpSpPr>
        <p:grpSpPr>
          <a:xfrm>
            <a:off x="3494160" y="2616120"/>
            <a:ext cx="2530440" cy="2529000"/>
            <a:chOff x="3494160" y="2616120"/>
            <a:chExt cx="2530440" cy="2529000"/>
          </a:xfrm>
        </p:grpSpPr>
        <p:pic>
          <p:nvPicPr>
            <p:cNvPr id="161" name="任意多边形 3" descr=""/>
            <p:cNvPicPr/>
            <p:nvPr/>
          </p:nvPicPr>
          <p:blipFill>
            <a:blip r:embed="rId2"/>
            <a:stretch/>
          </p:blipFill>
          <p:spPr>
            <a:xfrm>
              <a:off x="3494160" y="2616120"/>
              <a:ext cx="253044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8"/>
            <p:cNvSpPr/>
            <p:nvPr/>
          </p:nvSpPr>
          <p:spPr>
            <a:xfrm>
              <a:off x="3549600" y="2644560"/>
              <a:ext cx="242280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0320" rIns="400320" tIns="400320" bIns="400320" anchor="ctr">
              <a:norm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保险的内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1930320" y="752400"/>
            <a:ext cx="5641920" cy="5570640"/>
            <a:chOff x="1930320" y="752400"/>
            <a:chExt cx="5641920" cy="5570640"/>
          </a:xfrm>
        </p:grpSpPr>
        <p:grpSp>
          <p:nvGrpSpPr>
            <p:cNvPr id="164" name="Group 9"/>
            <p:cNvGrpSpPr/>
            <p:nvPr/>
          </p:nvGrpSpPr>
          <p:grpSpPr>
            <a:xfrm>
              <a:off x="2631960" y="1448640"/>
              <a:ext cx="2170440" cy="1397880"/>
              <a:chOff x="2631960" y="1448640"/>
              <a:chExt cx="2170440" cy="1397880"/>
            </a:xfrm>
          </p:grpSpPr>
          <p:pic>
            <p:nvPicPr>
              <p:cNvPr id="165" name="空心弧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631960" y="1448640"/>
                <a:ext cx="2170440" cy="139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12"/>
              <p:cNvSpPr/>
              <p:nvPr/>
            </p:nvSpPr>
            <p:spPr>
              <a:xfrm>
                <a:off x="2682360" y="1476000"/>
                <a:ext cx="2068560" cy="13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2313360" y="2641680"/>
              <a:ext cx="604440" cy="2488320"/>
              <a:chOff x="2313360" y="2641680"/>
              <a:chExt cx="604440" cy="2488320"/>
            </a:xfrm>
          </p:grpSpPr>
          <p:pic>
            <p:nvPicPr>
              <p:cNvPr id="168" name="空心弧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313360" y="2641680"/>
                <a:ext cx="604440" cy="24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Text Box 15"/>
              <p:cNvSpPr/>
              <p:nvPr/>
            </p:nvSpPr>
            <p:spPr>
              <a:xfrm>
                <a:off x="2361600" y="2670120"/>
                <a:ext cx="507960" cy="238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5"/>
            <p:cNvGrpSpPr/>
            <p:nvPr/>
          </p:nvGrpSpPr>
          <p:grpSpPr>
            <a:xfrm>
              <a:off x="2631960" y="4919760"/>
              <a:ext cx="2170440" cy="1403280"/>
              <a:chOff x="2631960" y="4919760"/>
              <a:chExt cx="2170440" cy="1403280"/>
            </a:xfrm>
          </p:grpSpPr>
          <p:pic>
            <p:nvPicPr>
              <p:cNvPr id="171" name="空心弧 7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1960" y="4919760"/>
                <a:ext cx="217044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Text Box 18"/>
              <p:cNvSpPr/>
              <p:nvPr/>
            </p:nvSpPr>
            <p:spPr>
              <a:xfrm>
                <a:off x="2682360" y="4951440"/>
                <a:ext cx="2068560" cy="13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8"/>
            <p:cNvGrpSpPr/>
            <p:nvPr/>
          </p:nvGrpSpPr>
          <p:grpSpPr>
            <a:xfrm>
              <a:off x="4700160" y="4919760"/>
              <a:ext cx="2170440" cy="1403280"/>
              <a:chOff x="4700160" y="4919760"/>
              <a:chExt cx="2170440" cy="1403280"/>
            </a:xfrm>
          </p:grpSpPr>
          <p:pic>
            <p:nvPicPr>
              <p:cNvPr id="174" name="空心弧 8" descr=""/>
              <p:cNvPicPr/>
              <p:nvPr/>
            </p:nvPicPr>
            <p:blipFill>
              <a:blip r:embed="rId6"/>
              <a:stretch/>
            </p:blipFill>
            <p:spPr>
              <a:xfrm>
                <a:off x="4700160" y="4919760"/>
                <a:ext cx="217044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1"/>
              <p:cNvSpPr/>
              <p:nvPr/>
            </p:nvSpPr>
            <p:spPr>
              <a:xfrm>
                <a:off x="4752720" y="4951440"/>
                <a:ext cx="2068560" cy="13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1"/>
            <p:cNvGrpSpPr/>
            <p:nvPr/>
          </p:nvGrpSpPr>
          <p:grpSpPr>
            <a:xfrm>
              <a:off x="6584400" y="2641680"/>
              <a:ext cx="604440" cy="2488320"/>
              <a:chOff x="6584400" y="2641680"/>
              <a:chExt cx="604440" cy="2488320"/>
            </a:xfrm>
          </p:grpSpPr>
          <p:pic>
            <p:nvPicPr>
              <p:cNvPr id="177" name="空心弧 9" descr=""/>
              <p:cNvPicPr/>
              <p:nvPr/>
            </p:nvPicPr>
            <p:blipFill>
              <a:blip r:embed="rId7"/>
              <a:stretch/>
            </p:blipFill>
            <p:spPr>
              <a:xfrm>
                <a:off x="6584400" y="2641680"/>
                <a:ext cx="604440" cy="24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24"/>
              <p:cNvSpPr/>
              <p:nvPr/>
            </p:nvSpPr>
            <p:spPr>
              <a:xfrm>
                <a:off x="6635520" y="2670120"/>
                <a:ext cx="506160" cy="238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24"/>
            <p:cNvGrpSpPr/>
            <p:nvPr/>
          </p:nvGrpSpPr>
          <p:grpSpPr>
            <a:xfrm>
              <a:off x="4700160" y="1448640"/>
              <a:ext cx="2170440" cy="1397880"/>
              <a:chOff x="4700160" y="1448640"/>
              <a:chExt cx="2170440" cy="1397880"/>
            </a:xfrm>
          </p:grpSpPr>
          <p:pic>
            <p:nvPicPr>
              <p:cNvPr id="180" name="空心弧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4700160" y="1448640"/>
                <a:ext cx="2170440" cy="139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27"/>
              <p:cNvSpPr/>
              <p:nvPr/>
            </p:nvSpPr>
            <p:spPr>
              <a:xfrm>
                <a:off x="4752720" y="1476000"/>
                <a:ext cx="2068560" cy="13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27"/>
            <p:cNvGrpSpPr/>
            <p:nvPr/>
          </p:nvGrpSpPr>
          <p:grpSpPr>
            <a:xfrm>
              <a:off x="3954960" y="752400"/>
              <a:ext cx="1598040" cy="1597680"/>
              <a:chOff x="3954960" y="752400"/>
              <a:chExt cx="1598040" cy="1597680"/>
            </a:xfrm>
          </p:grpSpPr>
          <p:pic>
            <p:nvPicPr>
              <p:cNvPr id="183" name="任意多边形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3954960" y="752400"/>
                <a:ext cx="1598040" cy="159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30"/>
              <p:cNvSpPr/>
              <p:nvPr/>
            </p:nvSpPr>
            <p:spPr>
              <a:xfrm>
                <a:off x="4008240" y="799920"/>
                <a:ext cx="1501920" cy="150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8640" rIns="278640" tIns="278640" bIns="27864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运作机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33"/>
            <p:cNvGrpSpPr/>
            <p:nvPr/>
          </p:nvGrpSpPr>
          <p:grpSpPr>
            <a:xfrm>
              <a:off x="5974200" y="4255560"/>
              <a:ext cx="1598040" cy="1597680"/>
              <a:chOff x="5974200" y="4255560"/>
              <a:chExt cx="1598040" cy="1597680"/>
            </a:xfrm>
          </p:grpSpPr>
          <p:pic>
            <p:nvPicPr>
              <p:cNvPr id="186" name="任意多边形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74200" y="4255560"/>
                <a:ext cx="1598040" cy="159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36"/>
              <p:cNvSpPr/>
              <p:nvPr/>
            </p:nvSpPr>
            <p:spPr>
              <a:xfrm>
                <a:off x="6022800" y="4281120"/>
                <a:ext cx="1503360" cy="150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0" rIns="273600" tIns="273600" bIns="27360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社会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39"/>
            <p:cNvGrpSpPr/>
            <p:nvPr/>
          </p:nvGrpSpPr>
          <p:grpSpPr>
            <a:xfrm>
              <a:off x="1930320" y="4255560"/>
              <a:ext cx="1598040" cy="1597680"/>
              <a:chOff x="1930320" y="4255560"/>
              <a:chExt cx="1598040" cy="1597680"/>
            </a:xfrm>
          </p:grpSpPr>
          <p:pic>
            <p:nvPicPr>
              <p:cNvPr id="189" name="任意多边形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30320" y="4255560"/>
                <a:ext cx="1598040" cy="159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42"/>
              <p:cNvSpPr/>
              <p:nvPr/>
            </p:nvSpPr>
            <p:spPr>
              <a:xfrm>
                <a:off x="1979280" y="4281120"/>
                <a:ext cx="1501920" cy="150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3680" rIns="283680" tIns="283680" bIns="2836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经济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圆角矩形 4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80880" y="306360"/>
            <a:ext cx="456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产生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7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7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3.88889E-006 0.72963 E">
                                      <p:cBhvr>
                                        <p:cTn id="41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3.88889E-006 0.68495 E">
                                      <p:cBhvr>
                                        <p:cTn id="41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圆角矩形 14"/>
          <p:cNvSpPr/>
          <p:nvPr/>
        </p:nvSpPr>
        <p:spPr>
          <a:xfrm>
            <a:off x="3529080" y="2954160"/>
            <a:ext cx="2160360" cy="1297080"/>
          </a:xfrm>
          <a:prstGeom prst="roundRect">
            <a:avLst>
              <a:gd name="adj" fmla="val 4500"/>
            </a:avLst>
          </a:prstGeom>
          <a:gradFill rotWithShape="0">
            <a:gsLst>
              <a:gs pos="0">
                <a:srgbClr val="8eb4e3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7"/>
          <p:cNvSpPr/>
          <p:nvPr/>
        </p:nvSpPr>
        <p:spPr>
          <a:xfrm>
            <a:off x="2022480" y="2448000"/>
            <a:ext cx="53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从运作机制的视角分析，保险的本质在于以多数人支付的小额保费，赔付少数人遭遇的大额损失。通俗的说，保险就是集万家之财，救一家之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8"/>
          <p:cNvSpPr/>
          <p:nvPr/>
        </p:nvSpPr>
        <p:spPr>
          <a:xfrm>
            <a:off x="2063880" y="2460600"/>
            <a:ext cx="53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从经济学的视角分析，保险的本质是对客观存在的未来风险进行转移的机制。个人通过保险，可以把不确定性损失转变为确定性成本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9"/>
          <p:cNvSpPr/>
          <p:nvPr/>
        </p:nvSpPr>
        <p:spPr>
          <a:xfrm>
            <a:off x="1841400" y="2448000"/>
            <a:ext cx="54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从社会学的视角分析，保险本质上体现了人们的互助精神，把原来不稳定的风险，转化为稳定的因素，从而保障社会健康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46"/>
          <p:cNvGrpSpPr/>
          <p:nvPr/>
        </p:nvGrpSpPr>
        <p:grpSpPr>
          <a:xfrm>
            <a:off x="1690920" y="5454720"/>
            <a:ext cx="6228360" cy="6216480"/>
            <a:chOff x="1690920" y="5454720"/>
            <a:chExt cx="6228360" cy="6216480"/>
          </a:xfrm>
        </p:grpSpPr>
        <p:grpSp>
          <p:nvGrpSpPr>
            <p:cNvPr id="198" name="组合 43"/>
            <p:cNvGrpSpPr/>
            <p:nvPr/>
          </p:nvGrpSpPr>
          <p:grpSpPr>
            <a:xfrm>
              <a:off x="1917000" y="5454720"/>
              <a:ext cx="5924520" cy="6216480"/>
              <a:chOff x="1917000" y="5454720"/>
              <a:chExt cx="5924520" cy="6216480"/>
            </a:xfrm>
          </p:grpSpPr>
          <p:grpSp>
            <p:nvGrpSpPr>
              <p:cNvPr id="199" name="Group 11"/>
              <p:cNvGrpSpPr/>
              <p:nvPr/>
            </p:nvGrpSpPr>
            <p:grpSpPr>
              <a:xfrm>
                <a:off x="1917000" y="5454720"/>
                <a:ext cx="5924520" cy="5541480"/>
                <a:chOff x="1917000" y="5454720"/>
                <a:chExt cx="5924520" cy="5541480"/>
              </a:xfrm>
            </p:grpSpPr>
            <p:grpSp>
              <p:nvGrpSpPr>
                <p:cNvPr id="200" name="Group 12"/>
                <p:cNvGrpSpPr/>
                <p:nvPr/>
              </p:nvGrpSpPr>
              <p:grpSpPr>
                <a:xfrm>
                  <a:off x="2639160" y="6149520"/>
                  <a:ext cx="2176560" cy="1396080"/>
                  <a:chOff x="2639160" y="6149520"/>
                  <a:chExt cx="2176560" cy="1396080"/>
                </a:xfrm>
              </p:grpSpPr>
              <p:pic>
                <p:nvPicPr>
                  <p:cNvPr id="201" name="空心弧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160" y="6149520"/>
                    <a:ext cx="2176560" cy="13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2" name="Text Box 14"/>
                  <p:cNvSpPr/>
                  <p:nvPr/>
                </p:nvSpPr>
                <p:spPr>
                  <a:xfrm>
                    <a:off x="2698200" y="6183000"/>
                    <a:ext cx="2062440" cy="12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15"/>
                <p:cNvGrpSpPr/>
                <p:nvPr/>
              </p:nvGrpSpPr>
              <p:grpSpPr>
                <a:xfrm>
                  <a:off x="2316240" y="7332480"/>
                  <a:ext cx="621720" cy="2487240"/>
                  <a:chOff x="2316240" y="7332480"/>
                  <a:chExt cx="621720" cy="2487240"/>
                </a:xfrm>
              </p:grpSpPr>
              <p:pic>
                <p:nvPicPr>
                  <p:cNvPr id="204" name="空心弧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6240" y="7332480"/>
                    <a:ext cx="621720" cy="24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5" name="Text Box 17"/>
                  <p:cNvSpPr/>
                  <p:nvPr/>
                </p:nvSpPr>
                <p:spPr>
                  <a:xfrm>
                    <a:off x="2376360" y="7362720"/>
                    <a:ext cx="507960" cy="23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18"/>
                <p:cNvGrpSpPr/>
                <p:nvPr/>
              </p:nvGrpSpPr>
              <p:grpSpPr>
                <a:xfrm>
                  <a:off x="2639160" y="9600120"/>
                  <a:ext cx="2176560" cy="1396080"/>
                  <a:chOff x="2639160" y="9600120"/>
                  <a:chExt cx="2176560" cy="1396080"/>
                </a:xfrm>
              </p:grpSpPr>
              <p:pic>
                <p:nvPicPr>
                  <p:cNvPr id="207" name="空心弧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9160" y="9600120"/>
                    <a:ext cx="2176560" cy="13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" name="Text Box 20"/>
                  <p:cNvSpPr/>
                  <p:nvPr/>
                </p:nvSpPr>
                <p:spPr>
                  <a:xfrm>
                    <a:off x="2698200" y="9635760"/>
                    <a:ext cx="2062440" cy="12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21"/>
                <p:cNvGrpSpPr/>
                <p:nvPr/>
              </p:nvGrpSpPr>
              <p:grpSpPr>
                <a:xfrm>
                  <a:off x="4700160" y="9600120"/>
                  <a:ext cx="2176560" cy="1396080"/>
                  <a:chOff x="4700160" y="9600120"/>
                  <a:chExt cx="2176560" cy="1396080"/>
                </a:xfrm>
              </p:grpSpPr>
              <p:pic>
                <p:nvPicPr>
                  <p:cNvPr id="210" name="空心弧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0160" y="9600120"/>
                    <a:ext cx="2176560" cy="13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1" name="Text Box 23"/>
                  <p:cNvSpPr/>
                  <p:nvPr/>
                </p:nvSpPr>
                <p:spPr>
                  <a:xfrm>
                    <a:off x="4760640" y="9635760"/>
                    <a:ext cx="2062440" cy="12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24"/>
                <p:cNvGrpSpPr/>
                <p:nvPr/>
              </p:nvGrpSpPr>
              <p:grpSpPr>
                <a:xfrm>
                  <a:off x="6577920" y="7332480"/>
                  <a:ext cx="621720" cy="2487240"/>
                  <a:chOff x="6577920" y="7332480"/>
                  <a:chExt cx="621720" cy="2487240"/>
                </a:xfrm>
              </p:grpSpPr>
              <p:pic>
                <p:nvPicPr>
                  <p:cNvPr id="213" name="空心弧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7920" y="7332480"/>
                    <a:ext cx="621720" cy="24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Text Box 26"/>
                  <p:cNvSpPr/>
                  <p:nvPr/>
                </p:nvSpPr>
                <p:spPr>
                  <a:xfrm>
                    <a:off x="6637320" y="7362720"/>
                    <a:ext cx="506520" cy="23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27"/>
                <p:cNvGrpSpPr/>
                <p:nvPr/>
              </p:nvGrpSpPr>
              <p:grpSpPr>
                <a:xfrm>
                  <a:off x="4700160" y="6149520"/>
                  <a:ext cx="2176560" cy="1396080"/>
                  <a:chOff x="4700160" y="6149520"/>
                  <a:chExt cx="2176560" cy="1396080"/>
                </a:xfrm>
              </p:grpSpPr>
              <p:pic>
                <p:nvPicPr>
                  <p:cNvPr id="216" name="空心弧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00160" y="6149520"/>
                    <a:ext cx="2176560" cy="13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" name="Text Box 29"/>
                  <p:cNvSpPr/>
                  <p:nvPr/>
                </p:nvSpPr>
                <p:spPr>
                  <a:xfrm>
                    <a:off x="4760640" y="6183000"/>
                    <a:ext cx="2062440" cy="12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30"/>
                <p:cNvGrpSpPr/>
                <p:nvPr/>
              </p:nvGrpSpPr>
              <p:grpSpPr>
                <a:xfrm>
                  <a:off x="3627000" y="7454160"/>
                  <a:ext cx="2255760" cy="2237400"/>
                  <a:chOff x="3627000" y="7454160"/>
                  <a:chExt cx="2255760" cy="2237400"/>
                </a:xfrm>
              </p:grpSpPr>
              <p:pic>
                <p:nvPicPr>
                  <p:cNvPr id="219" name="任意多边形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7000" y="7454160"/>
                    <a:ext cx="2255760" cy="22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Text Box 32"/>
                  <p:cNvSpPr/>
                  <p:nvPr/>
                </p:nvSpPr>
                <p:spPr>
                  <a:xfrm>
                    <a:off x="3690720" y="7489440"/>
                    <a:ext cx="2140200" cy="212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00320" rIns="400320" tIns="400320" bIns="400320" anchor="ctr">
                    <a:normAutofit/>
                  </a:bodyPr>
                  <a:p>
                    <a:pPr algn="ctr">
                      <a:lnSpc>
                        <a:spcPct val="90000"/>
                      </a:lnSpc>
                      <a:spcAft>
                        <a:spcPts val="1225"/>
                      </a:spcAft>
                      <a:tabLst>
                        <a:tab algn="l" pos="0"/>
                        <a:tab algn="l" pos="1066680"/>
                        <a:tab algn="l" pos="2133720"/>
                        <a:tab algn="l" pos="3200400"/>
                        <a:tab algn="l" pos="4267080"/>
                        <a:tab algn="l" pos="5334120"/>
                        <a:tab algn="l" pos="6400800"/>
                        <a:tab algn="l" pos="7467480"/>
                        <a:tab algn="l" pos="8534520"/>
                        <a:tab algn="l" pos="9601200"/>
                        <a:tab algn="l" pos="10667880"/>
                      </a:tabLst>
                    </a:pPr>
                    <a:r>
                      <a:rPr b="0" lang="zh-CN" sz="28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原因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33"/>
                <p:cNvGrpSpPr/>
                <p:nvPr/>
              </p:nvGrpSpPr>
              <p:grpSpPr>
                <a:xfrm>
                  <a:off x="3950280" y="5454720"/>
                  <a:ext cx="1615680" cy="1596960"/>
                  <a:chOff x="3950280" y="5454720"/>
                  <a:chExt cx="1615680" cy="1596960"/>
                </a:xfrm>
              </p:grpSpPr>
              <p:pic>
                <p:nvPicPr>
                  <p:cNvPr id="222" name="任意多边形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0280" y="5454720"/>
                    <a:ext cx="16156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3" name="Text Box 35"/>
                  <p:cNvSpPr/>
                  <p:nvPr/>
                </p:nvSpPr>
                <p:spPr>
                  <a:xfrm>
                    <a:off x="4010040" y="5508360"/>
                    <a:ext cx="1498680" cy="148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278640" rIns="278640" tIns="278640" bIns="278640" anchor="ctr">
                    <a:normAutofit/>
                  </a:bodyPr>
                  <a:p>
                    <a:pPr algn="ctr">
                      <a:lnSpc>
                        <a:spcPct val="90000"/>
                      </a:lnSpc>
                      <a:spcAft>
                        <a:spcPts val="1225"/>
                      </a:spcAft>
                      <a:tabLst>
                        <a:tab algn="l" pos="0"/>
                        <a:tab algn="l" pos="1066680"/>
                        <a:tab algn="l" pos="2133720"/>
                        <a:tab algn="l" pos="3200400"/>
                        <a:tab algn="l" pos="4267080"/>
                        <a:tab algn="l" pos="5334120"/>
                        <a:tab algn="l" pos="6400800"/>
                        <a:tab algn="l" pos="7467480"/>
                        <a:tab algn="l" pos="8534520"/>
                        <a:tab algn="l" pos="9601200"/>
                        <a:tab algn="l" pos="10667880"/>
                      </a:tabLst>
                    </a:pPr>
                    <a:r>
                      <a:rPr b="0" lang="zh-CN" sz="28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运作机制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39"/>
                <p:cNvGrpSpPr/>
                <p:nvPr/>
              </p:nvGrpSpPr>
              <p:grpSpPr>
                <a:xfrm>
                  <a:off x="5715000" y="8609400"/>
                  <a:ext cx="2126520" cy="2176560"/>
                  <a:chOff x="5715000" y="8609400"/>
                  <a:chExt cx="2126520" cy="2176560"/>
                </a:xfrm>
              </p:grpSpPr>
              <p:pic>
                <p:nvPicPr>
                  <p:cNvPr id="225" name="任意多边形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8440" y="8856360"/>
                    <a:ext cx="1737360" cy="17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6" name="Text Box 41"/>
                  <p:cNvSpPr/>
                  <p:nvPr/>
                </p:nvSpPr>
                <p:spPr>
                  <a:xfrm rot="7240800">
                    <a:off x="5957280" y="8948160"/>
                    <a:ext cx="1641600" cy="1498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273600" rIns="273600" tIns="273600" bIns="273600" anchor="ctr">
                    <a:normAutofit/>
                  </a:bodyPr>
                  <a:p>
                    <a:pPr algn="ctr">
                      <a:lnSpc>
                        <a:spcPct val="90000"/>
                      </a:lnSpc>
                      <a:spcAft>
                        <a:spcPts val="1225"/>
                      </a:spcAft>
                      <a:tabLst>
                        <a:tab algn="l" pos="0"/>
                        <a:tab algn="l" pos="1066680"/>
                        <a:tab algn="l" pos="2133720"/>
                        <a:tab algn="l" pos="3200400"/>
                        <a:tab algn="l" pos="4267080"/>
                        <a:tab algn="l" pos="5334120"/>
                        <a:tab algn="l" pos="6400800"/>
                        <a:tab algn="l" pos="7467480"/>
                        <a:tab algn="l" pos="8534520"/>
                        <a:tab algn="l" pos="9601200"/>
                        <a:tab algn="l" pos="10667880"/>
                      </a:tabLst>
                    </a:pPr>
                    <a:r>
                      <a:rPr b="0" lang="zh-CN" sz="28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社会学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45"/>
                <p:cNvGrpSpPr/>
                <p:nvPr/>
              </p:nvGrpSpPr>
              <p:grpSpPr>
                <a:xfrm>
                  <a:off x="1917000" y="8556840"/>
                  <a:ext cx="2049120" cy="2045160"/>
                  <a:chOff x="1917000" y="8556840"/>
                  <a:chExt cx="2049120" cy="2045160"/>
                </a:xfrm>
              </p:grpSpPr>
              <p:pic>
                <p:nvPicPr>
                  <p:cNvPr id="228" name="任意多边形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38240" y="8929800"/>
                    <a:ext cx="16038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Text Box 47"/>
                  <p:cNvSpPr/>
                  <p:nvPr/>
                </p:nvSpPr>
                <p:spPr>
                  <a:xfrm rot="14359800">
                    <a:off x="2196720" y="8829720"/>
                    <a:ext cx="1488960" cy="149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283680" rIns="283680" tIns="283680" bIns="283680" anchor="ctr">
                    <a:normAutofit/>
                  </a:bodyPr>
                  <a:p>
                    <a:pPr algn="ctr">
                      <a:lnSpc>
                        <a:spcPct val="90000"/>
                      </a:lnSpc>
                      <a:spcAft>
                        <a:spcPts val="1225"/>
                      </a:spcAft>
                      <a:tabLst>
                        <a:tab algn="l" pos="0"/>
                        <a:tab algn="l" pos="1066680"/>
                        <a:tab algn="l" pos="2133720"/>
                        <a:tab algn="l" pos="3200400"/>
                        <a:tab algn="l" pos="4267080"/>
                        <a:tab algn="l" pos="5334120"/>
                        <a:tab algn="l" pos="6400800"/>
                        <a:tab algn="l" pos="7467480"/>
                        <a:tab algn="l" pos="8534520"/>
                        <a:tab algn="l" pos="9601200"/>
                        <a:tab algn="l" pos="10667880"/>
                      </a:tabLst>
                    </a:pPr>
                    <a:r>
                      <a:rPr b="0" lang="zh-CN" sz="28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经济学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0000"/>
                      </a:lnSpc>
                      <a:spcAft>
                        <a:spcPts val="1225"/>
                      </a:spcAft>
                      <a:tabLst>
                        <a:tab algn="l" pos="0"/>
                        <a:tab algn="l" pos="1066680"/>
                        <a:tab algn="l" pos="2133720"/>
                        <a:tab algn="l" pos="3200400"/>
                        <a:tab algn="l" pos="4267080"/>
                        <a:tab algn="l" pos="5334120"/>
                        <a:tab algn="l" pos="6400800"/>
                        <a:tab algn="l" pos="7467480"/>
                        <a:tab algn="l" pos="8534520"/>
                        <a:tab algn="l" pos="9601200"/>
                        <a:tab algn="l" pos="1066788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0" name="Text Box 41"/>
              <p:cNvSpPr/>
              <p:nvPr/>
            </p:nvSpPr>
            <p:spPr>
              <a:xfrm rot="10800000">
                <a:off x="3942720" y="10172880"/>
                <a:ext cx="1630440" cy="149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0" rIns="273600" tIns="273600" bIns="27360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41"/>
            <p:cNvSpPr/>
            <p:nvPr/>
          </p:nvSpPr>
          <p:spPr>
            <a:xfrm rot="3292200">
              <a:off x="6022080" y="6575760"/>
              <a:ext cx="163008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0" rIns="273600" tIns="273600" bIns="273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 rot="18071400">
              <a:off x="1937880" y="6612840"/>
              <a:ext cx="1630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0" rIns="273600" tIns="273600" bIns="273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圆角矩形 4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80880" y="306360"/>
            <a:ext cx="456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产生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4"/>
          <p:cNvSpPr/>
          <p:nvPr/>
        </p:nvSpPr>
        <p:spPr>
          <a:xfrm>
            <a:off x="2484360" y="6237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</p:cBhvr>
                                      <p:to x="3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443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458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134604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圆角矩形 4"/>
          <p:cNvSpPr/>
          <p:nvPr/>
        </p:nvSpPr>
        <p:spPr>
          <a:xfrm>
            <a:off x="250920" y="260280"/>
            <a:ext cx="4105080" cy="59544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80880" y="306360"/>
            <a:ext cx="3830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可保风险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1979640" y="2795760"/>
            <a:ext cx="6408720" cy="113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是不是所有的风险都可以由社会保险和保险机制管理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7:35:57Z</dcterms:created>
  <dc:creator>Ric</dc:creator>
  <dc:description/>
  <cp:keywords/>
  <dc:language>en-US</dc:language>
  <cp:lastModifiedBy>a</cp:lastModifiedBy>
  <dcterms:modified xsi:type="dcterms:W3CDTF">2015-07-21T02:01:07Z</dcterms:modified>
  <cp:revision>104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