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DDA-9349-4E46-B330-8ADA62A9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599-299B-4E62-8D75-CA179D3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66C-00C7-49B0-B11A-3E2DC1F0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315-98C8-42CD-8FAE-D0450A20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7CF-9B97-41A9-97F4-B66866AD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8910-3428-4328-8194-C2D9A734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9CC7-225C-4ACF-8BF0-145A1BB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3EB4-588D-493D-B542-166F1221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5AEB-AD27-4F14-8FFF-69E6ACA7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FD3E-D842-4E7E-A3E3-AB11FD44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BF31-68A9-40E7-9A82-E31E0AB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144-5971-4B5F-8FE9-24C51508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C736-63A5-42B6-836D-8557C4AF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FF64-B8A8-4393-B267-7F2278A7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673A-C73D-405B-A710-5699F877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F655-3D08-491E-8742-EDB7BCAC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D669-69DE-485E-87A5-4C38217F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0EB-4959-4476-AE7E-E79A1351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F25-016D-4D13-8C19-05A55E7A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076-AD41-4063-802B-C78F672D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0C0-3FB0-4304-BAC7-21272249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E12-985D-4F6C-B2AD-417B4DA9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693-FA43-4FFC-AD90-459B58B6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446-4AB2-45A2-A425-345FD429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69E8-85CC-42FE-BBFD-31E02997482C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456A-CD82-4122-AB29-3F779C598526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市场推广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素材下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市场推广方案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828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宋体"/>
              </a:rPr>
              <a:t>市场推广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216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市场推广目的：</a:t>
            </a:r>
            <a:r>
              <a:rPr b="1" lang="zh-CN" sz="1800" spc="-1" strike="noStrike">
                <a:solidFill>
                  <a:srgbClr val="339933"/>
                </a:solidFill>
                <a:latin typeface="Tahoma"/>
                <a:ea typeface="宋体"/>
              </a:rPr>
              <a:t>1.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提高目标受众对产品的认知，</a:t>
            </a:r>
            <a:r>
              <a:rPr b="1" lang="zh-CN" sz="1800" spc="-1" strike="noStrike">
                <a:solidFill>
                  <a:srgbClr val="339933"/>
                </a:solidFill>
                <a:latin typeface="Tahoma"/>
                <a:ea typeface="宋体"/>
              </a:rPr>
              <a:t>2. 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影响目标受众对产品的态度，</a:t>
            </a:r>
            <a:r>
              <a:rPr b="1" lang="zh-CN" sz="1800" spc="-1" strike="noStrike">
                <a:solidFill>
                  <a:srgbClr val="339933"/>
                </a:solidFill>
                <a:latin typeface="Tahoma"/>
                <a:ea typeface="宋体"/>
              </a:rPr>
              <a:t> </a:t>
            </a:r>
            <a:r>
              <a:rPr b="1" lang="zh-CN" sz="1800" spc="-1" strike="noStrike">
                <a:solidFill>
                  <a:srgbClr val="339933"/>
                </a:solidFill>
                <a:latin typeface="Tahoma"/>
                <a:ea typeface="宋体"/>
              </a:rPr>
              <a:t>3.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促使消费者购买。市场推广目的必须表述明确和数量化。</a:t>
            </a:r>
            <a:r>
              <a:rPr b="1" lang="zh-TW" sz="1800" spc="-1" strike="noStrike">
                <a:solidFill>
                  <a:srgbClr val="339933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市场推广目标受众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2164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考虑选择渠道分销商还是终端用户作为目标受众，然后选择产品购买决策中的不同角色，即决策者、使用者、购买者、影响者。</a:t>
            </a:r>
            <a:r>
              <a:rPr b="1" lang="zh-TW" sz="1800" spc="-1" strike="noStrike">
                <a:solidFill>
                  <a:srgbClr val="339933"/>
                </a:solidFill>
                <a:latin typeface="Tahom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市场推广组合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市场推广信息设计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市场推广预算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4DF-7803-4855-B647-7A883196BA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市场推广效果评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96080" y="0"/>
          <a:ext cx="14479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0"/>
                    <a:ext cx="14479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0:41:32Z</dcterms:created>
  <dc:creator>幻灯片之家 http://www.eeppt.com</dc:creator>
  <dc:description>幻灯片之家 http://www.eeppt.com</dc:description>
  <cp:keywords>幻灯片之家 http:/www.eeppt.com</cp:keywords>
  <dc:language>en-US</dc:language>
  <cp:lastModifiedBy> </cp:lastModifiedBy>
  <dcterms:modified xsi:type="dcterms:W3CDTF">2015-07-20T13:57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