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DF1-62E6-4958-8BCC-969C5DDA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F25-7284-46F5-9637-6F49864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49C-56D7-437E-86C8-035B964F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247-3CA4-4FFA-826E-9573AB60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F4B-F799-453B-B9C8-F10DEC9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76A4-1979-4BDB-B3E7-236A6F56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204-7595-4AE9-B607-FECB9C4A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A28D-9404-44E9-A8EA-FC7386D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F3E6-5C4F-4389-8E00-700592B2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CB35-B263-4C34-960A-AF202DCA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657F-1F47-4CBF-A6A0-D415B370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D8B-2140-444E-96E5-EE9E962B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1DE6-9B3F-4CEB-B5EC-61957E13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F6A8-0962-4CAE-92E1-AE508CE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8FF2-B666-4670-9FCB-5459567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2403-E4C8-4138-8BD6-7DE9A3BE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6E6A-76B4-4463-A141-BA57E6A9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5E5-F289-4E7F-8BB7-89743A42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93C-99C5-4D26-AB7B-F51EA39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D80-8FEC-4760-B19B-5BC56787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701-05DB-4D28-B0CA-A1A3C1F7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8F5-A7EF-44E2-B246-3ECF99F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A22-3231-4510-96FF-B765FBE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3F8-148D-4B8D-8BE1-14A50F81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DC2-7FCF-47E6-B946-3B28117F9B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688F-74C3-4E07-AC29-5C49CE43C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3A3-E973-4885-8C06-4D8A5CF27C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73B-14FC-486E-A43D-AF5E6C358F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50fe4e6615301c0b93fcb7d6da5867a9" descr=""/>
          <p:cNvPicPr/>
          <p:nvPr/>
        </p:nvPicPr>
        <p:blipFill>
          <a:blip r:embed="rId1"/>
          <a:stretch/>
        </p:blipFill>
        <p:spPr>
          <a:xfrm>
            <a:off x="92160" y="1440"/>
            <a:ext cx="8975520" cy="6820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1720" y="4129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闪光点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0668-F49E-4FD5-9CCD-9D28C800FA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