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103-2E05-4345-A3C0-C37F9347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65E-EDF0-47D4-8F22-3E502BB0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FCF-1A78-4ED0-986A-41ACA46E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BA0-C84B-44D3-A944-D2756153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5B9-BCDB-4C1E-9656-94CC1F0F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D1D-99B2-4CCB-9B72-AB93994A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BC3-DBC2-4BD8-90FD-5737708B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66A-C64E-47A9-8DA6-317C76F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A44-A71E-4EBF-A534-28DB7602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251-5EA6-42D0-A2E1-ED2B938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AB2-340D-470B-9734-3FD83947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3C5-DA96-4FA2-8D52-FD53AFD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85B-BAF5-4955-B9B7-83A54ED20D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BAB0-FD71-4222-B214-219E7D088A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09680" y="698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水果美食</a:t>
            </a: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42920" y="23605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30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7760" y="129024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7760" y="246024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3360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Effective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wesome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 your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ture Audience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CD6-A7ED-40D7-98FC-1EF8DFFB6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Julian</dc:creator>
  <dc:description/>
  <dc:language>en-US</dc:language>
  <cp:lastModifiedBy>lenovo</cp:lastModifiedBy>
  <dcterms:modified xsi:type="dcterms:W3CDTF">2015-07-21T02:48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