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62.jpeg" ContentType="image/jpeg"/>
  <Override PartName="/ppt/media/image79.jpeg" ContentType="image/jpeg"/>
  <Override PartName="/ppt/media/image84.png" ContentType="image/png"/>
  <Override PartName="/ppt/media/image17.jpeg" ContentType="image/jpeg"/>
  <Override PartName="/ppt/media/image93.jpeg" ContentType="image/jpeg"/>
  <Override PartName="/ppt/media/image76.jpeg" ContentType="image/jpeg"/>
  <Override PartName="/ppt/media/image95.jpeg" ContentType="image/jpeg"/>
  <Override PartName="/ppt/media/image50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7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086-802E-4793-8176-3928EDFD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1FC-D34F-4A4B-B02B-0022AFF4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2D61-1902-4177-B569-A490C8E9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E92-BE13-46B3-8AE2-D275C26D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A1A6-DF3B-41B7-B517-3CA63DBD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E400-368C-4781-9E5C-2B1D632E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8A07-E13B-4B8F-871C-BBA1B08A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064-C923-4101-8D4C-20B4FA73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A387-1E2C-4795-8320-DA5AA8C3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F3A4-8DB3-4978-B116-F9EAF685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57D-FC78-4F6A-95FE-D87E7234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676-05E4-4056-BECD-444779EB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3823-AB8E-4994-92B3-B205DE79D2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4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2008111064153582_2.jpg"/>
          <p:cNvPicPr/>
          <p:nvPr/>
        </p:nvPicPr>
        <p:blipFill>
          <a:blip r:embed="rId1"/>
          <a:srcRect l="0" t="6780" r="0" b="8475"/>
          <a:stretch/>
        </p:blipFill>
        <p:spPr>
          <a:xfrm>
            <a:off x="0" y="1857240"/>
            <a:ext cx="7867800" cy="5000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5760" y="71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68160" y="117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数据分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www.tuweimei.comComp_12114570_KFwnU1FnYdDIcGstXPcdEsFcagZzxIf7.jpg"/>
          <p:cNvPicPr/>
          <p:nvPr/>
        </p:nvPicPr>
        <p:blipFill>
          <a:blip r:embed="rId1"/>
          <a:stretch/>
        </p:blipFill>
        <p:spPr>
          <a:xfrm>
            <a:off x="873000" y="457200"/>
            <a:ext cx="3054600" cy="28576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2" descr="www.tuweimei.comComp_12559620_0a2P9xhs2UZGoNaZbOcRkdvv8nlcqneg.jpg"/>
          <p:cNvPicPr/>
          <p:nvPr/>
        </p:nvPicPr>
        <p:blipFill>
          <a:blip r:embed="rId2"/>
          <a:stretch/>
        </p:blipFill>
        <p:spPr>
          <a:xfrm>
            <a:off x="5110200" y="457200"/>
            <a:ext cx="3265560" cy="28576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" descr="www.tuweimei.comComp_13833611_sEsPsD4YSUqtMY78PydmEASpfeQlcftK.jpg"/>
          <p:cNvPicPr/>
          <p:nvPr/>
        </p:nvPicPr>
        <p:blipFill>
          <a:blip r:embed="rId3"/>
          <a:stretch/>
        </p:blipFill>
        <p:spPr>
          <a:xfrm>
            <a:off x="792000" y="3543480"/>
            <a:ext cx="3214800" cy="28573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" descr="www.tuweimei.comComp_13979270_ou232TcacC94uHbJqVNzS0yWiXN9Kppy.jpg"/>
          <p:cNvPicPr/>
          <p:nvPr/>
        </p:nvPicPr>
        <p:blipFill>
          <a:blip r:embed="rId4"/>
          <a:stretch/>
        </p:blipFill>
        <p:spPr>
          <a:xfrm>
            <a:off x="5315040" y="35434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www.tuweimei.comComp_14124441_ixs64XvEAWCm8A2Fj3dRQfeJyFJ7r91P.jpg"/>
          <p:cNvPicPr/>
          <p:nvPr/>
        </p:nvPicPr>
        <p:blipFill>
          <a:blip r:embed="rId1"/>
          <a:stretch/>
        </p:blipFill>
        <p:spPr>
          <a:xfrm>
            <a:off x="636480" y="457200"/>
            <a:ext cx="3525840" cy="28576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" descr="www.tuweimei.comComp_14326042_mnM9aCLYRMGEidITBfJzcJFLyrur0SBd.jpg"/>
          <p:cNvPicPr/>
          <p:nvPr/>
        </p:nvPicPr>
        <p:blipFill>
          <a:blip r:embed="rId2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" descr="www.tuweimei.comComp_14576238_B1Kew6jEiV7dW1JGCPPFVVdY4K3Xb5Yd.jpg"/>
          <p:cNvPicPr/>
          <p:nvPr/>
        </p:nvPicPr>
        <p:blipFill>
          <a:blip r:embed="rId3"/>
          <a:stretch/>
        </p:blipFill>
        <p:spPr>
          <a:xfrm>
            <a:off x="971640" y="35434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4" descr="www.tuweimei.comComp_14972084_UOlgk7SqPR6V81b2aRaaVoY91kK34hAO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www.tuweimei.comComp_15828995_N57nnSMCmCDegub8O0dENHFPQYxsW9Hj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" descr="www.tuweimei.comComp_15925641_vN1cBwngPAkTIrSwg86mYOBdTgHUWQaI.jpg"/>
          <p:cNvPicPr/>
          <p:nvPr/>
        </p:nvPicPr>
        <p:blipFill>
          <a:blip r:embed="rId2"/>
          <a:stretch/>
        </p:blipFill>
        <p:spPr>
          <a:xfrm>
            <a:off x="48387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" descr="www.tuweimei.comComp_15929080_veuqRryHjrneKgCZnf9NXro1eFyHbGtM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" descr="www.tuweimei.comComp_16030362_ee96DrIrmbUv4OgjktPXHEoBHMuTSjcw.jpg"/>
          <p:cNvPicPr/>
          <p:nvPr/>
        </p:nvPicPr>
        <p:blipFill>
          <a:blip r:embed="rId4"/>
          <a:stretch/>
        </p:blipFill>
        <p:spPr>
          <a:xfrm>
            <a:off x="4915080" y="3543480"/>
            <a:ext cx="3657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www.tuweimei.comComp_16404272_57xbGYgL1kYFoOGie0BYlr2XrWNTiXee.jpg"/>
          <p:cNvPicPr/>
          <p:nvPr/>
        </p:nvPicPr>
        <p:blipFill>
          <a:blip r:embed="rId1"/>
          <a:stretch/>
        </p:blipFill>
        <p:spPr>
          <a:xfrm>
            <a:off x="495360" y="5000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" descr="www.tuweimei.comComp_16560905_Z6z7nVC8o0m0epJqtYfTKSJCJX6KFZje.jpg"/>
          <p:cNvPicPr/>
          <p:nvPr/>
        </p:nvPicPr>
        <p:blipFill>
          <a:blip r:embed="rId2"/>
          <a:stretch/>
        </p:blipFill>
        <p:spPr>
          <a:xfrm>
            <a:off x="4867200" y="457200"/>
            <a:ext cx="3751200" cy="28576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" descr="www.tuweimei.comComp_16584832_GSVkeMrMH9sQ85xHPOimVxMA6DyemFos.jpg"/>
          <p:cNvPicPr/>
          <p:nvPr/>
        </p:nvPicPr>
        <p:blipFill>
          <a:blip r:embed="rId3"/>
          <a:stretch/>
        </p:blipFill>
        <p:spPr>
          <a:xfrm>
            <a:off x="971640" y="35434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" descr="www.tuweimei.comComp_16721039_58TDoTpvR1tSRlk3TRjYNw4YLJ6T3Mzz.jpg"/>
          <p:cNvPicPr/>
          <p:nvPr/>
        </p:nvPicPr>
        <p:blipFill>
          <a:blip r:embed="rId4"/>
          <a:stretch/>
        </p:blipFill>
        <p:spPr>
          <a:xfrm>
            <a:off x="5672160" y="3543480"/>
            <a:ext cx="21430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www.tuweimei.comComp_16744554_leyFw6TOfQYbfjRA9fERTDWOXnWDTos5.jpg"/>
          <p:cNvPicPr/>
          <p:nvPr/>
        </p:nvPicPr>
        <p:blipFill>
          <a:blip r:embed="rId1"/>
          <a:stretch/>
        </p:blipFill>
        <p:spPr>
          <a:xfrm>
            <a:off x="343080" y="511200"/>
            <a:ext cx="4114800" cy="27478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" descr="www.tuweimei.comComp_16865620_6RVzCVwOBVYUPi2km68ax56j9S46M4OI.jpg"/>
          <p:cNvPicPr/>
          <p:nvPr/>
        </p:nvPicPr>
        <p:blipFill>
          <a:blip r:embed="rId2"/>
          <a:stretch/>
        </p:blipFill>
        <p:spPr>
          <a:xfrm>
            <a:off x="5672160" y="457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" descr="www.tuweimei.comComp_TWM1061479504.jpg"/>
          <p:cNvPicPr/>
          <p:nvPr/>
        </p:nvPicPr>
        <p:blipFill>
          <a:blip r:embed="rId3"/>
          <a:stretch/>
        </p:blipFill>
        <p:spPr>
          <a:xfrm>
            <a:off x="679320" y="3543480"/>
            <a:ext cx="3441960" cy="28573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4" descr="www.tuweimei.comComp_TWM10614795041.jpg"/>
          <p:cNvPicPr/>
          <p:nvPr/>
        </p:nvPicPr>
        <p:blipFill>
          <a:blip r:embed="rId4"/>
          <a:stretch/>
        </p:blipFill>
        <p:spPr>
          <a:xfrm>
            <a:off x="5022720" y="3543480"/>
            <a:ext cx="34419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www_tuweimei_comComp_4811867_SouyWOKfYlBYYyD5IYy2Edk7AzAHPXni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" descr="www_tuweimei_comComp_7883491_Hjbf2SWuAfrPYKwgTagtuB1Twi2jLFSS.jpg"/>
          <p:cNvPicPr/>
          <p:nvPr/>
        </p:nvPicPr>
        <p:blipFill>
          <a:blip r:embed="rId2"/>
          <a:stretch/>
        </p:blipFill>
        <p:spPr>
          <a:xfrm>
            <a:off x="48387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" descr="www_tuweimei_comComp_9724114_NBYEVSpL1rHWhxE8DjpMvhn7FjH8BdBP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4" descr="www_tuweimei_comComp_9724115_faT0s9BkqJ7O7BMAk2NWZ1Tfaaec4frZ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www_tuweimei_comComp_10270808_JIBoGXeHfPnDkQ5wbziyOErwgUgHAtqJ.jpg"/>
          <p:cNvPicPr/>
          <p:nvPr/>
        </p:nvPicPr>
        <p:blipFill>
          <a:blip r:embed="rId1"/>
          <a:stretch/>
        </p:blipFill>
        <p:spPr>
          <a:xfrm>
            <a:off x="1328760" y="457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2" descr="www_tuweimei_comComp_11067227_kpZ2H97YMsvQRXGQhI2cgcEmwvicTeo3.jpg"/>
          <p:cNvPicPr/>
          <p:nvPr/>
        </p:nvPicPr>
        <p:blipFill>
          <a:blip r:embed="rId2"/>
          <a:stretch/>
        </p:blipFill>
        <p:spPr>
          <a:xfrm>
            <a:off x="5672160" y="457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3" descr="www_tuweimei_comComp_11255190_VF6GcXPIki7XOZzhUKP9OTzv6JbIl4W7.jpg"/>
          <p:cNvPicPr/>
          <p:nvPr/>
        </p:nvPicPr>
        <p:blipFill>
          <a:blip r:embed="rId3"/>
          <a:stretch/>
        </p:blipFill>
        <p:spPr>
          <a:xfrm>
            <a:off x="971640" y="35434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4" descr="www_tuweimei_comComp_12264424_ZsFfiaBhnPTWP3wo7J5aMp5TXRPVVYZu.jpg"/>
          <p:cNvPicPr/>
          <p:nvPr/>
        </p:nvPicPr>
        <p:blipFill>
          <a:blip r:embed="rId4"/>
          <a:stretch/>
        </p:blipFill>
        <p:spPr>
          <a:xfrm>
            <a:off x="5315040" y="35434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" descr="www_tuweimei_comComp_12559620_0a2P9xhs2UZGoNaZbOcRkdvv8nlcqneg.jpg"/>
          <p:cNvPicPr/>
          <p:nvPr/>
        </p:nvPicPr>
        <p:blipFill>
          <a:blip r:embed="rId1"/>
          <a:stretch/>
        </p:blipFill>
        <p:spPr>
          <a:xfrm>
            <a:off x="766800" y="457200"/>
            <a:ext cx="3265560" cy="28576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2" descr="www_tuweimei_comComp_12752475_ARtC83iUAglydZk1I4HGSOZr3AccDNjE.jpg"/>
          <p:cNvPicPr/>
          <p:nvPr/>
        </p:nvPicPr>
        <p:blipFill>
          <a:blip r:embed="rId2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3" descr="www_tuweimei_comComp_13087808_oFk6zah8fF7tJVga87nuSUyZHKoCjJuN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4" descr="www_tuweimei_comComp_13087858_KOwVNn1HM0hXeBharFknKwLC7bMNh08s.jpg"/>
          <p:cNvPicPr/>
          <p:nvPr/>
        </p:nvPicPr>
        <p:blipFill>
          <a:blip r:embed="rId4"/>
          <a:stretch/>
        </p:blipFill>
        <p:spPr>
          <a:xfrm>
            <a:off x="5135400" y="3543480"/>
            <a:ext cx="3214800" cy="2857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771640" y="6310440"/>
            <a:ext cx="446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www_tuweimei_comComp_13176836_YYD9cZf7oxhefqSeXx9G5m5ls1Q2u39J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2" descr="www_tuweimei_comComp_13978814_HVsB6y2lv8PahdjcQj2Z4n63tOYBSPGa.jpg"/>
          <p:cNvPicPr/>
          <p:nvPr/>
        </p:nvPicPr>
        <p:blipFill>
          <a:blip r:embed="rId2"/>
          <a:stretch/>
        </p:blipFill>
        <p:spPr>
          <a:xfrm>
            <a:off x="48387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3" descr="www_tuweimei_comComp_16398025_TFq2LtEk5TD5XCwQkLRVSrnAlrFHBmfV.jpg"/>
          <p:cNvPicPr/>
          <p:nvPr/>
        </p:nvPicPr>
        <p:blipFill>
          <a:blip r:embed="rId3"/>
          <a:stretch/>
        </p:blipFill>
        <p:spPr>
          <a:xfrm>
            <a:off x="1255680" y="3543480"/>
            <a:ext cx="2287800" cy="285732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4" descr="www_tuweimei_comComp_17737353_E429v5o65nwNrhJhi9wHhJsDEOpQVE5Z.jpg"/>
          <p:cNvPicPr/>
          <p:nvPr/>
        </p:nvPicPr>
        <p:blipFill>
          <a:blip r:embed="rId4"/>
          <a:stretch/>
        </p:blipFill>
        <p:spPr>
          <a:xfrm>
            <a:off x="5315040" y="35434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www_tuweimei_comComp_18562777_zRt0f8D3rrhW4QZSSepjZOR9AhQDdheT.jpg"/>
          <p:cNvPicPr/>
          <p:nvPr/>
        </p:nvPicPr>
        <p:blipFill>
          <a:blip r:embed="rId1"/>
          <a:stretch/>
        </p:blipFill>
        <p:spPr>
          <a:xfrm>
            <a:off x="1270080" y="457200"/>
            <a:ext cx="2260440" cy="28576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" descr="www_tuweimei_comComp_18890711_C21KKJdlT7ws9dfTExr2lZheFc6oDAEG.jpg"/>
          <p:cNvPicPr/>
          <p:nvPr/>
        </p:nvPicPr>
        <p:blipFill>
          <a:blip r:embed="rId2"/>
          <a:stretch/>
        </p:blipFill>
        <p:spPr>
          <a:xfrm>
            <a:off x="4686480" y="515880"/>
            <a:ext cx="4114800" cy="27399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3" descr="www_tuweimei_comComp_18925372_r1aYyft0FUoqMXbTYugWEs6hEtmoLbz2.jpg"/>
          <p:cNvPicPr/>
          <p:nvPr/>
        </p:nvPicPr>
        <p:blipFill>
          <a:blip r:embed="rId3"/>
          <a:stretch/>
        </p:blipFill>
        <p:spPr>
          <a:xfrm>
            <a:off x="343080" y="3602160"/>
            <a:ext cx="4114800" cy="273996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4" descr="www_tuweimei_comComp_18987085_B9WFGDN0IUVD3CZv8Ua72OHE15JORXjT.jpg"/>
          <p:cNvPicPr/>
          <p:nvPr/>
        </p:nvPicPr>
        <p:blipFill>
          <a:blip r:embed="rId4"/>
          <a:stretch/>
        </p:blipFill>
        <p:spPr>
          <a:xfrm>
            <a:off x="4813200" y="3543480"/>
            <a:ext cx="3861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2008111064153582_2.jpg"/>
          <p:cNvPicPr/>
          <p:nvPr/>
        </p:nvPicPr>
        <p:blipFill>
          <a:blip r:embed="rId1"/>
          <a:stretch/>
        </p:blipFill>
        <p:spPr>
          <a:xfrm>
            <a:off x="4953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" descr="b_200811040014122410.jpg"/>
          <p:cNvPicPr/>
          <p:nvPr/>
        </p:nvPicPr>
        <p:blipFill>
          <a:blip r:embed="rId2"/>
          <a:stretch/>
        </p:blipFill>
        <p:spPr>
          <a:xfrm>
            <a:off x="48387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" descr="comp_TWM0767050082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" descr="comp_TWM0820969107.jpg"/>
          <p:cNvPicPr/>
          <p:nvPr/>
        </p:nvPicPr>
        <p:blipFill>
          <a:blip r:embed="rId4"/>
          <a:stretch/>
        </p:blipFill>
        <p:spPr>
          <a:xfrm>
            <a:off x="5599080" y="3543480"/>
            <a:ext cx="2287800" cy="2857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6310440"/>
            <a:ext cx="446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" descr="www_tuweimei_comComp_19616934_YZBFmp5yO6dT7ctEW4h4YrFQlFUD1DyP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2" descr="www_tuweimei_comComp_20150716_EbVsmAFop2pKuZKMMotkT2UoY7cscich.jpg"/>
          <p:cNvPicPr/>
          <p:nvPr/>
        </p:nvPicPr>
        <p:blipFill>
          <a:blip r:embed="rId2"/>
          <a:stretch/>
        </p:blipFill>
        <p:spPr>
          <a:xfrm>
            <a:off x="5599080" y="457200"/>
            <a:ext cx="2287800" cy="285768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3" descr="www_tuweimei_comComp_20670094_k2dsa4UmeXIbGp2IrbP8XC1TPijXn7YO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4" descr="www_tuweimei_comComp_20860969_qUKqwKAuqu0FIqyjiDiQHGsLE8C9ewpL.jpg"/>
          <p:cNvPicPr/>
          <p:nvPr/>
        </p:nvPicPr>
        <p:blipFill>
          <a:blip r:embed="rId4"/>
          <a:stretch/>
        </p:blipFill>
        <p:spPr>
          <a:xfrm>
            <a:off x="4722840" y="3543480"/>
            <a:ext cx="4041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www_tuweimei_comComp_21146899_469kIe0fJf0oaHWRMTAhsYtiaPj5qK1k.jpg"/>
          <p:cNvPicPr/>
          <p:nvPr/>
        </p:nvPicPr>
        <p:blipFill>
          <a:blip r:embed="rId1"/>
          <a:stretch/>
        </p:blipFill>
        <p:spPr>
          <a:xfrm>
            <a:off x="379440" y="457200"/>
            <a:ext cx="4041720" cy="28576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" descr="www_tuweimei_comComp_21444735_bqd1CY6CqLnDhBcuHdkZwSFSMznle465.jpg"/>
          <p:cNvPicPr/>
          <p:nvPr/>
        </p:nvPicPr>
        <p:blipFill>
          <a:blip r:embed="rId2"/>
          <a:stretch/>
        </p:blipFill>
        <p:spPr>
          <a:xfrm>
            <a:off x="48387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3" descr="www_tuweimei_comComp_21532484_Z64ggy4pCm3Chr0C4gSRUjmGjRronB8C.jpg"/>
          <p:cNvPicPr/>
          <p:nvPr/>
        </p:nvPicPr>
        <p:blipFill>
          <a:blip r:embed="rId3"/>
          <a:stretch/>
        </p:blipFill>
        <p:spPr>
          <a:xfrm>
            <a:off x="343080" y="3686040"/>
            <a:ext cx="4114800" cy="25718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www_tuweimei_comComp_22252059_7Dkb3ZrJBYyMfkTctXC8mcOI3RlnUQ4R.jpg"/>
          <p:cNvPicPr/>
          <p:nvPr/>
        </p:nvPicPr>
        <p:blipFill>
          <a:blip r:embed="rId4"/>
          <a:stretch/>
        </p:blipFill>
        <p:spPr>
          <a:xfrm>
            <a:off x="5315040" y="35434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www_tuweimei_comComp_22252075_VosIphNXbzDBdIw4By1Rl358sSgTxXCI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2" descr="www_tuweimei_comComp_22736769_ug0dFSuHSYMUdQvHk7BPn8OFW8r3sI0c.jpg"/>
          <p:cNvPicPr/>
          <p:nvPr/>
        </p:nvPicPr>
        <p:blipFill>
          <a:blip r:embed="rId2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3" descr="www_tuweimei_comComp_23004736_pGVXJAWWbR7oGDqli5tneEWCC1AtVKaA.jpg"/>
          <p:cNvPicPr/>
          <p:nvPr/>
        </p:nvPicPr>
        <p:blipFill>
          <a:blip r:embed="rId3"/>
          <a:stretch/>
        </p:blipFill>
        <p:spPr>
          <a:xfrm>
            <a:off x="971640" y="35434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4" descr="www_tuweimei_comComp_23825119_H53oeYBBJd1sb14q4xGxzlETEaqMSTSZ.jpg"/>
          <p:cNvPicPr/>
          <p:nvPr/>
        </p:nvPicPr>
        <p:blipFill>
          <a:blip r:embed="rId4"/>
          <a:stretch/>
        </p:blipFill>
        <p:spPr>
          <a:xfrm>
            <a:off x="4686480" y="3686040"/>
            <a:ext cx="411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发展.jpg"/>
          <p:cNvPicPr/>
          <p:nvPr/>
        </p:nvPicPr>
        <p:blipFill>
          <a:blip r:embed="rId1"/>
          <a:stretch/>
        </p:blipFill>
        <p:spPr>
          <a:xfrm>
            <a:off x="4953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" descr="介绍10.jpg"/>
          <p:cNvPicPr/>
          <p:nvPr/>
        </p:nvPicPr>
        <p:blipFill>
          <a:blip r:embed="rId2"/>
          <a:stretch/>
        </p:blipFill>
        <p:spPr>
          <a:xfrm>
            <a:off x="48387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3" descr="群头像.JPG"/>
          <p:cNvPicPr/>
          <p:nvPr/>
        </p:nvPicPr>
        <p:blipFill>
          <a:blip r:embed="rId3"/>
          <a:stretch/>
        </p:blipFill>
        <p:spPr>
          <a:xfrm>
            <a:off x="833400" y="3543480"/>
            <a:ext cx="3132000" cy="285732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4" descr="图片3.png"/>
          <p:cNvPicPr/>
          <p:nvPr/>
        </p:nvPicPr>
        <p:blipFill>
          <a:blip r:embed="rId4"/>
          <a:stretch/>
        </p:blipFill>
        <p:spPr>
          <a:xfrm>
            <a:off x="5222880" y="3543480"/>
            <a:ext cx="30402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图片4.jpg"/>
          <p:cNvPicPr/>
          <p:nvPr/>
        </p:nvPicPr>
        <p:blipFill>
          <a:blip r:embed="rId1"/>
          <a:stretch/>
        </p:blipFill>
        <p:spPr>
          <a:xfrm>
            <a:off x="343080" y="816120"/>
            <a:ext cx="4114800" cy="21380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" descr="图片6.jpg"/>
          <p:cNvPicPr/>
          <p:nvPr/>
        </p:nvPicPr>
        <p:blipFill>
          <a:blip r:embed="rId2"/>
          <a:stretch/>
        </p:blipFill>
        <p:spPr>
          <a:xfrm>
            <a:off x="5113440" y="457200"/>
            <a:ext cx="3260520" cy="285768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3" descr="指标压力.jpg"/>
          <p:cNvPicPr/>
          <p:nvPr/>
        </p:nvPicPr>
        <p:blipFill>
          <a:blip r:embed="rId3"/>
          <a:stretch/>
        </p:blipFill>
        <p:spPr>
          <a:xfrm>
            <a:off x="379440" y="3543480"/>
            <a:ext cx="4041720" cy="285732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4" descr="柱图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771640" y="6310440"/>
            <a:ext cx="446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www.tuweimei.comComp_15229452_9NUsVkDpfDGVrXeyYvGLp23hZtXF2Ft2.jpg"/>
          <p:cNvPicPr/>
          <p:nvPr/>
        </p:nvPicPr>
        <p:blipFill>
          <a:blip r:embed="rId1"/>
          <a:stretch/>
        </p:blipFill>
        <p:spPr>
          <a:xfrm>
            <a:off x="4953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" descr="www.tuweimei.comComp_15374929_4l0VeKaNHfaQ4814sGCxg0Zrx2h2U3HO.jpg"/>
          <p:cNvPicPr/>
          <p:nvPr/>
        </p:nvPicPr>
        <p:blipFill>
          <a:blip r:embed="rId2"/>
          <a:stretch/>
        </p:blipFill>
        <p:spPr>
          <a:xfrm>
            <a:off x="4686480" y="1004760"/>
            <a:ext cx="411480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D9C-2DF1-44CA-8310-7E3D58FC11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1596-61329f.jpg"/>
          <p:cNvPicPr/>
          <p:nvPr/>
        </p:nvPicPr>
        <p:blipFill>
          <a:blip r:embed="rId1"/>
          <a:stretch/>
        </p:blipFill>
        <p:spPr>
          <a:xfrm>
            <a:off x="4953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2" descr="1596-61336v.jpg"/>
          <p:cNvPicPr/>
          <p:nvPr/>
        </p:nvPicPr>
        <p:blipFill>
          <a:blip r:embed="rId2"/>
          <a:stretch/>
        </p:blipFill>
        <p:spPr>
          <a:xfrm>
            <a:off x="48387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3" descr="1596-61355h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4" descr="1596-61356u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GoldMan-40420487.jpg"/>
          <p:cNvPicPr/>
          <p:nvPr/>
        </p:nvPicPr>
        <p:blipFill>
          <a:blip r:embed="rId1"/>
          <a:stretch/>
        </p:blipFill>
        <p:spPr>
          <a:xfrm>
            <a:off x="611280" y="8366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" descr="optaros-homepage-raisethebar-thumb.gif"/>
          <p:cNvPicPr/>
          <p:nvPr/>
        </p:nvPicPr>
        <p:blipFill>
          <a:blip r:embed="rId2"/>
          <a:stretch/>
        </p:blipFill>
        <p:spPr>
          <a:xfrm>
            <a:off x="5027760" y="457200"/>
            <a:ext cx="3430440" cy="28576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4" descr="www.tuweimei.comComp_54569_YgB8QNolC9wFp74rfcY0IsBlQ1X7vM.jpg"/>
          <p:cNvPicPr/>
          <p:nvPr/>
        </p:nvPicPr>
        <p:blipFill>
          <a:blip r:embed="rId3"/>
          <a:stretch/>
        </p:blipFill>
        <p:spPr>
          <a:xfrm>
            <a:off x="4843440" y="3543480"/>
            <a:ext cx="3800520" cy="28573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" descr="www.tuweimei.comComp_15395750_AqzO21cvFSJF0O00eLhQ0qJ9P5s6kEEl.jpg"/>
          <p:cNvPicPr/>
          <p:nvPr/>
        </p:nvPicPr>
        <p:blipFill>
          <a:blip r:embed="rId4"/>
          <a:stretch/>
        </p:blipFill>
        <p:spPr>
          <a:xfrm>
            <a:off x="971640" y="35434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www.tuweimei.comComp_57699_m6cQsfcuMnkgLnEg7vDokY8QsolY8R.jpg"/>
          <p:cNvPicPr/>
          <p:nvPr/>
        </p:nvPicPr>
        <p:blipFill>
          <a:blip r:embed="rId1"/>
          <a:stretch/>
        </p:blipFill>
        <p:spPr>
          <a:xfrm>
            <a:off x="361800" y="457200"/>
            <a:ext cx="4075200" cy="28576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" descr="www.tuweimei.comComp_190022_19WJGh0e6GhVwk2Mn5tgVRsgyQifTu.jpg"/>
          <p:cNvPicPr/>
          <p:nvPr/>
        </p:nvPicPr>
        <p:blipFill>
          <a:blip r:embed="rId2"/>
          <a:stretch/>
        </p:blipFill>
        <p:spPr>
          <a:xfrm>
            <a:off x="5121360" y="457200"/>
            <a:ext cx="3243240" cy="28576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" descr="www.tuweimei.comComp_2370034_hzWOBzI5bu35blYr1BzmwF2hMnxAds.jpg"/>
          <p:cNvPicPr/>
          <p:nvPr/>
        </p:nvPicPr>
        <p:blipFill>
          <a:blip r:embed="rId3"/>
          <a:stretch/>
        </p:blipFill>
        <p:spPr>
          <a:xfrm>
            <a:off x="679320" y="3543480"/>
            <a:ext cx="3441960" cy="28573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" descr="www.tuweimei.comComp_2617236_BPvISGQisXhM9WKzeBqMe4IbGirAyl.jpg"/>
          <p:cNvPicPr/>
          <p:nvPr/>
        </p:nvPicPr>
        <p:blipFill>
          <a:blip r:embed="rId4"/>
          <a:stretch/>
        </p:blipFill>
        <p:spPr>
          <a:xfrm>
            <a:off x="4967280" y="3543480"/>
            <a:ext cx="3551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www.tuweimei.comComp_2801713_0VOgqVI67mwjOhVIbG3iNgpzI5cQis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" descr="www.tuweimei.comComp_3023845_mZSbcqEFm5bGPDNgKzeJcHvaFPCMAp.jpg"/>
          <p:cNvPicPr/>
          <p:nvPr/>
        </p:nvPicPr>
        <p:blipFill>
          <a:blip r:embed="rId2"/>
          <a:stretch/>
        </p:blipFill>
        <p:spPr>
          <a:xfrm>
            <a:off x="4761000" y="457200"/>
            <a:ext cx="3965400" cy="28576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" descr="www.tuweimei.comComp_5073797_1BiQIkaKbPl0GRtziUyuY4qzB5ajD395.jpg"/>
          <p:cNvPicPr/>
          <p:nvPr/>
        </p:nvPicPr>
        <p:blipFill>
          <a:blip r:embed="rId3"/>
          <a:stretch/>
        </p:blipFill>
        <p:spPr>
          <a:xfrm>
            <a:off x="971640" y="35434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" descr="www.tuweimei.comComp_5090080_F48PcUuBEB9kScuO1rE20ZqqCyFgg2fl.jpg"/>
          <p:cNvPicPr/>
          <p:nvPr/>
        </p:nvPicPr>
        <p:blipFill>
          <a:blip r:embed="rId4"/>
          <a:stretch/>
        </p:blipFill>
        <p:spPr>
          <a:xfrm>
            <a:off x="5315040" y="35434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www.tuweimei.comComp_6137750_cvpdXNlK3lmNC6tPlhpqjMpCUCL6kLSC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" descr="www.tuweimei.comComp_7065770_vVSq6fBryLpU6Afjuvl4zxB7bn4Q6Oos.jpg"/>
          <p:cNvPicPr/>
          <p:nvPr/>
        </p:nvPicPr>
        <p:blipFill>
          <a:blip r:embed="rId2"/>
          <a:stretch/>
        </p:blipFill>
        <p:spPr>
          <a:xfrm>
            <a:off x="48387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3" descr="www.tuweimei.comComp_7065773_hcaPQl5li5GHp1tkrhlo8PjPLy33YzS6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4" descr="www.tuweimei.comComp_8833781_TjCIHVJdxyVXL5MX4vK2fLBNt8MJTq6n.jpg"/>
          <p:cNvPicPr/>
          <p:nvPr/>
        </p:nvPicPr>
        <p:blipFill>
          <a:blip r:embed="rId4"/>
          <a:stretch/>
        </p:blipFill>
        <p:spPr>
          <a:xfrm>
            <a:off x="5315040" y="35434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www.tuweimei.comComp_9445623_hiprrgkHngHLT8EovrcULGAgvdXD0WHX.jpg"/>
          <p:cNvPicPr/>
          <p:nvPr/>
        </p:nvPicPr>
        <p:blipFill>
          <a:blip r:embed="rId1"/>
          <a:stretch/>
        </p:blipFill>
        <p:spPr>
          <a:xfrm>
            <a:off x="4953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" descr="www.tuweimei.comComp_9611347_9lX1fd9tZ7Bhe94A9LyZSVgMaI8yGUEG.jpg"/>
          <p:cNvPicPr/>
          <p:nvPr/>
        </p:nvPicPr>
        <p:blipFill>
          <a:blip r:embed="rId2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" descr="www.tuweimei.comComp_9723849_IeOC5ewZgBYT5mSXyrn8oDulZ8bDAS6J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4" descr="www.tuweimei.comComp_9724118_tM3g0Gb4HYlTwy9G6k1cBiFqIz0PrxJb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www.tuweimei.comComp_9724276_sTduOssVJxMGZRgWQUJtZ3oTXf6UzvQh.jpg"/>
          <p:cNvPicPr/>
          <p:nvPr/>
        </p:nvPicPr>
        <p:blipFill>
          <a:blip r:embed="rId1"/>
          <a:stretch/>
        </p:blipFill>
        <p:spPr>
          <a:xfrm>
            <a:off x="4953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" descr="www.tuweimei.comComp_9746878_EtBbzppUiTUkQE4TFQhPsfxzHETMTelY.jpg"/>
          <p:cNvPicPr/>
          <p:nvPr/>
        </p:nvPicPr>
        <p:blipFill>
          <a:blip r:embed="rId2"/>
          <a:stretch/>
        </p:blipFill>
        <p:spPr>
          <a:xfrm>
            <a:off x="4923000" y="457200"/>
            <a:ext cx="363996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" descr="www.tuweimei.comComp_10410381_VJW8cYTeX0nAHfLOmrS2Ufq23wyNA9RW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4" descr="www.tuweimei.comComp_10870753_GJ2N6CZcpDN7n17S84wsBGWYmtTQX4ze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www.tuweimei.comComp_10870798_Mr0g57wYEL37eMI2pbXQNKWIrLfFrJb3.jpg"/>
          <p:cNvPicPr/>
          <p:nvPr/>
        </p:nvPicPr>
        <p:blipFill>
          <a:blip r:embed="rId1"/>
          <a:stretch/>
        </p:blipFill>
        <p:spPr>
          <a:xfrm>
            <a:off x="812880" y="457200"/>
            <a:ext cx="3173400" cy="285768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" descr="www.tuweimei.comComp_10982866_KeE7ibFdGneBnXSwGCzJoOVcENSlj8Ku.jpg"/>
          <p:cNvPicPr/>
          <p:nvPr/>
        </p:nvPicPr>
        <p:blipFill>
          <a:blip r:embed="rId2"/>
          <a:stretch/>
        </p:blipFill>
        <p:spPr>
          <a:xfrm>
            <a:off x="5672160" y="457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3" descr="www.tuweimei.comComp_11067446_VWOhSjKYSO4zeebWzNvjzHurU1FMTtap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" descr="www.tuweimei.comComp_11363130_dvnwOeKelJmOeyKFMEI7F7vUQqUtp1uI.jpg"/>
          <p:cNvPicPr/>
          <p:nvPr/>
        </p:nvPicPr>
        <p:blipFill>
          <a:blip r:embed="rId4"/>
          <a:stretch/>
        </p:blipFill>
        <p:spPr>
          <a:xfrm>
            <a:off x="5315040" y="35434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771640" y="6310440"/>
            <a:ext cx="446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8:02:19Z</dcterms:created>
  <dc:creator>张文霖</dc:creator>
  <dc:description/>
  <dc:language>en-US</dc:language>
  <cp:lastModifiedBy>PowerCEO</cp:lastModifiedBy>
  <dcterms:modified xsi:type="dcterms:W3CDTF">2015-07-21T03:17:05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