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64B-470A-41A7-8B74-C6B6DC3A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747-D383-4063-B05A-38F972D8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0CC-60C9-4236-A350-A5AC6BC7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9DE-CB5C-4805-8E35-DA6467C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EA56-23D8-47E4-B69D-20BBBCC8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20C-7D46-4356-A685-601F34D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3351-2F19-4008-B82D-3F4B8D0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A4D-EBB4-4CC0-9D86-7C5126B1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6074-FDDF-472A-B8E4-2335EE09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514A-0A53-49F4-93ED-C36C9FD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49D3-5507-4518-95A1-F7CF0016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7B96-2824-4800-AA50-520CC013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4488-9F10-44FD-94B2-F8F98158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157E-3C11-4A74-92E5-8CFA0C7B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330-FBBA-4BD3-81C9-7E9367EF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2008-9F51-4B90-8177-EA872AAE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7B52-AF72-4783-92A7-C5D43DC2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DB1-945B-4CC1-A586-9CCD631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A4A-4559-4A23-8716-2D04024F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344-826F-4AE0-A881-149FF528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0FA-49AC-40DC-A28B-C6ACBFF0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1FD-3DCB-4DD2-A95F-412F69A6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B0B-944F-44F0-8412-B4B1FF70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CDE-F1AD-489E-A51C-D408C7B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A12D-F151-4729-9023-2BDA1DF9F4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58C7-89A4-40DE-9430-41C9FBDD97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矩形 14"/>
          <p:cNvGrpSpPr/>
          <p:nvPr/>
        </p:nvGrpSpPr>
        <p:grpSpPr>
          <a:xfrm>
            <a:off x="139680" y="646200"/>
            <a:ext cx="8839080" cy="6035760"/>
            <a:chOff x="139680" y="646200"/>
            <a:chExt cx="8839080" cy="6035760"/>
          </a:xfrm>
        </p:grpSpPr>
        <p:pic>
          <p:nvPicPr>
            <p:cNvPr id="83" name="矩形 14" descr=""/>
            <p:cNvPicPr/>
            <p:nvPr/>
          </p:nvPicPr>
          <p:blipFill>
            <a:blip r:embed="rId1"/>
            <a:stretch/>
          </p:blipFill>
          <p:spPr>
            <a:xfrm>
              <a:off x="139680" y="646200"/>
              <a:ext cx="883908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5520" y="662040"/>
              <a:ext cx="8809200" cy="60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图片 2" descr="0010590121.jpg"/>
          <p:cNvPicPr/>
          <p:nvPr/>
        </p:nvPicPr>
        <p:blipFill>
          <a:blip r:embed="rId2"/>
          <a:stretch/>
        </p:blipFill>
        <p:spPr>
          <a:xfrm>
            <a:off x="-252360" y="1909800"/>
            <a:ext cx="4786200" cy="4778280"/>
          </a:xfrm>
          <a:prstGeom prst="rect">
            <a:avLst/>
          </a:prstGeom>
          <a:ln w="0">
            <a:noFill/>
          </a:ln>
        </p:spPr>
      </p:pic>
      <p:sp>
        <p:nvSpPr>
          <p:cNvPr id="86" name="云形标注 6"/>
          <p:cNvSpPr/>
          <p:nvPr/>
        </p:nvSpPr>
        <p:spPr>
          <a:xfrm>
            <a:off x="3819600" y="981000"/>
            <a:ext cx="5000400" cy="3071880"/>
          </a:xfrm>
          <a:prstGeom prst="cloudCallout">
            <a:avLst>
              <a:gd name="adj1" fmla="val -75060"/>
              <a:gd name="adj2" fmla="val 44180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7320" y="2602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思考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53F1-F34E-4D5A-A7B6-E8DE2622CA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7Z</dcterms:modified>
  <cp:revision>8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