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7DF-BEE0-4277-A975-78D69388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C9D-31BA-414F-A9EB-47BBBA1E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625-76A5-4381-8BB6-76DA02BD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C92-6D30-4353-A1B8-C3FBC9D0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A1DE-3C3A-4EA9-8CA1-8216A803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D6EA-0023-4E67-80FA-CA79F6A3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2594-00DB-425D-9B34-F7BF24B2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5503-6134-47A3-A358-64FC7761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D972-F56A-42A5-B1B9-AF9234E7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6606-CEC5-435C-9288-C2ED112B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24CB-2C5C-41A0-90F8-5FE98576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8202-C2EB-4D87-BEC7-09483C54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1727-0F0E-4A00-A758-C8AB13CC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D711-A08B-4A81-9DDE-C9172C67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4940-F226-4092-BEFF-627FAB3C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DF77-8402-4148-B579-E5E5C94F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2797-C3DC-4E3D-AF39-126D1B88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76FA-4C26-4036-A5FD-BA74592B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901-74A9-4527-A6EB-96212EE5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DC1-D8C5-4ADD-9BA1-DB3536F1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A930-8997-4759-BAEB-0774B642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308-BBB5-4A2A-86A1-3D319033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D985-354F-4D6F-B7AA-092BD337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9D3-C5F1-4362-A43A-02C10640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E9E8-21F3-4365-8C27-3415478CBEA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14BD-5426-453A-9795-5890680ECE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7C32-D26B-4D4B-8367-4A88DF9D171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0FC1-BE93-44F3-9A07-6A40144912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u=2560210966,2236770923&amp;fm=15&amp;gp=0" descr=""/>
          <p:cNvPicPr/>
          <p:nvPr/>
        </p:nvPicPr>
        <p:blipFill>
          <a:blip r:embed="rId1"/>
          <a:stretch/>
        </p:blipFill>
        <p:spPr>
          <a:xfrm>
            <a:off x="38160" y="406440"/>
            <a:ext cx="9036000" cy="6043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59200" y="40644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说课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E470-7ECE-4023-8CBD-368E59B556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