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0256-1F90-46AD-8BA6-10FA855FB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1C04-C26A-4937-BF80-CD3282CB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0AA6-4359-4D3D-B268-F98EF16D0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7733-9A39-4B43-8E87-8BAD8E29F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ECBB-D124-4DA8-804E-FA2DA3B39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0296-9EC5-4ED9-9436-A6A28AED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2F1F-6BAD-4834-9E6F-4D02DEE5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31EB-BD4D-4B34-8895-B4659344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D542-2664-4D41-8101-C921AB92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45600"/>
            <a:ext cx="8229600" cy="43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0F24-0B27-4A5F-8C33-09068F01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98DBB-3C45-455C-8655-592ED5C3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9DA6-CADE-4482-A832-662FE3BB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548D-FE01-471E-AAD8-4B018BB7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61EF-D333-4E2D-9E43-3D0E9747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7092-F307-4DC9-A646-22A4E467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EB33-5A68-4A08-8A92-F9190202A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023A-00BA-441D-BA23-A51775D61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524A-08B4-4A29-9B5B-0A9153F7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D201-45F6-4D20-9D17-E680076C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2FA4-6CA8-4A95-B159-786C7934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45600"/>
            <a:ext cx="8229600" cy="43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4BD0-5BED-4FDB-B46D-19A764C5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7DE4-5771-40C2-BEA3-0797F3FD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303A-9C43-443B-B192-C943EBD5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FC2B-15EC-4636-9E03-A6F4FA0B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鱼不愚\桌面\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汉仪秀英体简"/>
              </a:rPr>
              <a:t>Click to edit the title text format</a:t>
            </a: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221C-BA0C-4624-8AC7-A7C437AC9BF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Documents and Settings\鱼不愚\桌面\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C:\Documents and Settings\鱼不愚\桌面\1副本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汉仪秀英体简"/>
              </a:rPr>
              <a:t>Click to edit the title text format</a:t>
            </a: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0FF3-B798-4E77-AAB8-DF0C06EE21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hyperlink" Target="http://www.eeppt.com/sucai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71360" y="5160600"/>
            <a:ext cx="70722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00"/>
                </a:solidFill>
                <a:latin typeface="汉仪菱心体简"/>
                <a:ea typeface="汉仪菱心体简"/>
              </a:rPr>
              <a:t>树木简洁</a:t>
            </a:r>
            <a:r>
              <a:rPr b="0" lang="en-US" sz="4000" spc="-1" strike="noStrike">
                <a:solidFill>
                  <a:srgbClr val="006600"/>
                </a:solidFill>
                <a:latin typeface="汉仪菱心体简"/>
                <a:ea typeface="汉仪菱心体简"/>
              </a:rPr>
              <a:t>PPT</a:t>
            </a:r>
            <a:r>
              <a:rPr b="0" lang="zh-CN" sz="4000" spc="-1" strike="noStrike">
                <a:solidFill>
                  <a:srgbClr val="006600"/>
                </a:solidFill>
                <a:latin typeface="汉仪菱心体简"/>
                <a:ea typeface="汉仪菱心体简"/>
              </a:rPr>
              <a:t>模板在线下载</a:t>
            </a:r>
            <a:endParaRPr b="0" lang="en-US" sz="40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14840" y="774360"/>
            <a:ext cx="192888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汉仪秀英体简"/>
              </a:rPr>
              <a:t>目  录</a:t>
            </a:r>
            <a:endParaRPr b="0" lang="en-US" sz="44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88" name="圆角矩形 19"/>
          <p:cNvSpPr/>
          <p:nvPr/>
        </p:nvSpPr>
        <p:spPr>
          <a:xfrm>
            <a:off x="2571840" y="1906560"/>
            <a:ext cx="4929120" cy="741240"/>
          </a:xfrm>
          <a:prstGeom prst="roundRect">
            <a:avLst>
              <a:gd name="adj" fmla="val 20787"/>
            </a:avLst>
          </a:prstGeom>
          <a:noFill/>
          <a:ln w="38160">
            <a:solidFill>
              <a:srgbClr val="009900"/>
            </a:solidFill>
            <a:miter/>
          </a:ln>
          <a:effectLst>
            <a:outerShdw dist="38183" dir="2700000" blurRad="0" rotWithShape="0">
              <a:srgbClr val="000000">
                <a:alpha val="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组合 12"/>
          <p:cNvGrpSpPr/>
          <p:nvPr/>
        </p:nvGrpSpPr>
        <p:grpSpPr>
          <a:xfrm>
            <a:off x="2071800" y="1741320"/>
            <a:ext cx="1041120" cy="1116360"/>
            <a:chOff x="2071800" y="1741320"/>
            <a:chExt cx="1041120" cy="1116360"/>
          </a:xfrm>
        </p:grpSpPr>
        <p:pic>
          <p:nvPicPr>
            <p:cNvPr id="90" name="Picture 3" descr="C:\Documents and Settings\鱼不愚\桌面\000.png"/>
            <p:cNvPicPr/>
            <p:nvPr/>
          </p:nvPicPr>
          <p:blipFill>
            <a:blip r:embed="rId1"/>
            <a:stretch/>
          </p:blipFill>
          <p:spPr>
            <a:xfrm>
              <a:off x="2071800" y="1741320"/>
              <a:ext cx="1001160" cy="11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10"/>
            <p:cNvSpPr/>
            <p:nvPr/>
          </p:nvSpPr>
          <p:spPr>
            <a:xfrm>
              <a:off x="2184480" y="1865160"/>
              <a:ext cx="92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2f2f2"/>
                  </a:solidFill>
                  <a:latin typeface="Dutch801 XBd BT"/>
                  <a:ea typeface="方正超粗黑简体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Box 21"/>
          <p:cNvSpPr/>
          <p:nvPr/>
        </p:nvSpPr>
        <p:spPr>
          <a:xfrm>
            <a:off x="3071880" y="2016000"/>
            <a:ext cx="40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23"/>
          <p:cNvGrpSpPr/>
          <p:nvPr/>
        </p:nvGrpSpPr>
        <p:grpSpPr>
          <a:xfrm>
            <a:off x="2071800" y="3129120"/>
            <a:ext cx="5429160" cy="1116000"/>
            <a:chOff x="2071800" y="3129120"/>
            <a:chExt cx="5429160" cy="1116000"/>
          </a:xfrm>
        </p:grpSpPr>
        <p:grpSp>
          <p:nvGrpSpPr>
            <p:cNvPr id="94" name="组合 24"/>
            <p:cNvGrpSpPr/>
            <p:nvPr/>
          </p:nvGrpSpPr>
          <p:grpSpPr>
            <a:xfrm>
              <a:off x="2071800" y="3129120"/>
              <a:ext cx="5429160" cy="1116000"/>
              <a:chOff x="2071800" y="3129120"/>
              <a:chExt cx="5429160" cy="1116000"/>
            </a:xfrm>
          </p:grpSpPr>
          <p:sp>
            <p:nvSpPr>
              <p:cNvPr id="95" name="圆角矩形 26"/>
              <p:cNvSpPr/>
              <p:nvPr/>
            </p:nvSpPr>
            <p:spPr>
              <a:xfrm>
                <a:off x="2571840" y="3294000"/>
                <a:ext cx="4929120" cy="741240"/>
              </a:xfrm>
              <a:prstGeom prst="roundRect">
                <a:avLst>
                  <a:gd name="adj" fmla="val 20787"/>
                </a:avLst>
              </a:prstGeom>
              <a:noFill/>
              <a:ln w="38160">
                <a:solidFill>
                  <a:srgbClr val="009900"/>
                </a:solidFill>
                <a:miter/>
              </a:ln>
              <a:effectLst>
                <a:outerShdw dist="38183" dir="2700000" blurRad="0" rotWithShape="0">
                  <a:srgbClr val="000000">
                    <a:alpha val="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" name="组合 27"/>
              <p:cNvGrpSpPr/>
              <p:nvPr/>
            </p:nvGrpSpPr>
            <p:grpSpPr>
              <a:xfrm>
                <a:off x="2071800" y="3129120"/>
                <a:ext cx="1041120" cy="1116000"/>
                <a:chOff x="2071800" y="3129120"/>
                <a:chExt cx="1041120" cy="1116000"/>
              </a:xfrm>
            </p:grpSpPr>
            <p:pic>
              <p:nvPicPr>
                <p:cNvPr id="97" name="Picture 3" descr="C:\Documents and Settings\鱼不愚\桌面\000.png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071800" y="3129120"/>
                  <a:ext cx="1000800" cy="1116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" name="TextBox 29"/>
                <p:cNvSpPr/>
                <p:nvPr/>
              </p:nvSpPr>
              <p:spPr>
                <a:xfrm>
                  <a:off x="2184480" y="3252960"/>
                  <a:ext cx="928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2f2f2"/>
                      </a:solidFill>
                      <a:latin typeface="Dutch801 XBd BT"/>
                      <a:ea typeface="方正超粗黑简体"/>
                    </a:rPr>
                    <a:t>02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" name="TextBox 25"/>
            <p:cNvSpPr/>
            <p:nvPr/>
          </p:nvSpPr>
          <p:spPr>
            <a:xfrm>
              <a:off x="3071880" y="3402360"/>
              <a:ext cx="400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目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30"/>
          <p:cNvGrpSpPr/>
          <p:nvPr/>
        </p:nvGrpSpPr>
        <p:grpSpPr>
          <a:xfrm>
            <a:off x="2071800" y="4484520"/>
            <a:ext cx="5429160" cy="1116360"/>
            <a:chOff x="2071800" y="4484520"/>
            <a:chExt cx="5429160" cy="1116360"/>
          </a:xfrm>
        </p:grpSpPr>
        <p:grpSp>
          <p:nvGrpSpPr>
            <p:cNvPr id="101" name="组合 31"/>
            <p:cNvGrpSpPr/>
            <p:nvPr/>
          </p:nvGrpSpPr>
          <p:grpSpPr>
            <a:xfrm>
              <a:off x="2071800" y="4484520"/>
              <a:ext cx="5429160" cy="1116360"/>
              <a:chOff x="2071800" y="4484520"/>
              <a:chExt cx="5429160" cy="1116360"/>
            </a:xfrm>
          </p:grpSpPr>
          <p:sp>
            <p:nvSpPr>
              <p:cNvPr id="102" name="圆角矩形 33"/>
              <p:cNvSpPr/>
              <p:nvPr/>
            </p:nvSpPr>
            <p:spPr>
              <a:xfrm>
                <a:off x="2571840" y="4649400"/>
                <a:ext cx="4929120" cy="741600"/>
              </a:xfrm>
              <a:prstGeom prst="roundRect">
                <a:avLst>
                  <a:gd name="adj" fmla="val 20787"/>
                </a:avLst>
              </a:prstGeom>
              <a:noFill/>
              <a:ln w="38160">
                <a:solidFill>
                  <a:srgbClr val="009900"/>
                </a:solidFill>
                <a:miter/>
              </a:ln>
              <a:effectLst>
                <a:outerShdw dist="38183" dir="2700000" blurRad="0" rotWithShape="0">
                  <a:srgbClr val="000000">
                    <a:alpha val="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" name="组合 34"/>
              <p:cNvGrpSpPr/>
              <p:nvPr/>
            </p:nvGrpSpPr>
            <p:grpSpPr>
              <a:xfrm>
                <a:off x="2071800" y="4484520"/>
                <a:ext cx="1041120" cy="1116360"/>
                <a:chOff x="2071800" y="4484520"/>
                <a:chExt cx="1041120" cy="1116360"/>
              </a:xfrm>
            </p:grpSpPr>
            <p:pic>
              <p:nvPicPr>
                <p:cNvPr id="104" name="Picture 3" descr="C:\Documents and Settings\鱼不愚\桌面\000.png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071800" y="4484520"/>
                  <a:ext cx="1000800" cy="1116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" name="TextBox 36"/>
                <p:cNvSpPr/>
                <p:nvPr/>
              </p:nvSpPr>
              <p:spPr>
                <a:xfrm>
                  <a:off x="2184480" y="4608360"/>
                  <a:ext cx="928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2f2f2"/>
                      </a:solidFill>
                      <a:latin typeface="Dutch801 XBd BT"/>
                      <a:ea typeface="方正超粗黑简体"/>
                    </a:rPr>
                    <a:t>03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" name="TextBox 32"/>
            <p:cNvSpPr/>
            <p:nvPr/>
          </p:nvSpPr>
          <p:spPr>
            <a:xfrm>
              <a:off x="3071880" y="4757760"/>
              <a:ext cx="400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目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22"/>
          <p:cNvSpPr/>
          <p:nvPr/>
        </p:nvSpPr>
        <p:spPr>
          <a:xfrm>
            <a:off x="1692360" y="6381720"/>
            <a:ext cx="57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C:\Documents and Settings\鱼不愚\桌面\001.png"/>
          <p:cNvPicPr/>
          <p:nvPr/>
        </p:nvPicPr>
        <p:blipFill>
          <a:blip r:embed="rId1"/>
          <a:stretch/>
        </p:blipFill>
        <p:spPr>
          <a:xfrm>
            <a:off x="847800" y="1663560"/>
            <a:ext cx="3108240" cy="5108760"/>
          </a:xfrm>
          <a:prstGeom prst="rect">
            <a:avLst/>
          </a:prstGeom>
          <a:ln w="0">
            <a:noFill/>
          </a:ln>
        </p:spPr>
      </p:pic>
      <p:pic>
        <p:nvPicPr>
          <p:cNvPr id="109" name="圆角矩形 38" descr=""/>
          <p:cNvPicPr/>
          <p:nvPr/>
        </p:nvPicPr>
        <p:blipFill>
          <a:blip r:embed="rId2"/>
          <a:stretch/>
        </p:blipFill>
        <p:spPr>
          <a:xfrm>
            <a:off x="4681440" y="1712880"/>
            <a:ext cx="3614760" cy="54500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40"/>
          <p:cNvSpPr/>
          <p:nvPr/>
        </p:nvSpPr>
        <p:spPr>
          <a:xfrm>
            <a:off x="4797360" y="2855880"/>
            <a:ext cx="3357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2"/>
          <p:cNvSpPr/>
          <p:nvPr/>
        </p:nvSpPr>
        <p:spPr>
          <a:xfrm>
            <a:off x="297000" y="2855880"/>
            <a:ext cx="335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微软雅黑"/>
                <a:ea typeface="微软雅黑"/>
              </a:rPr>
              <a:t>文本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汉仪秀英体简"/>
              </a:rPr>
              <a:t>说明关系图表</a:t>
            </a: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113" name="燕尾形箭头 13"/>
          <p:cNvSpPr/>
          <p:nvPr/>
        </p:nvSpPr>
        <p:spPr>
          <a:xfrm>
            <a:off x="3341520" y="2928960"/>
            <a:ext cx="1143000" cy="57132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142920 h 571320"/>
              <a:gd name="textAreaBottom" fmla="*/ 428760 h 571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ccff33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汉仪秀英体简"/>
              </a:rPr>
              <a:t>分类关系图表</a:t>
            </a: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grpSp>
        <p:nvGrpSpPr>
          <p:cNvPr id="115" name="圆角矩形 7"/>
          <p:cNvGrpSpPr/>
          <p:nvPr/>
        </p:nvGrpSpPr>
        <p:grpSpPr>
          <a:xfrm>
            <a:off x="731880" y="1176480"/>
            <a:ext cx="7607160" cy="896760"/>
            <a:chOff x="731880" y="1176480"/>
            <a:chExt cx="7607160" cy="896760"/>
          </a:xfrm>
        </p:grpSpPr>
        <p:pic>
          <p:nvPicPr>
            <p:cNvPr id="116" name="圆角矩形 7" descr=""/>
            <p:cNvPicPr/>
            <p:nvPr/>
          </p:nvPicPr>
          <p:blipFill>
            <a:blip r:embed="rId1"/>
            <a:stretch/>
          </p:blipFill>
          <p:spPr>
            <a:xfrm>
              <a:off x="731880" y="1176480"/>
              <a:ext cx="760716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5"/>
            <p:cNvSpPr/>
            <p:nvPr/>
          </p:nvSpPr>
          <p:spPr>
            <a:xfrm>
              <a:off x="824040" y="1305000"/>
              <a:ext cx="742464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Box 19"/>
          <p:cNvSpPr/>
          <p:nvPr/>
        </p:nvSpPr>
        <p:spPr>
          <a:xfrm>
            <a:off x="2892600" y="1447920"/>
            <a:ext cx="33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微软雅黑"/>
                <a:ea typeface="微软雅黑"/>
              </a:rPr>
              <a:t>文 本 内 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组合 21"/>
          <p:cNvGrpSpPr/>
          <p:nvPr/>
        </p:nvGrpSpPr>
        <p:grpSpPr>
          <a:xfrm>
            <a:off x="25560" y="1955160"/>
            <a:ext cx="3357360" cy="3810600"/>
            <a:chOff x="25560" y="1955160"/>
            <a:chExt cx="3357360" cy="3810600"/>
          </a:xfrm>
        </p:grpSpPr>
        <p:pic>
          <p:nvPicPr>
            <p:cNvPr id="120" name="Picture 2" descr="C:\Documents and Settings\鱼不愚\桌面\Nature cards [转换].png"/>
            <p:cNvPicPr/>
            <p:nvPr/>
          </p:nvPicPr>
          <p:blipFill>
            <a:blip r:embed="rId2"/>
            <a:stretch/>
          </p:blipFill>
          <p:spPr>
            <a:xfrm rot="6198000">
              <a:off x="205200" y="2874240"/>
              <a:ext cx="2997360" cy="14014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</p:pic>
        <p:sp>
          <p:nvSpPr>
            <p:cNvPr id="121" name="圆角矩形 8"/>
            <p:cNvSpPr/>
            <p:nvPr/>
          </p:nvSpPr>
          <p:spPr>
            <a:xfrm>
              <a:off x="919080" y="5051520"/>
              <a:ext cx="1571400" cy="7142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9900"/>
              </a:solidFill>
              <a:miter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20"/>
            <p:cNvSpPr/>
            <p:nvPr/>
          </p:nvSpPr>
          <p:spPr>
            <a:xfrm>
              <a:off x="25560" y="5202360"/>
              <a:ext cx="33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22"/>
          <p:cNvGrpSpPr/>
          <p:nvPr/>
        </p:nvGrpSpPr>
        <p:grpSpPr>
          <a:xfrm>
            <a:off x="5862600" y="1955520"/>
            <a:ext cx="3357720" cy="3810240"/>
            <a:chOff x="5862600" y="1955520"/>
            <a:chExt cx="3357720" cy="3810240"/>
          </a:xfrm>
        </p:grpSpPr>
        <p:pic>
          <p:nvPicPr>
            <p:cNvPr id="124" name="Picture 2" descr="C:\Documents and Settings\鱼不愚\桌面\Nature cards [转换].png"/>
            <p:cNvPicPr/>
            <p:nvPr/>
          </p:nvPicPr>
          <p:blipFill>
            <a:blip r:embed="rId3"/>
            <a:stretch/>
          </p:blipFill>
          <p:spPr>
            <a:xfrm rot="6198000">
              <a:off x="6042240" y="2874240"/>
              <a:ext cx="2997360" cy="140184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</p:pic>
        <p:sp>
          <p:nvSpPr>
            <p:cNvPr id="125" name="圆角矩形 24"/>
            <p:cNvSpPr/>
            <p:nvPr/>
          </p:nvSpPr>
          <p:spPr>
            <a:xfrm>
              <a:off x="6756480" y="5051520"/>
              <a:ext cx="1571760" cy="7142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9900"/>
              </a:solidFill>
              <a:miter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Box 25"/>
            <p:cNvSpPr/>
            <p:nvPr/>
          </p:nvSpPr>
          <p:spPr>
            <a:xfrm>
              <a:off x="5862600" y="5202360"/>
              <a:ext cx="335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26"/>
          <p:cNvGrpSpPr/>
          <p:nvPr/>
        </p:nvGrpSpPr>
        <p:grpSpPr>
          <a:xfrm>
            <a:off x="2936880" y="1955520"/>
            <a:ext cx="3357720" cy="3810240"/>
            <a:chOff x="2936880" y="1955520"/>
            <a:chExt cx="3357720" cy="3810240"/>
          </a:xfrm>
        </p:grpSpPr>
        <p:pic>
          <p:nvPicPr>
            <p:cNvPr id="128" name="Picture 2" descr="C:\Documents and Settings\鱼不愚\桌面\Nature cards [转换].png"/>
            <p:cNvPicPr/>
            <p:nvPr/>
          </p:nvPicPr>
          <p:blipFill>
            <a:blip r:embed="rId4"/>
            <a:stretch/>
          </p:blipFill>
          <p:spPr>
            <a:xfrm rot="6198000">
              <a:off x="3116520" y="2874240"/>
              <a:ext cx="2997360" cy="140184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</p:pic>
        <p:sp>
          <p:nvSpPr>
            <p:cNvPr id="129" name="圆角矩形 28"/>
            <p:cNvSpPr/>
            <p:nvPr/>
          </p:nvSpPr>
          <p:spPr>
            <a:xfrm>
              <a:off x="3830760" y="5051520"/>
              <a:ext cx="1571760" cy="7142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9900"/>
              </a:solidFill>
              <a:miter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Box 29"/>
            <p:cNvSpPr/>
            <p:nvPr/>
          </p:nvSpPr>
          <p:spPr>
            <a:xfrm>
              <a:off x="2936880" y="5202360"/>
              <a:ext cx="335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汉仪秀英体简"/>
              </a:rPr>
              <a:t>循环关系图表</a:t>
            </a: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pic>
        <p:nvPicPr>
          <p:cNvPr id="132" name="组合 8" descr=""/>
          <p:cNvPicPr/>
          <p:nvPr/>
        </p:nvPicPr>
        <p:blipFill>
          <a:blip r:embed="rId1"/>
          <a:stretch/>
        </p:blipFill>
        <p:spPr>
          <a:xfrm>
            <a:off x="2048040" y="1407960"/>
            <a:ext cx="5059080" cy="46515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1692360" y="6381720"/>
            <a:ext cx="57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汉仪秀英体简"/>
              </a:rPr>
              <a:t>使用规范说明</a:t>
            </a: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标题 1"/>
          <p:cNvSpPr/>
          <p:nvPr/>
        </p:nvSpPr>
        <p:spPr>
          <a:xfrm>
            <a:off x="785880" y="5302080"/>
            <a:ext cx="777240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6600"/>
                </a:solidFill>
                <a:latin typeface="汉仪秀英体简"/>
                <a:ea typeface="汉仪秀英体简"/>
              </a:rPr>
              <a:t>THANKS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8T10:37:54Z</dcterms:created>
  <dc:creator>pc</dc:creator>
  <dc:description/>
  <cp:keywords/>
  <dc:language>en-US</dc:language>
  <cp:lastModifiedBy>a</cp:lastModifiedBy>
  <dcterms:modified xsi:type="dcterms:W3CDTF">2015-07-21T04:37:19Z</dcterms:modified>
  <cp:revision>4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