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25.jpeg" ContentType="image/jpeg"/>
  <Override PartName="/ppt/media/image2.png" ContentType="image/png"/>
  <Override PartName="/ppt/media/image3.jpeg" ContentType="image/jpeg"/>
  <Override PartName="/ppt/media/image1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2B8D-217C-47CC-9385-C746CA31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E74-4B13-4711-9C89-1AF454FF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D7D9A-FE3B-4EAF-AB9F-072FEC47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FE117-75B8-45E9-B71A-AFBD6981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DFDBD-CF4E-4D66-9C2D-20A72E35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E746B-C182-44B6-94C9-DFB560B0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B1589-1758-4BF1-B558-E0AE7109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09B9B-BF11-46CE-BE69-EFF59071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2F4F9-D319-4569-989C-FB9B4A5C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A1598-0358-4D7A-9848-D5A04BEC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20634-A8A8-40C5-8001-453A16BC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450B9-0F76-4BB5-A846-D9756E97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0062-AEEC-4205-A378-9A362CCA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91FCB-4C60-4313-AFBE-83CF5FBB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747F4-D193-46FC-9192-2EA9C0CE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781AA-182E-4863-8075-DC5A13C6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0646A-ED94-40B0-BE45-4BC92EC6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A4C3E-CFCD-4BFE-8D13-97119E89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AB606-9E61-4E57-834E-7B418397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83A42-4D08-4633-A40E-90AB69B1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B1293-2156-4656-9C8D-F46D479E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26034-7C47-4BC0-A002-68E18B4C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54A2D-0A6A-44D2-8E81-E4338905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144A-9583-4D59-94BF-EC24B41A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15998-47B6-4E4D-9C0D-587DA140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8B2C6-1218-49B1-A1F0-3B6E5E69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90D0D-006C-4BF7-A1A6-5A2D4A0A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16F23-3F47-461D-9E51-CDD073F1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4D337-E23A-4CA5-9E92-20419E44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62DA7-A87E-4EAE-9138-F6DBADEF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4D5C0-4451-4666-A6C5-467C7339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E85A3-FB92-4749-9BBE-F400D18F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1C4F2-BDE7-4521-91E1-8431EA89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83897-E817-40C5-9089-7C00101F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4396-6F28-45A5-A772-966CE12E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8F94E-901A-4FC7-8C8A-704FAE95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60460-64B8-477C-95E2-46E3ABB2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7C4A7-DCDF-4ECD-ABD2-E31AB24A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EB29C-EC68-4D65-8139-8B97915B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4E7E1-3CC5-442F-82D4-E9048FB5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98D06-C968-4CEC-9F0D-06556AE6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C36B5-6C2B-43D5-A059-147ED14E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25E44-8516-43EA-9074-50AD41A1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E9EB7-B09B-4FEC-BDD9-FC9A635E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73E9D-74EF-45D6-AE7A-DB2698A2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507F-2C24-49D7-8338-ECE41FFB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35BEE-1BC6-43E5-BB4C-88A530D1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5F4F7-FD46-4F94-862A-EFB91A85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61633-4A82-43D0-853B-7A22B3A4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8434E-FA09-4B34-9623-25CD6E16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0B46F-446B-4086-901A-EEBB710B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F1DA38-2EAB-4AD7-9AC5-9A033ADE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DB9E4-300E-4D24-9E6C-F05BFC0B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2C25A-07FC-45F3-BE74-E99801FE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149BA-94E4-4CD2-B8F9-923ADB50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1FE910-A2DC-46C1-931B-554156EA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B735-72CA-4FF1-91F4-30937144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9F661-44B6-4E9E-8032-B111ACA0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FFFC2-8F9C-4996-8AAF-4D66F895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89247-2121-425E-A914-C8612C0A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70334-FD81-4F0E-8A19-0018682D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B7FE6-363F-4D99-A36F-189E6522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AE174D-AC2B-4D67-A53D-EE8732CA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D9A62-B31F-4605-B7C6-F7E6C29C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582B-634D-41AF-AD8B-B264F68B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E2CC-2005-4B04-A139-F7A76F97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F5EC-1B90-4213-A7D1-A16A613F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34F6-9FB3-435C-B9CF-251D6F23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BD39-DA66-434F-A973-B40ED6FA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670C-DF29-45B3-BDEE-26520484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3E98-328F-4128-B623-59DE99FF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5F2F-0D81-483E-8C3A-EB63E54A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9342-85EB-4E51-9382-BB4B3EE7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0370-53A3-4AB7-9DC8-4D3AE6F3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5F5EC-D77C-4110-B65C-0E63002F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889C7-3F00-4680-8445-B2C82EA8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50B6C-D16C-4043-8F45-BD6937D7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8E635-42C9-4600-933A-EEE66332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15CDF-F50A-4926-8CBB-911050AA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FCE-2BA3-41EF-AAB4-3CAA89B7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AB59-AC43-4939-ABCB-6DF3D856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FF3A6-DCF3-4DAF-B944-951A7679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658B9-AF51-4A2E-862F-2518AC35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9EE0D-18E3-419D-B11D-8FC10FCB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54E05-F2C2-4BED-ADE1-3F9C9A93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1B793-06FF-441B-B8DA-EDD04B19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7192F-0D9B-4C1D-ABD8-3BB2DB21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D1CAD-760F-42DC-A2C5-D1A860ED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E5ECD-47CC-4935-8D13-0ADF2EDD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5E073-D23E-4B53-B606-FD70389C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EFA-2785-49BD-B81E-7E8F4F7F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78A6D-75D7-4BAA-9C76-D819B8A8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D0AAE-ED0B-42BD-AFDD-26BE6DF0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89D65-769D-491E-A8D0-C7BF1A62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942DA-4D5E-443C-A5EC-6C27C169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F8227-EE2A-4B67-838C-08790040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18409-571E-4D53-A477-D1CA9616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410CE-221B-4DA7-B3E0-468C5296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BA403-8ECE-43B5-BC83-C5D1C402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332DB-1653-42EE-9513-9895B348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76BDC-082B-43D1-B7FD-6E331801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E0F-B836-4E50-9657-FF92E48A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6E1C3-7BE5-4A84-97B8-09FCC537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698F7-C4F7-496E-A0DC-7B7B1F6E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D25E5-42D1-490B-BE31-02E61900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5EF41-244D-414E-B71F-88FC6AF5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92A96-7A8D-4B29-806D-2C0FF408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928E0-0384-4576-90BE-D2633803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7D602-A2AE-44C0-9168-4D3140C5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6E738-7182-4AE2-9E93-E1383A54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87843-D593-424A-91F7-CA143911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0824C-9CBF-43F4-9175-9819024D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F2D4-5D60-42DF-A06B-F1440B3E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CB321-E002-4084-8696-E8693E12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06F8E-C84B-4199-8EF6-6CB490DE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12A3A-921C-47A7-AE5D-DD96831D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D0391-AD9C-4F58-8056-D58C1C6F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F82E4-CAC6-43B3-8CC8-68B518A8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9AD63-BE44-414B-842F-B01CF83B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74B5D-B97D-4AB6-9F5C-0BC64213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57501-C8D8-4D11-ADDB-8240B200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D3B6D-59CA-443D-AE79-45840E8D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F2489-74C4-42DD-B67E-26958AF3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228-5898-41D8-91BE-1C5186A8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383EB-60A2-41A0-91FB-E91018C6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7B549-8530-410A-B283-EE725609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E22AA-8FCD-4219-86A4-7D449107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7C42F-C4E6-4C9E-BAD7-17EE208A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021AE-CEA1-41B4-B659-C2F16F88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8FFBD-2E1B-403A-AA35-E22EF06D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623BD-13D0-4EE2-9A5C-9580F92A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4EADC-832B-4B53-BCB4-5A06A544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3AA34-89BE-47D4-B64B-B4FEFD48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93464-0B78-444F-B7C0-9498D92E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A07-0B49-4492-B0E9-B119498B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F5735-D5BA-4D02-B86D-668117E0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7AF9F-32F8-442A-B126-B605E644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E982C-FF73-4117-9525-6D41A0EA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08C48-22BD-4886-BC54-59FC0F62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95568-B1EA-4162-A872-00B33D96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8898A-7A1A-492A-A152-5157651B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D9012-7615-4E75-ADB9-BD1FBDC4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991B7-C05E-4E6C-B37B-D32FD590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B4926-E136-4699-BDD5-DD89E512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D8FD8-852A-43A5-833F-BC38D6E0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59B7-9479-4002-A8E7-025CC595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1BC00-D0B7-4086-B864-9C1786F5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FD4FD-2591-4ABA-B141-9A33365D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AB872-7BBC-448D-AABB-158D9BA4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E4AF4-ECF5-4FBC-80DF-1A11D2B4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30A73-D305-48AB-8B80-A05025D6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E9EE1-FABD-4FD8-BCDD-3C6CEEBF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8B4AF-2C05-41B4-BE80-0124061A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DF78D-5E87-4110-8F6F-5CDA13F2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4A413-D791-47C6-B37F-2259990D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D0B71-C7B3-400C-8D8A-291F564B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849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849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90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8490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90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849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90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8490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90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8490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90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8490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90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8490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90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E505-0A2F-4D62-BEA5-6AA73CC90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512A-E1D8-4A9C-91F0-E68AD3A58C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17F1-A0A6-4677-976F-3B36C430B8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CD00-D096-4F73-AFE7-7AE95D66DB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C732-F7F4-498A-AC96-B822C28BCC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5BAB-41FD-4ED8-B3FF-5FACFE38FB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107C-E5CB-4BC6-961E-25BF687F4A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5981-8983-4791-9FAA-B946753A9D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D4C4-F688-407F-BDE0-056CFB4E73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4DF4-641A-4A36-9ED7-E669A2F9828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64F4-619E-4819-A459-590B3273C4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2372-E826-4CE6-BEC8-5CD78D6B51B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CB7A-A45E-4985-87F8-2C6E07ECEBB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5" descr=""/>
          <p:cNvPicPr/>
          <p:nvPr/>
        </p:nvPicPr>
        <p:blipFill>
          <a:blip r:embed="rId1"/>
          <a:stretch/>
        </p:blipFill>
        <p:spPr>
          <a:xfrm>
            <a:off x="539640" y="1589040"/>
            <a:ext cx="8064720" cy="46087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6"/>
          <p:cNvSpPr/>
          <p:nvPr/>
        </p:nvSpPr>
        <p:spPr>
          <a:xfrm>
            <a:off x="123984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35" name="Text Box 17"/>
          <p:cNvSpPr/>
          <p:nvPr/>
        </p:nvSpPr>
        <p:spPr>
          <a:xfrm>
            <a:off x="4070160" y="1581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杏林子</a:t>
            </a:r>
            <a:endParaRPr b="0" lang="en-US" sz="36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36" name="矩形 1"/>
          <p:cNvSpPr/>
          <p:nvPr/>
        </p:nvSpPr>
        <p:spPr>
          <a:xfrm>
            <a:off x="2441160" y="946080"/>
            <a:ext cx="404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84902"/>
                </a:solidFill>
                <a:latin typeface="Times New Roman"/>
              </a:rPr>
              <a:t>生命</a:t>
            </a:r>
            <a:r>
              <a:rPr b="0" lang="zh-CN" sz="4000" spc="-1" strike="noStrike">
                <a:solidFill>
                  <a:srgbClr val="984902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984902"/>
                </a:solidFill>
                <a:latin typeface="Times New Roman"/>
              </a:rPr>
              <a:t>模板完整版下载</a:t>
            </a:r>
            <a:endParaRPr b="0" lang="en-US" sz="40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37" name="矩形 6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984902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第一点思考：必须对自己负责，好好地使用生命，让人生更有意义。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第二点思考：回答怎样对待生命的短暂，怎样对待生老病死。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第三点思考：将目标、信念付诸于行动。要珍惜生命、珍惜时间、不懈努力，为生命奋斗，“勇敢地活下去”。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9"/>
          <p:cNvSpPr/>
          <p:nvPr/>
        </p:nvSpPr>
        <p:spPr>
          <a:xfrm>
            <a:off x="3492360" y="2205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755640" y="3816360"/>
            <a:ext cx="7488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99"/>
                </a:solidFill>
                <a:latin typeface="黑体"/>
                <a:ea typeface="黑体"/>
              </a:rPr>
              <a:t>飞蛾          生之欲望            生命意义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99"/>
                </a:solidFill>
                <a:latin typeface="黑体"/>
                <a:ea typeface="黑体"/>
              </a:rPr>
              <a:t>香瓜子        生命力              生命的价值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99"/>
                </a:solidFill>
                <a:latin typeface="黑体"/>
                <a:ea typeface="黑体"/>
              </a:rPr>
              <a:t>心跳          生命  珍视             奋斗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83" name="Text Box 11"/>
          <p:cNvSpPr/>
          <p:nvPr/>
        </p:nvSpPr>
        <p:spPr>
          <a:xfrm>
            <a:off x="1704600" y="2827440"/>
            <a:ext cx="48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本文的关键词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————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侧重点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————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思考点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pic>
        <p:nvPicPr>
          <p:cNvPr id="584" name="Picture 12" descr="004"/>
          <p:cNvPicPr/>
          <p:nvPr/>
        </p:nvPicPr>
        <p:blipFill>
          <a:blip r:embed="rId1"/>
          <a:stretch/>
        </p:blipFill>
        <p:spPr>
          <a:xfrm>
            <a:off x="34920" y="1197000"/>
            <a:ext cx="5000760" cy="15429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3" descr="03"/>
          <p:cNvPicPr/>
          <p:nvPr/>
        </p:nvPicPr>
        <p:blipFill>
          <a:blip r:embed="rId2"/>
          <a:stretch/>
        </p:blipFill>
        <p:spPr>
          <a:xfrm>
            <a:off x="1042920" y="1484280"/>
            <a:ext cx="237492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cc3300"/>
                </a:solidFill>
                <a:uFillTx/>
                <a:latin typeface="Times New Roman"/>
              </a:rPr>
              <a:t>看题目思考：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 题目中“生命”一词，为什么连用两次？去掉一个行不行？为什么？</a:t>
            </a:r>
            <a:br>
              <a:rPr sz="3200"/>
            </a:b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3789360"/>
            <a:ext cx="777240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运用了反复修辞方法。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不行。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因为连用表示强调，表达了对生命的强烈的呼唤，表达了强烈的生命意识，去掉就没有这种表达作用了。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004"/>
          <p:cNvPicPr/>
          <p:nvPr/>
        </p:nvPicPr>
        <p:blipFill>
          <a:blip r:embed="rId1"/>
          <a:stretch/>
        </p:blipFill>
        <p:spPr>
          <a:xfrm>
            <a:off x="34920" y="1238400"/>
            <a:ext cx="5000760" cy="154296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5"/>
          <p:cNvSpPr/>
          <p:nvPr/>
        </p:nvSpPr>
        <p:spPr>
          <a:xfrm>
            <a:off x="539640" y="3139920"/>
            <a:ext cx="7850160" cy="1572120"/>
          </a:xfrm>
          <a:prstGeom prst="rect">
            <a:avLst/>
          </a:prstGeom>
          <a:solidFill>
            <a:srgbClr val="ffcc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902"/>
                </a:solidFill>
                <a:latin typeface="Times New Roman"/>
              </a:rPr>
              <a:t>①“</a:t>
            </a:r>
            <a:r>
              <a:rPr b="1" lang="zh-CN" sz="2400" spc="-1" strike="noStrike">
                <a:solidFill>
                  <a:srgbClr val="984902"/>
                </a:solidFill>
                <a:latin typeface="Times New Roman"/>
              </a:rPr>
              <a:t>我感到一股生命的力量在我手中跃动。”“跃动”改为“跳动”行不行</a:t>
            </a:r>
            <a:r>
              <a:rPr b="1" lang="en-US" sz="2400" spc="-1" strike="noStrike">
                <a:solidFill>
                  <a:srgbClr val="984902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984902"/>
                </a:solidFill>
                <a:latin typeface="Times New Roman"/>
              </a:rPr>
              <a:t>为什么</a:t>
            </a:r>
            <a:r>
              <a:rPr b="1" lang="en-US" sz="2400" spc="-1" strike="noStrike">
                <a:solidFill>
                  <a:srgbClr val="984902"/>
                </a:solidFill>
                <a:latin typeface="Times New Roman"/>
              </a:rPr>
              <a:t>?</a:t>
            </a:r>
            <a:r>
              <a:rPr b="0" lang="en-US" sz="2400" spc="-1" strike="noStrike">
                <a:solidFill>
                  <a:srgbClr val="98490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902"/>
                </a:solidFill>
                <a:latin typeface="Times New Roman"/>
              </a:rPr>
              <a:t>②“</a:t>
            </a:r>
            <a:r>
              <a:rPr b="1" lang="zh-CN" sz="2400" spc="-1" strike="noStrike">
                <a:solidFill>
                  <a:srgbClr val="984902"/>
                </a:solidFill>
                <a:latin typeface="Times New Roman"/>
              </a:rPr>
              <a:t>隔了几天，竟然冒出了一截小瓜苗。”竟然，为什么不能去掉</a:t>
            </a:r>
            <a:r>
              <a:rPr b="1" lang="en-US" sz="2400" spc="-1" strike="noStrike">
                <a:solidFill>
                  <a:srgbClr val="984902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902"/>
                </a:solidFill>
                <a:latin typeface="Times New Roman"/>
              </a:rPr>
              <a:t>③“</a:t>
            </a:r>
            <a:r>
              <a:rPr b="1" lang="zh-CN" sz="2400" spc="-1" strike="noStrike">
                <a:solidFill>
                  <a:srgbClr val="984902"/>
                </a:solidFill>
                <a:latin typeface="Times New Roman"/>
              </a:rPr>
              <a:t>我都愿意为它奋斗，勇敢地活下去。”作者为什么要加“勇敢地”来修饰“活下去”</a:t>
            </a:r>
            <a:r>
              <a:rPr b="1" lang="en-US" sz="2400" spc="-1" strike="noStrike">
                <a:solidFill>
                  <a:srgbClr val="984902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pic>
        <p:nvPicPr>
          <p:cNvPr id="590" name="Picture 6" descr="03"/>
          <p:cNvPicPr/>
          <p:nvPr/>
        </p:nvPicPr>
        <p:blipFill>
          <a:blip r:embed="rId2"/>
          <a:stretch/>
        </p:blipFill>
        <p:spPr>
          <a:xfrm>
            <a:off x="684360" y="1557360"/>
            <a:ext cx="237492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tu2-4"/>
          <p:cNvPicPr/>
          <p:nvPr/>
        </p:nvPicPr>
        <p:blipFill>
          <a:blip r:embed="rId1"/>
          <a:stretch/>
        </p:blipFill>
        <p:spPr>
          <a:xfrm>
            <a:off x="6796080" y="-27000"/>
            <a:ext cx="2384280" cy="530064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7559640" cy="2016360"/>
          </a:xfrm>
          <a:prstGeom prst="rect">
            <a:avLst/>
          </a:prstGeom>
          <a:solidFill>
            <a:srgbClr val="ffcc99">
              <a:alpha val="6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90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84902"/>
                </a:solidFill>
                <a:latin typeface="Times New Roman"/>
              </a:rPr>
              <a:t>、不行。跳动是一起一伏地动；跃动表达心情急切。用“跃动”更能表达“生之欲望”。</a:t>
            </a:r>
            <a:r>
              <a:rPr b="0" lang="zh-CN" sz="4400" spc="-1" strike="noStrike">
                <a:solidFill>
                  <a:srgbClr val="98490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682560" y="2998800"/>
            <a:ext cx="7561440" cy="581400"/>
          </a:xfrm>
          <a:prstGeom prst="rect">
            <a:avLst/>
          </a:prstGeom>
          <a:solidFill>
            <a:srgbClr val="ffcc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902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984902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84902"/>
                </a:solidFill>
                <a:latin typeface="Times New Roman"/>
              </a:rPr>
              <a:t>竟然表达了一种意想不到，表达出一种惊喜，若去掉就没有了这种表达效果。</a:t>
            </a:r>
            <a:endParaRPr b="0" lang="en-US" sz="28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684360" y="4076640"/>
            <a:ext cx="7561080" cy="581400"/>
          </a:xfrm>
          <a:prstGeom prst="rect">
            <a:avLst/>
          </a:prstGeom>
          <a:solidFill>
            <a:srgbClr val="ffcc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902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84902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84902"/>
                </a:solidFill>
                <a:latin typeface="Times New Roman"/>
              </a:rPr>
              <a:t>作者那种难以忍受的病痛，活着会比死了还要难受。像她这种情况，活着比死亡还更需要勇气，因此在“活下去”的前面加上“勇敢地”修饰成分。</a:t>
            </a:r>
            <a:endParaRPr b="0" lang="en-US" sz="2800" spc="-1" strike="noStrike">
              <a:solidFill>
                <a:srgbClr val="984902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"/>
          <p:cNvSpPr/>
          <p:nvPr/>
        </p:nvSpPr>
        <p:spPr>
          <a:xfrm>
            <a:off x="684360" y="1413000"/>
            <a:ext cx="7705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这是关于生命的一组图片。</a:t>
            </a:r>
            <a:endParaRPr b="0" lang="en-US" sz="4800" spc="-1" strike="noStrike">
              <a:solidFill>
                <a:srgbClr val="9849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生命， 不屈的动力！</a:t>
            </a:r>
            <a:endParaRPr b="0" lang="en-US" sz="4800" spc="-1" strike="noStrike">
              <a:solidFill>
                <a:srgbClr val="9849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冲破一切的力量</a:t>
            </a:r>
            <a:endParaRPr b="0" lang="en-US" sz="4800" spc="-1" strike="noStrike">
              <a:solidFill>
                <a:srgbClr val="984902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kuang"/>
          <p:cNvPicPr/>
          <p:nvPr/>
        </p:nvPicPr>
        <p:blipFill>
          <a:blip r:embed="rId1"/>
          <a:stretch/>
        </p:blipFill>
        <p:spPr>
          <a:xfrm>
            <a:off x="-468360" y="0"/>
            <a:ext cx="9612360" cy="68389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" descr="resize of 小草"/>
          <p:cNvPicPr/>
          <p:nvPr/>
        </p:nvPicPr>
        <p:blipFill>
          <a:blip r:embed="rId2"/>
          <a:stretch/>
        </p:blipFill>
        <p:spPr>
          <a:xfrm>
            <a:off x="395280" y="701640"/>
            <a:ext cx="7993080" cy="539136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902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984902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9849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kuang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8868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" descr="6"/>
          <p:cNvPicPr/>
          <p:nvPr/>
        </p:nvPicPr>
        <p:blipFill>
          <a:blip r:embed="rId2"/>
          <a:stretch/>
        </p:blipFill>
        <p:spPr>
          <a:xfrm>
            <a:off x="847800" y="907920"/>
            <a:ext cx="756108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kuang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8868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" descr="2"/>
          <p:cNvPicPr/>
          <p:nvPr/>
        </p:nvPicPr>
        <p:blipFill>
          <a:blip r:embed="rId2"/>
          <a:stretch/>
        </p:blipFill>
        <p:spPr>
          <a:xfrm>
            <a:off x="826920" y="887400"/>
            <a:ext cx="7632720" cy="52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13"/>
          <p:cNvSpPr/>
          <p:nvPr/>
        </p:nvSpPr>
        <p:spPr>
          <a:xfrm>
            <a:off x="1992240" y="907920"/>
            <a:ext cx="4908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4902"/>
                </a:solidFill>
                <a:latin typeface="Times New Roman"/>
              </a:rPr>
              <a:t>                          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汪国真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意志倒下的时候 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生命也就不再屹立 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歪歪斜斜的身影 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又怎耐得 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秋叶萧瑟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晚来风急 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垂下头颅 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只是为了让思想扬起 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你若有一个不屈的灵魂 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脚下，就会有一片坚实的土地 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无论走向何方 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都会有无数双眼睛跟随着你 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从别人那里 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我们认识了自己 </a:t>
            </a: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kuang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8868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1"/>
          <p:cNvPicPr/>
          <p:nvPr/>
        </p:nvPicPr>
        <p:blipFill>
          <a:blip r:embed="rId2"/>
          <a:stretch/>
        </p:blipFill>
        <p:spPr>
          <a:xfrm>
            <a:off x="826920" y="907920"/>
            <a:ext cx="763272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539640" y="1120680"/>
            <a:ext cx="2448000" cy="703440"/>
          </a:xfrm>
          <a:prstGeom prst="rect">
            <a:avLst/>
          </a:prstGeom>
          <a:solidFill>
            <a:srgbClr val="ffcc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体验反思</a:t>
            </a:r>
            <a:endParaRPr b="0" lang="en-US" sz="40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539640" y="2349360"/>
            <a:ext cx="8064720" cy="1191240"/>
          </a:xfrm>
          <a:prstGeom prst="rect">
            <a:avLst/>
          </a:prstGeom>
          <a:solidFill>
            <a:srgbClr val="ffcc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84902"/>
                </a:solidFill>
                <a:latin typeface="Times New Roman"/>
              </a:rPr>
              <a:t>朗读课文最后三段，说说你学习了此文的思考。结合你的生活，从你的周围举出一两个例子，谈谈你的认识。</a:t>
            </a:r>
            <a:r>
              <a:rPr b="0" lang="zh-CN" sz="3600" spc="-1" strike="noStrike">
                <a:solidFill>
                  <a:srgbClr val="984902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984902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5"/>
          <p:cNvPicPr/>
          <p:nvPr/>
        </p:nvPicPr>
        <p:blipFill>
          <a:blip r:embed="rId1"/>
          <a:stretch/>
        </p:blipFill>
        <p:spPr>
          <a:xfrm>
            <a:off x="609480" y="1066680"/>
            <a:ext cx="2035440" cy="503280"/>
          </a:xfrm>
          <a:prstGeom prst="rect">
            <a:avLst/>
          </a:prstGeom>
          <a:ln w="0">
            <a:noFill/>
          </a:ln>
        </p:spPr>
      </p:pic>
      <p:grpSp>
        <p:nvGrpSpPr>
          <p:cNvPr id="611" name="Group 8"/>
          <p:cNvGrpSpPr/>
          <p:nvPr/>
        </p:nvGrpSpPr>
        <p:grpSpPr>
          <a:xfrm>
            <a:off x="609480" y="1638360"/>
            <a:ext cx="7924680" cy="4610160"/>
            <a:chOff x="609480" y="1638360"/>
            <a:chExt cx="7924680" cy="4610160"/>
          </a:xfrm>
        </p:grpSpPr>
        <p:pic>
          <p:nvPicPr>
            <p:cNvPr id="612" name="Picture 4" descr=""/>
            <p:cNvPicPr/>
            <p:nvPr/>
          </p:nvPicPr>
          <p:blipFill>
            <a:blip r:embed="rId2"/>
            <a:stretch/>
          </p:blipFill>
          <p:spPr>
            <a:xfrm>
              <a:off x="4514760" y="1638360"/>
              <a:ext cx="4019400" cy="32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3" descr=""/>
            <p:cNvPicPr/>
            <p:nvPr/>
          </p:nvPicPr>
          <p:blipFill>
            <a:blip r:embed="rId3"/>
            <a:stretch/>
          </p:blipFill>
          <p:spPr>
            <a:xfrm>
              <a:off x="609480" y="3048120"/>
              <a:ext cx="4086360" cy="320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7"/>
          <p:cNvGrpSpPr/>
          <p:nvPr/>
        </p:nvGrpSpPr>
        <p:grpSpPr>
          <a:xfrm>
            <a:off x="2292120" y="2205000"/>
            <a:ext cx="4840200" cy="3697560"/>
            <a:chOff x="2292120" y="2205000"/>
            <a:chExt cx="4840200" cy="3697560"/>
          </a:xfrm>
        </p:grpSpPr>
        <p:sp>
          <p:nvSpPr>
            <p:cNvPr id="615" name="Text Box 5"/>
            <p:cNvSpPr/>
            <p:nvPr/>
          </p:nvSpPr>
          <p:spPr>
            <a:xfrm>
              <a:off x="2292120" y="22050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84902"/>
                  </a:solidFill>
                  <a:latin typeface="Times New Roman"/>
                  <a:ea typeface="楷体_GB2312"/>
                </a:rPr>
                <a:t>生  命</a:t>
              </a:r>
              <a:endParaRPr b="0" lang="en-US" sz="3200" spc="-1" strike="noStrike">
                <a:solidFill>
                  <a:srgbClr val="984902"/>
                </a:solidFill>
                <a:latin typeface="Times New Roman"/>
              </a:endParaRPr>
            </a:p>
          </p:txBody>
        </p:sp>
        <p:sp>
          <p:nvSpPr>
            <p:cNvPr id="616" name="Text Box 6"/>
            <p:cNvSpPr/>
            <p:nvPr/>
          </p:nvSpPr>
          <p:spPr>
            <a:xfrm>
              <a:off x="5976360" y="532116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84902"/>
                  </a:solidFill>
                  <a:latin typeface="楷体_GB2312"/>
                  <a:ea typeface="楷体_GB2312"/>
                </a:rPr>
                <a:t>历  程</a:t>
              </a:r>
              <a:endParaRPr b="0" lang="en-US" sz="3200" spc="-1" strike="noStrike">
                <a:solidFill>
                  <a:srgbClr val="984902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984902"/>
              </a:solidFill>
              <a:latin typeface="Times New Roman"/>
            </a:endParaRPr>
          </a:p>
        </p:txBody>
      </p:sp>
      <p:pic>
        <p:nvPicPr>
          <p:cNvPr id="618" name="Picture 4" descr="u=1655912943,39224146&amp;gp=46"/>
          <p:cNvPicPr/>
          <p:nvPr/>
        </p:nvPicPr>
        <p:blipFill>
          <a:blip r:embed="rId1"/>
          <a:stretch/>
        </p:blipFill>
        <p:spPr>
          <a:xfrm>
            <a:off x="6588000" y="2133720"/>
            <a:ext cx="1656000" cy="17650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" descr="u=1869540120,3044903288&amp;gp=2"/>
          <p:cNvPicPr/>
          <p:nvPr/>
        </p:nvPicPr>
        <p:blipFill>
          <a:blip r:embed="rId2"/>
          <a:stretch/>
        </p:blipFill>
        <p:spPr>
          <a:xfrm>
            <a:off x="3995640" y="1989000"/>
            <a:ext cx="2354400" cy="24480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6" descr="u=2854586264,2313259136&amp;gp=4"/>
          <p:cNvPicPr/>
          <p:nvPr/>
        </p:nvPicPr>
        <p:blipFill>
          <a:blip r:embed="rId3"/>
          <a:stretch/>
        </p:blipFill>
        <p:spPr>
          <a:xfrm>
            <a:off x="684360" y="1989000"/>
            <a:ext cx="30956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984902"/>
              </a:solidFill>
              <a:latin typeface="Times New Roman"/>
            </a:endParaRPr>
          </a:p>
        </p:txBody>
      </p:sp>
      <p:pic>
        <p:nvPicPr>
          <p:cNvPr id="622" name="Picture 6" descr="u=46549941,3075875209&amp;gp=34"/>
          <p:cNvPicPr/>
          <p:nvPr/>
        </p:nvPicPr>
        <p:blipFill>
          <a:blip r:embed="rId1"/>
          <a:stretch/>
        </p:blipFill>
        <p:spPr>
          <a:xfrm>
            <a:off x="6012000" y="1557360"/>
            <a:ext cx="2232000" cy="18003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7" descr="u=3178371060,3568851148&amp;gp=30"/>
          <p:cNvPicPr/>
          <p:nvPr/>
        </p:nvPicPr>
        <p:blipFill>
          <a:blip r:embed="rId2"/>
          <a:stretch/>
        </p:blipFill>
        <p:spPr>
          <a:xfrm>
            <a:off x="5940360" y="3789360"/>
            <a:ext cx="2303640" cy="16556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8" descr="u=962651084,4211036792&amp;gp=-46"/>
          <p:cNvPicPr/>
          <p:nvPr/>
        </p:nvPicPr>
        <p:blipFill>
          <a:blip r:embed="rId3"/>
          <a:stretch/>
        </p:blipFill>
        <p:spPr>
          <a:xfrm>
            <a:off x="611280" y="1341360"/>
            <a:ext cx="504036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984902"/>
              </a:solidFill>
              <a:latin typeface="Times New Roman"/>
            </a:endParaRPr>
          </a:p>
        </p:txBody>
      </p:sp>
      <p:pic>
        <p:nvPicPr>
          <p:cNvPr id="626" name="Picture 6" descr="u=2501812996,4142784000&amp;gp=6"/>
          <p:cNvPicPr/>
          <p:nvPr/>
        </p:nvPicPr>
        <p:blipFill>
          <a:blip r:embed="rId1"/>
          <a:stretch/>
        </p:blipFill>
        <p:spPr>
          <a:xfrm>
            <a:off x="684360" y="1413000"/>
            <a:ext cx="7704000" cy="410364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902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984902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7" descr="02"/>
          <p:cNvPicPr/>
          <p:nvPr/>
        </p:nvPicPr>
        <p:blipFill>
          <a:blip r:embed="rId1"/>
          <a:stretch/>
        </p:blipFill>
        <p:spPr>
          <a:xfrm>
            <a:off x="674640" y="1077840"/>
            <a:ext cx="2068560" cy="4460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1" descr="MIN2022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2" descr="ALL03516"/>
          <p:cNvPicPr/>
          <p:nvPr/>
        </p:nvPicPr>
        <p:blipFill>
          <a:blip r:embed="rId3"/>
          <a:stretch/>
        </p:blipFill>
        <p:spPr>
          <a:xfrm>
            <a:off x="5638680" y="4518000"/>
            <a:ext cx="3505320" cy="23400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13"/>
          <p:cNvSpPr/>
          <p:nvPr/>
        </p:nvSpPr>
        <p:spPr>
          <a:xfrm>
            <a:off x="7524720" y="1413000"/>
            <a:ext cx="5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天亮了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pic>
        <p:nvPicPr>
          <p:cNvPr id="632" name="天亮了.wma" descr=""/>
          <p:cNvPicPr/>
          <p:nvPr/>
        </p:nvPicPr>
        <p:blipFill>
          <a:blip r:embed="rId4"/>
          <a:stretch/>
        </p:blipFill>
        <p:spPr>
          <a:xfrm>
            <a:off x="5292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213230" fill="hold"/>
                                        <p:tgtEl>
                                          <p:spTgt spid="6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1026" descr="05"/>
          <p:cNvPicPr/>
          <p:nvPr/>
        </p:nvPicPr>
        <p:blipFill>
          <a:blip r:embed="rId1"/>
          <a:stretch/>
        </p:blipFill>
        <p:spPr>
          <a:xfrm>
            <a:off x="609480" y="1066680"/>
            <a:ext cx="2035440" cy="50328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033"/>
          <p:cNvSpPr/>
          <p:nvPr/>
        </p:nvSpPr>
        <p:spPr>
          <a:xfrm>
            <a:off x="1332360" y="204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84902"/>
                </a:solidFill>
                <a:latin typeface="楷体_GB2312"/>
                <a:ea typeface="楷体_GB2312"/>
              </a:rPr>
              <a:t>仿  写： 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35" name="Text Box 1034"/>
          <p:cNvSpPr/>
          <p:nvPr/>
        </p:nvSpPr>
        <p:spPr>
          <a:xfrm>
            <a:off x="2564280" y="3073320"/>
            <a:ext cx="4539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84902"/>
                </a:solidFill>
                <a:latin typeface="楷体_GB2312"/>
                <a:ea typeface="楷体_GB2312"/>
              </a:rPr>
              <a:t>人生的启迪</a:t>
            </a:r>
            <a:endParaRPr b="0" lang="en-US" sz="28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84902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984902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984902"/>
                </a:solidFill>
                <a:latin typeface="楷体_GB2312"/>
                <a:ea typeface="楷体_GB2312"/>
              </a:rPr>
              <a:t>读</a:t>
            </a:r>
            <a:r>
              <a:rPr b="1" lang="en-US" sz="2800" spc="-1" strike="noStrike">
                <a:solidFill>
                  <a:srgbClr val="984902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984902"/>
                </a:solidFill>
                <a:latin typeface="楷体_GB2312"/>
                <a:ea typeface="楷体_GB2312"/>
              </a:rPr>
              <a:t>生命 生命</a:t>
            </a:r>
            <a:r>
              <a:rPr b="1" lang="en-US" sz="2800" spc="-1" strike="noStrike">
                <a:solidFill>
                  <a:srgbClr val="984902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984902"/>
                </a:solidFill>
                <a:latin typeface="楷体_GB2312"/>
                <a:ea typeface="楷体_GB2312"/>
              </a:rPr>
              <a:t>有感 </a:t>
            </a:r>
            <a:endParaRPr b="0" lang="en-US" sz="28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36" name="Text Box 1035"/>
          <p:cNvSpPr/>
          <p:nvPr/>
        </p:nvSpPr>
        <p:spPr>
          <a:xfrm>
            <a:off x="2754360" y="4800600"/>
            <a:ext cx="31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84902"/>
                </a:solidFill>
                <a:latin typeface="楷体_GB2312"/>
                <a:ea typeface="楷体_GB2312"/>
              </a:rPr>
              <a:t>提示：生命现象</a:t>
            </a:r>
            <a:r>
              <a:rPr b="1" lang="en-US" sz="2800" spc="-1" strike="noStrike">
                <a:solidFill>
                  <a:srgbClr val="984902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984902"/>
                </a:solidFill>
                <a:latin typeface="楷体_GB2312"/>
                <a:ea typeface="楷体_GB2312"/>
              </a:rPr>
              <a:t>生命思考 </a:t>
            </a:r>
            <a:endParaRPr b="0" lang="en-US" sz="2800" spc="-1" strike="noStrike">
              <a:solidFill>
                <a:srgbClr val="984902"/>
              </a:solidFill>
              <a:latin typeface="Times New Roman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4"/>
          <p:cNvSpPr/>
          <p:nvPr/>
        </p:nvSpPr>
        <p:spPr>
          <a:xfrm>
            <a:off x="108000" y="1384200"/>
            <a:ext cx="8532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吾生也有涯，而知也无涯。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庄子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生，亦我所欲也，义，亦我所欲也；二者不可得兼，舍生而取义者也。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孟子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人的生命是短暂的，但我要以有限的生命投入到无限的为人民服务中去。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                      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雷锋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1116000" y="652464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984902"/>
              </a:solidFill>
              <a:latin typeface="Times New Roman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6"/>
          <p:cNvSpPr/>
          <p:nvPr/>
        </p:nvSpPr>
        <p:spPr>
          <a:xfrm>
            <a:off x="1835280" y="27813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40" name="Text Box 2"/>
          <p:cNvSpPr/>
          <p:nvPr/>
        </p:nvSpPr>
        <p:spPr>
          <a:xfrm>
            <a:off x="3562200" y="1052640"/>
            <a:ext cx="5113440" cy="1068840"/>
          </a:xfrm>
          <a:prstGeom prst="rect">
            <a:avLst/>
          </a:prstGeom>
          <a:solidFill>
            <a:srgbClr val="ffff99"/>
          </a:solidFill>
          <a:ln w="28440">
            <a:solidFill>
              <a:srgbClr val="8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84902"/>
                </a:solidFill>
                <a:latin typeface="华文仿宋"/>
                <a:ea typeface="华文仿宋"/>
              </a:rPr>
              <a:t>杏林子是台湾一位知名女作家。她从</a:t>
            </a:r>
            <a:r>
              <a:rPr b="1" lang="en-US" sz="3200" spc="-1" strike="noStrike">
                <a:solidFill>
                  <a:srgbClr val="984902"/>
                </a:solidFill>
                <a:latin typeface="华文仿宋"/>
                <a:ea typeface="华文仿宋"/>
              </a:rPr>
              <a:t>12</a:t>
            </a:r>
            <a:r>
              <a:rPr b="1" lang="zh-CN" sz="3200" spc="-1" strike="noStrike">
                <a:solidFill>
                  <a:srgbClr val="984902"/>
                </a:solidFill>
                <a:latin typeface="华文仿宋"/>
                <a:ea typeface="华文仿宋"/>
              </a:rPr>
              <a:t>岁就得了类风湿关节炎，但是，她靠着信心、毅力，让世人对她刮目相看。从她身上人们看到的永远是光明和希望。也因为这一点，对于生命，她比任何人都要热爱。她的</a:t>
            </a:r>
            <a:r>
              <a:rPr b="1" lang="en-US" sz="3200" spc="-1" strike="noStrike">
                <a:solidFill>
                  <a:srgbClr val="984902"/>
                </a:solidFill>
                <a:latin typeface="华文仿宋"/>
                <a:ea typeface="华文仿宋"/>
              </a:rPr>
              <a:t>《</a:t>
            </a:r>
            <a:r>
              <a:rPr b="1" lang="zh-CN" sz="3200" spc="-1" strike="noStrike">
                <a:solidFill>
                  <a:srgbClr val="984902"/>
                </a:solidFill>
                <a:latin typeface="华文仿宋"/>
                <a:ea typeface="华文仿宋"/>
              </a:rPr>
              <a:t>生命           生命</a:t>
            </a:r>
            <a:r>
              <a:rPr b="1" lang="en-US" sz="3200" spc="-1" strike="noStrike">
                <a:solidFill>
                  <a:srgbClr val="984902"/>
                </a:solidFill>
                <a:latin typeface="华文仿宋"/>
                <a:ea typeface="华文仿宋"/>
              </a:rPr>
              <a:t>》《</a:t>
            </a:r>
            <a:r>
              <a:rPr b="1" lang="zh-CN" sz="3200" spc="-1" strike="noStrike">
                <a:solidFill>
                  <a:srgbClr val="984902"/>
                </a:solidFill>
                <a:latin typeface="华文仿宋"/>
                <a:ea typeface="华文仿宋"/>
              </a:rPr>
              <a:t>生之歌</a:t>
            </a:r>
            <a:r>
              <a:rPr b="1" lang="en-US" sz="3200" spc="-1" strike="noStrike">
                <a:solidFill>
                  <a:srgbClr val="984902"/>
                </a:solidFill>
                <a:latin typeface="华文仿宋"/>
                <a:ea typeface="华文仿宋"/>
              </a:rPr>
              <a:t>》《</a:t>
            </a:r>
            <a:r>
              <a:rPr b="1" lang="zh-CN" sz="3200" spc="-1" strike="noStrike">
                <a:solidFill>
                  <a:srgbClr val="984902"/>
                </a:solidFill>
                <a:latin typeface="华文仿宋"/>
                <a:ea typeface="华文仿宋"/>
              </a:rPr>
              <a:t>生之颂</a:t>
            </a:r>
            <a:r>
              <a:rPr b="1" lang="en-US" sz="3200" spc="-1" strike="noStrike">
                <a:solidFill>
                  <a:srgbClr val="984902"/>
                </a:solidFill>
                <a:latin typeface="华文仿宋"/>
                <a:ea typeface="华文仿宋"/>
              </a:rPr>
              <a:t>》</a:t>
            </a:r>
            <a:r>
              <a:rPr b="1" lang="zh-CN" sz="3200" spc="-1" strike="noStrike">
                <a:solidFill>
                  <a:srgbClr val="984902"/>
                </a:solidFill>
                <a:latin typeface="华文仿宋"/>
                <a:ea typeface="华文仿宋"/>
              </a:rPr>
              <a:t>等文章，都充满了对生命的热爱。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pic>
        <p:nvPicPr>
          <p:cNvPr id="541" name="Picture 3" descr="杏林子"/>
          <p:cNvPicPr/>
          <p:nvPr/>
        </p:nvPicPr>
        <p:blipFill>
          <a:blip r:embed="rId1"/>
          <a:stretch/>
        </p:blipFill>
        <p:spPr>
          <a:xfrm>
            <a:off x="527040" y="1566720"/>
            <a:ext cx="3032280" cy="433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001"/>
          <p:cNvPicPr/>
          <p:nvPr/>
        </p:nvPicPr>
        <p:blipFill>
          <a:blip r:embed="rId1"/>
          <a:stretch/>
        </p:blipFill>
        <p:spPr>
          <a:xfrm>
            <a:off x="324000" y="914400"/>
            <a:ext cx="3563640" cy="16509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973080" y="1628640"/>
            <a:ext cx="26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字词辨音</a:t>
            </a:r>
            <a:endParaRPr b="0" lang="en-US" sz="36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2381760" y="343548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84902"/>
                </a:solidFill>
                <a:latin typeface="Arial"/>
              </a:rPr>
              <a:t>小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憩</a:t>
            </a:r>
            <a:r>
              <a:rPr b="1" lang="zh-CN" sz="3600" spc="-1" strike="noStrike">
                <a:solidFill>
                  <a:srgbClr val="984902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辜</a:t>
            </a:r>
            <a:r>
              <a:rPr b="1" lang="zh-CN" sz="3600" spc="-1" strike="noStrike">
                <a:solidFill>
                  <a:srgbClr val="984902"/>
                </a:solidFill>
                <a:latin typeface="Arial"/>
              </a:rPr>
              <a:t>负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骚</a:t>
            </a:r>
            <a:r>
              <a:rPr b="1" lang="zh-CN" sz="3600" spc="-1" strike="noStrike">
                <a:solidFill>
                  <a:srgbClr val="984902"/>
                </a:solidFill>
                <a:latin typeface="Arial"/>
              </a:rPr>
              <a:t>扰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庸</a:t>
            </a:r>
            <a:r>
              <a:rPr b="1" lang="zh-CN" sz="3600" spc="-1" strike="noStrike">
                <a:solidFill>
                  <a:srgbClr val="984902"/>
                </a:solidFill>
                <a:latin typeface="Arial"/>
              </a:rPr>
              <a:t>碌</a:t>
            </a:r>
            <a:endParaRPr b="0" lang="en-US" sz="36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3017880" y="42926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185560" y="263376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902"/>
                </a:solidFill>
                <a:latin typeface="Arial"/>
              </a:rPr>
              <a:t>q</a:t>
            </a:r>
            <a:r>
              <a:rPr b="1" lang="en-US" sz="3200" spc="-1" strike="noStrike">
                <a:solidFill>
                  <a:srgbClr val="984902"/>
                </a:solidFill>
                <a:latin typeface="Times New Roman"/>
                <a:ea typeface="Times New Roman"/>
              </a:rPr>
              <a:t>ì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3110400" y="256212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902"/>
                </a:solidFill>
                <a:latin typeface="Times New Roman"/>
                <a:ea typeface="Times New Roman"/>
              </a:rPr>
              <a:t>gū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344120" y="2562120"/>
            <a:ext cx="7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902"/>
                </a:solidFill>
                <a:latin typeface="Times New Roman"/>
                <a:ea typeface="Times New Roman"/>
              </a:rPr>
              <a:t>sāo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5496840" y="256212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902"/>
                </a:solidFill>
                <a:latin typeface="Times New Roman"/>
                <a:ea typeface="Times New Roman"/>
              </a:rPr>
              <a:t>yōng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50" name="Text Box 10"/>
          <p:cNvSpPr/>
          <p:nvPr/>
        </p:nvSpPr>
        <p:spPr>
          <a:xfrm>
            <a:off x="2533680" y="5014800"/>
            <a:ext cx="455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擎</a:t>
            </a:r>
            <a:r>
              <a:rPr b="1" lang="zh-CN" sz="3600" spc="-1" strike="noStrike">
                <a:solidFill>
                  <a:srgbClr val="984902"/>
                </a:solidFill>
                <a:latin typeface="Arial"/>
              </a:rPr>
              <a:t>天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撼</a:t>
            </a:r>
            <a:r>
              <a:rPr b="1" lang="zh-CN" sz="3600" spc="-1" strike="noStrike">
                <a:solidFill>
                  <a:srgbClr val="984902"/>
                </a:solidFill>
                <a:latin typeface="Arial"/>
              </a:rPr>
              <a:t>地          糟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蹋</a:t>
            </a:r>
            <a:endParaRPr b="0" lang="en-US" sz="3600" spc="-1" strike="noStrike">
              <a:solidFill>
                <a:srgbClr val="9849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51" name="Text Box 11"/>
          <p:cNvSpPr/>
          <p:nvPr/>
        </p:nvSpPr>
        <p:spPr>
          <a:xfrm>
            <a:off x="3374640" y="439092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902"/>
                </a:solidFill>
                <a:latin typeface="Times New Roman"/>
                <a:ea typeface="Times New Roman"/>
              </a:rPr>
              <a:t>hàn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52" name="Text Box 12"/>
          <p:cNvSpPr/>
          <p:nvPr/>
        </p:nvSpPr>
        <p:spPr>
          <a:xfrm>
            <a:off x="2196360" y="439092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902"/>
                </a:solidFill>
                <a:latin typeface="Times New Roman"/>
                <a:ea typeface="Times New Roman"/>
              </a:rPr>
              <a:t>qíng 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53" name="Text Box 13"/>
          <p:cNvSpPr/>
          <p:nvPr/>
        </p:nvSpPr>
        <p:spPr>
          <a:xfrm>
            <a:off x="6157080" y="4437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902"/>
                </a:solidFill>
                <a:latin typeface="Times New Roman"/>
                <a:ea typeface="Times New Roman"/>
              </a:rPr>
              <a:t>tà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001"/>
          <p:cNvPicPr/>
          <p:nvPr/>
        </p:nvPicPr>
        <p:blipFill>
          <a:blip r:embed="rId1"/>
          <a:stretch/>
        </p:blipFill>
        <p:spPr>
          <a:xfrm>
            <a:off x="5759280" y="115920"/>
            <a:ext cx="3276720" cy="151776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3"/>
          <p:cNvSpPr/>
          <p:nvPr/>
        </p:nvSpPr>
        <p:spPr>
          <a:xfrm>
            <a:off x="6950160" y="765000"/>
            <a:ext cx="18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释义</a:t>
            </a:r>
            <a:endParaRPr b="0" lang="en-US" sz="36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322200" y="32130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84902"/>
                </a:solidFill>
                <a:latin typeface="Arial"/>
              </a:rPr>
              <a:t>肃然起敬：由于受感动而产生恭敬和钦佩之情。肃然，形容十分恭敬的样子。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2507040" y="1413000"/>
            <a:ext cx="13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84902"/>
                </a:solidFill>
                <a:latin typeface="Arial"/>
              </a:rPr>
              <a:t>小憩：休息一会儿。憩，休息。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395280" y="213372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84902"/>
                </a:solidFill>
                <a:latin typeface="Arial"/>
              </a:rPr>
              <a:t>擎天撼地：形容力量巨大。擎，举起。撼，摇动。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2133720" y="43624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84902"/>
                </a:solidFill>
                <a:latin typeface="Arial"/>
              </a:rPr>
              <a:t>糟蹋：浪费或损坏。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3153600" y="4941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84902"/>
                </a:solidFill>
                <a:latin typeface="Arial"/>
              </a:rPr>
              <a:t>庸碌：形容人平庸，没有作为。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2541600" y="5661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84902"/>
                </a:solidFill>
                <a:latin typeface="Arial"/>
              </a:rPr>
              <a:t>骚扰：使不安宁，扰乱。</a:t>
            </a:r>
            <a:endParaRPr b="0" lang="en-US" sz="3200" spc="-1" strike="noStrike">
              <a:solidFill>
                <a:srgbClr val="984902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3"/>
          <p:cNvSpPr/>
          <p:nvPr/>
        </p:nvSpPr>
        <p:spPr>
          <a:xfrm>
            <a:off x="973080" y="177336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Arial"/>
                <a:ea typeface="仿宋_GB2312"/>
              </a:rPr>
              <a:t>读一篇文章，要善于抓住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仿宋_GB2312"/>
              </a:rPr>
              <a:t>关键词或主题词，从而抓住中心，抓住精神诵读全文，</a:t>
            </a:r>
            <a:r>
              <a:rPr b="1" lang="zh-CN" sz="3600" spc="-1" strike="noStrike">
                <a:solidFill>
                  <a:srgbClr val="00cc99"/>
                </a:solidFill>
                <a:latin typeface="Arial"/>
                <a:ea typeface="仿宋_GB2312"/>
              </a:rPr>
              <a:t>你能说出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作者列举了哪三个事例，试用一句话概括每个事例的内容。</a:t>
            </a:r>
            <a:endParaRPr b="0" lang="en-US" sz="3600" spc="-1" strike="noStrike">
              <a:solidFill>
                <a:srgbClr val="984902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1344240" y="1197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cc3300"/>
                </a:solidFill>
                <a:uFillTx/>
                <a:latin typeface="Arial"/>
                <a:ea typeface="华文仿宋"/>
              </a:rPr>
              <a:t>文章写了三个事例</a:t>
            </a:r>
            <a:endParaRPr b="0" lang="en-US" sz="36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1023480" y="2066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小飞蛾的挣扎</a:t>
            </a:r>
            <a:endParaRPr b="0" lang="en-US" sz="36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1094760" y="32288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香瓜苗的萌芽</a:t>
            </a:r>
            <a:endParaRPr b="0" lang="en-US" sz="36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611280" y="44434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静听心跳</a:t>
            </a:r>
            <a:endParaRPr b="0" lang="en-US" sz="36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3635280" y="2492280"/>
            <a:ext cx="1224000" cy="0"/>
          </a:xfrm>
          <a:prstGeom prst="line">
            <a:avLst/>
          </a:prstGeom>
          <a:ln w="38160">
            <a:solidFill>
              <a:srgbClr val="9849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5003640" y="21398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强烈的求生欲望</a:t>
            </a:r>
            <a:endParaRPr b="0" lang="en-US" sz="36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5558760" y="3284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生命力的强大</a:t>
            </a:r>
            <a:endParaRPr b="0" lang="en-US" sz="36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70" name="Line 9"/>
          <p:cNvSpPr/>
          <p:nvPr/>
        </p:nvSpPr>
        <p:spPr>
          <a:xfrm>
            <a:off x="3635280" y="3645000"/>
            <a:ext cx="1224000" cy="0"/>
          </a:xfrm>
          <a:prstGeom prst="line">
            <a:avLst/>
          </a:prstGeom>
          <a:ln w="38160">
            <a:solidFill>
              <a:srgbClr val="9849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71" name="Line 10"/>
          <p:cNvSpPr/>
          <p:nvPr/>
        </p:nvSpPr>
        <p:spPr>
          <a:xfrm>
            <a:off x="3635280" y="4797360"/>
            <a:ext cx="1224000" cy="0"/>
          </a:xfrm>
          <a:prstGeom prst="line">
            <a:avLst/>
          </a:prstGeom>
          <a:ln w="38160">
            <a:solidFill>
              <a:srgbClr val="9849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72" name="Text Box 11"/>
          <p:cNvSpPr/>
          <p:nvPr/>
        </p:nvSpPr>
        <p:spPr>
          <a:xfrm>
            <a:off x="5444280" y="4351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思考人生</a:t>
            </a:r>
            <a:endParaRPr b="0" lang="en-US" sz="3600" spc="-1" strike="noStrike">
              <a:solidFill>
                <a:srgbClr val="984902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179280" y="30304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静听心跳</a:t>
            </a:r>
            <a:endParaRPr b="0" lang="en-US" sz="36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74" name="AutoShape 3"/>
          <p:cNvSpPr/>
          <p:nvPr/>
        </p:nvSpPr>
        <p:spPr>
          <a:xfrm>
            <a:off x="1332000" y="1844640"/>
            <a:ext cx="287280" cy="36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849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2719080" y="33638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生命的有限与无限</a:t>
            </a:r>
            <a:endParaRPr b="0" lang="en-US" sz="36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1908000" y="159084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两种对待生命的态度</a:t>
            </a: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好好使用生命珍惜生命</a:t>
            </a:r>
            <a:endParaRPr b="0" lang="en-US" sz="36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2903760" y="5013360"/>
            <a:ext cx="38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确立目标</a:t>
            </a: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与病魔作斗争</a:t>
            </a:r>
            <a:endParaRPr b="0" lang="en-US" sz="3600" spc="-1" strike="noStrike">
              <a:solidFill>
                <a:srgbClr val="984902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902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984902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33"/>
          <p:cNvSpPr/>
          <p:nvPr/>
        </p:nvSpPr>
        <p:spPr>
          <a:xfrm>
            <a:off x="539640" y="2214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buClr>
                <a:srgbClr val="9849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84902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三个事例对人生思考分别是什么？</a:t>
            </a:r>
            <a:endParaRPr b="0" lang="en-US" sz="4400" spc="-1" strike="noStrike">
              <a:solidFill>
                <a:srgbClr val="984902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07:33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01:2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