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66880" y="685440"/>
            <a:ext cx="5124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03C5-FE79-4BC8-9686-7B30DC541F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每天或至少每周一次，你的“至高财富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幸福感”一定会不断上升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95B4-D0FC-41B6-96E0-4801B78221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SzPct val="82000"/>
              <a:buFont typeface="Times New Roman"/>
              <a:buChar char="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哈佛大学最受欢迎的选修课是“幸福课”，听课人数超过了王牌课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经济学导论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SzPct val="82000"/>
              <a:buFont typeface="Times New Roman"/>
              <a:buChar char="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而教这门课的是一位名不见经传的年轻讲师，名叫塔尔宾－夏哈尔，哈佛大学哲学与心理学博士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SzPct val="82000"/>
              <a:buFont typeface="Times New Roman"/>
              <a:buChar char="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许多学生向学校反应，这两门课“改变了他们的一生”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SzPct val="82000"/>
              <a:buFont typeface="Times New Roman"/>
              <a:buChar char="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美国主流媒体争相报导，包括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波士顿全球报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纽约时报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，以及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NN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BS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、美国国家公共广播电台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5323-A3BE-47EF-B99A-F5062E1F35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6E9B172-C7E2-441D-A339-23194143935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" descr="42-23074306.jpg"/>
          <p:cNvPicPr/>
          <p:nvPr/>
        </p:nvPicPr>
        <p:blipFill>
          <a:blip r:embed="rId1"/>
          <a:srcRect l="0" t="0" r="277" b="0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429080" y="1268280"/>
            <a:ext cx="436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944640"/>
            <a:ext cx="8453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什么是请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模板完整版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主讲人：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**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:\Documents and Settings\Administrator\桌面\mf700-02217447.jpg"/>
          <p:cNvPicPr/>
          <p:nvPr/>
        </p:nvPicPr>
        <p:blipFill>
          <a:blip r:embed="rId1"/>
          <a:srcRect l="1845" t="0" r="560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矩形 5"/>
          <p:cNvSpPr/>
          <p:nvPr/>
        </p:nvSpPr>
        <p:spPr>
          <a:xfrm>
            <a:off x="0" y="5437080"/>
            <a:ext cx="914400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直接连接符 6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90400" y="5456160"/>
            <a:ext cx="30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3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越级请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590400" y="5919840"/>
            <a:ext cx="799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请示与其他公文一样，一般不越级请示，如果因特殊情况或紧急事项必须越级请示时，要同时抄送越过的机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8" descr="is098te2r.jpg"/>
          <p:cNvPicPr/>
          <p:nvPr/>
        </p:nvPicPr>
        <p:blipFill>
          <a:blip r:embed="rId1"/>
          <a:srcRect l="0" t="0" r="0" b="109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0" y="5437080"/>
            <a:ext cx="914400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5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590400" y="5456160"/>
            <a:ext cx="44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4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得抄送下级机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590400" y="5919840"/>
            <a:ext cx="799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示是上行公文，行文时不得同时发下级机关，更不能要求下级机关执行上级机关未批准和未批复的事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直接连接符 5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90400" y="5456160"/>
            <a:ext cx="30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.5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睡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590400" y="5919840"/>
            <a:ext cx="799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9920" y="208080"/>
            <a:ext cx="20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Times New Roman"/>
                <a:ea typeface="微软雅黑"/>
              </a:rPr>
              <a:t>例文解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52400" y="981000"/>
            <a:ext cx="795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16120" y="1085760"/>
            <a:ext cx="735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0480" y="1022400"/>
            <a:ext cx="802332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策性请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×××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厂关于贯彻按劳分配政策两个具体问题的请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省劳动厅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按劳分配，是社会主义分配的基本原则，也是社会主义优越性之一。几年来，我厂由于认真贯彻了按劳分配政策，极大地激发了广大职工的社会主义劳动积极性，使得生产率成倍地增长，乃至几倍的增长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为全面贯彻按劳分配原则，进一步调动职工的劳动积极性，现就两项劳资政策问题请示如下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一、拟用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厂超额利润的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全厂职工晋升工资。其中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在册职工每人晋升一级，凡班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和车间先进生产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及其以上领导和先进人物再依次晋升一级；全厂技术突击组成员每人浮动一级工资，组长每人浮动两级工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二、拟用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厂超额利润的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次性为全厂职工每人增发奖金平均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，具体金额按劳动出勤率和完成定额计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以上请示，妥否，请批示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厂　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                                                                                   一九九○年十一月十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 6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90400" y="5456160"/>
            <a:ext cx="30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慷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590400" y="5967360"/>
            <a:ext cx="799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8680" y="289080"/>
            <a:ext cx="22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微软雅黑"/>
              </a:rPr>
              <a:t>【简析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27320" y="1533600"/>
            <a:ext cx="6594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”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用”用得好，工厂“拟用”这笔资金给职工晋升工资和发奖金，先行请示，这是请示的关键一环。执行得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政策的请示，政策问题是个原则性问题，凡把握不准时，都应及时请示，以便工作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Administrator\桌面\mf700-02081984.jpg"/>
          <p:cNvPicPr/>
          <p:nvPr/>
        </p:nvPicPr>
        <p:blipFill>
          <a:blip r:embed="rId1"/>
          <a:srcRect l="0" t="0" r="3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矩形 2"/>
          <p:cNvSpPr/>
          <p:nvPr/>
        </p:nvSpPr>
        <p:spPr>
          <a:xfrm>
            <a:off x="12600" y="5445000"/>
            <a:ext cx="914400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直接连接符 3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90400" y="5456160"/>
            <a:ext cx="30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区别请示与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90400" y="5967360"/>
            <a:ext cx="799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44360" y="620640"/>
            <a:ext cx="4641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示用于向上级机关请求指导、批准，上级接文后一定要给予批复；报告则用于向上级机关汇报工作，反映情况、提出建议，供上级了解情况。为上级提供信息和经验，上级机关接文后，不一定给予批复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示内容具体单一，要求一文一事，必须提出明确的请求事项。报告内容较广泛，可一文一事，也可反映多方面情况，但不能在报告中写入请示事项，也不能请求上级批复。请示起因、事项和结语缺一不可；报告行文较长，结构安排不拘一格，因文而异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示涉及事项是没有进行的，等上级批复后才能处理，必须事前行文，不能先斩后奏；报告涉及事项大却已过去或正在进行中，可以事后行文，也可以事中行文。请求时间性要求强，报告时间性要求一般较差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准性请示，上级未作出答复前，成文单位无权安排和办理；批转性报告在上级未作答复前，成文单位即可进行安排和部署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5"/>
          <p:cNvSpPr/>
          <p:nvPr/>
        </p:nvSpPr>
        <p:spPr>
          <a:xfrm>
            <a:off x="-7920" y="5445000"/>
            <a:ext cx="913284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直接连接符 6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590400" y="5457960"/>
            <a:ext cx="50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请示与报告的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590400" y="5967360"/>
            <a:ext cx="799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52360" y="549360"/>
            <a:ext cx="837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送单位相同。请示、报告的主送单位都是上级机关。因此，两者都是上行文，都是下级机关向上级机关呈送的报请性公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文手法相同。请示、报告都是用具体的事实和确凿的数据行文，禁言过其实，弄虚作假，混淆上级机关视听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方式相同。请示、报告都要求把有关事实叙述得清楚明白，这种叙述并非记流水帐式的罗列材料，而是对有关事实进行系统的归纳和概括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语要求相同。请示、报告都是处理问题、指导工作的依据，使用语言时都要求通俗易懂，一目了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E:\PPT\PPT素材\Thanks\1n-0090.jpg"/>
          <p:cNvPicPr/>
          <p:nvPr/>
        </p:nvPicPr>
        <p:blipFill>
          <a:blip r:embed="rId1"/>
          <a:stretch/>
        </p:blipFill>
        <p:spPr>
          <a:xfrm>
            <a:off x="12600" y="-14400"/>
            <a:ext cx="9175680" cy="6845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"/>
          <p:cNvSpPr/>
          <p:nvPr/>
        </p:nvSpPr>
        <p:spPr>
          <a:xfrm>
            <a:off x="3024360" y="1197000"/>
            <a:ext cx="63957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祝大家生活愉快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924680" y="6019920"/>
            <a:ext cx="106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6"/>
          <p:cNvSpPr/>
          <p:nvPr/>
        </p:nvSpPr>
        <p:spPr>
          <a:xfrm>
            <a:off x="3821040" y="2590920"/>
            <a:ext cx="472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直接连接符 7"/>
          <p:cNvSpPr/>
          <p:nvPr/>
        </p:nvSpPr>
        <p:spPr>
          <a:xfrm>
            <a:off x="3821040" y="2643120"/>
            <a:ext cx="4729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2194955108_b6c8b0856b.jpg"/>
          <p:cNvPicPr/>
          <p:nvPr/>
        </p:nvPicPr>
        <p:blipFill>
          <a:blip r:embed="rId1"/>
          <a:srcRect l="38950" t="0" r="0" b="0"/>
          <a:stretch/>
        </p:blipFill>
        <p:spPr>
          <a:xfrm>
            <a:off x="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3"/>
          <p:cNvSpPr/>
          <p:nvPr/>
        </p:nvSpPr>
        <p:spPr>
          <a:xfrm>
            <a:off x="957240" y="0"/>
            <a:ext cx="2475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709080" y="1274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请示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721560" y="1422360"/>
            <a:ext cx="30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直接连接符 6"/>
          <p:cNvSpPr/>
          <p:nvPr/>
        </p:nvSpPr>
        <p:spPr>
          <a:xfrm>
            <a:off x="3397320" y="1968480"/>
            <a:ext cx="5186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直接连接符 7"/>
          <p:cNvSpPr/>
          <p:nvPr/>
        </p:nvSpPr>
        <p:spPr>
          <a:xfrm>
            <a:off x="3397320" y="2021040"/>
            <a:ext cx="51861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3298680" y="2260440"/>
            <a:ext cx="52182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请示是下级机关向上级机关请求对某项工作、问题作出指示，对某项政策界限给予明确，对某事予以审核批准时使用的一种请求性公文，是应用写作实践中的一种常用文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365640" y="2673360"/>
            <a:ext cx="525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mf822-02124420.jpg"/>
          <p:cNvPicPr/>
          <p:nvPr/>
        </p:nvPicPr>
        <p:blipFill>
          <a:blip r:embed="rId1"/>
          <a:srcRect l="0" t="0" r="0" b="82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图片2.png"/>
          <p:cNvPicPr/>
          <p:nvPr/>
        </p:nvPicPr>
        <p:blipFill>
          <a:blip r:embed="rId2"/>
          <a:srcRect l="0" t="0" r="9664" b="0"/>
          <a:stretch/>
        </p:blipFill>
        <p:spPr>
          <a:xfrm>
            <a:off x="3594240" y="1938240"/>
            <a:ext cx="5549760" cy="2981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887640" y="885240"/>
            <a:ext cx="498348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什么是请示的必备条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必须是下级机关向上级机关的行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示的问题必须是自己无权作出决定和处理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必须是为了向上级请求批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5"/>
          <p:cNvSpPr/>
          <p:nvPr/>
        </p:nvSpPr>
        <p:spPr>
          <a:xfrm>
            <a:off x="3956040" y="2662200"/>
            <a:ext cx="5184720" cy="180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6"/>
          <p:cNvSpPr/>
          <p:nvPr/>
        </p:nvSpPr>
        <p:spPr>
          <a:xfrm>
            <a:off x="3956040" y="2714760"/>
            <a:ext cx="5184720" cy="144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6" descr="is098r4je.jpg"/>
          <p:cNvPicPr/>
          <p:nvPr/>
        </p:nvPicPr>
        <p:blipFill>
          <a:blip r:embed="rId1"/>
          <a:srcRect l="0" t="0" r="0" b="103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0" y="329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329256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0" y="5437080"/>
            <a:ext cx="9144000" cy="1420920"/>
          </a:xfrm>
          <a:prstGeom prst="rect">
            <a:avLst/>
          </a:pr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直接连接符 8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90400" y="5456160"/>
            <a:ext cx="30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求指示的请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590400" y="5919840"/>
            <a:ext cx="7994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类请示一般是政策性请示，是下级机关需要上级机关对原有政策规定作出明确解释，对变通处理的问题作出审查认定，对如何处理突发事件或新情况、新问题作出明确指示等请示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81080" y="27144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请示的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4" descr="gwl10000913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590400" y="1128600"/>
            <a:ext cx="42055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</a:t>
            </a: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求批准的请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类请示是下级机关针对某些具体事宜向上级机关请求批准的请示，主要目的是为了解决某些实际困难和具体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6"/>
          <p:cNvSpPr/>
          <p:nvPr/>
        </p:nvSpPr>
        <p:spPr>
          <a:xfrm>
            <a:off x="727200" y="2041560"/>
            <a:ext cx="481644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7"/>
          <p:cNvSpPr/>
          <p:nvPr/>
        </p:nvSpPr>
        <p:spPr>
          <a:xfrm>
            <a:off x="727200" y="2093760"/>
            <a:ext cx="4816440" cy="180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bld078957.jpg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5"/>
          <p:cNvSpPr/>
          <p:nvPr/>
        </p:nvSpPr>
        <p:spPr>
          <a:xfrm>
            <a:off x="0" y="5437080"/>
            <a:ext cx="914400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直接连接符 6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590400" y="545616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求批转的请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590400" y="5919840"/>
            <a:ext cx="7994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下级机关就某一涉及面广的事项提出处理意见和办法，需各有关方面协同办理，但按规定又不能指令平级机关或不相隶属部门办理，需上级机关审定后批转执行，这样的请示就属此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/>
          <p:cNvSpPr/>
          <p:nvPr/>
        </p:nvSpPr>
        <p:spPr>
          <a:xfrm rot="481200">
            <a:off x="3054240" y="1567440"/>
            <a:ext cx="42418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020e"/>
                </a:solidFill>
                <a:latin typeface="微软雅黑"/>
                <a:ea typeface="微软雅黑"/>
              </a:rPr>
              <a:t>请示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1" lang="de-DE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示事项一般时间性较强。请示的事项一般都是急需明确和解决的，否则会影响正常工作，因此时间性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　</a:t>
            </a:r>
            <a:r>
              <a:rPr b="0" lang="de-DE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一事一请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　</a:t>
            </a:r>
            <a:r>
              <a:rPr b="0" lang="de-DE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般主送一个机关，不多头主送，如需同时送其他机关，应当用抄送形式，但不得在请示的同时又抄送下级机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　</a:t>
            </a:r>
            <a:r>
              <a:rPr b="0" lang="de-DE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按隶属关系逐级请示，一般情况不得越级请示，如确需越级请示，应同时抄报直接主管部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rdf00057.jpg"/>
          <p:cNvPicPr/>
          <p:nvPr/>
        </p:nvPicPr>
        <p:blipFill>
          <a:blip r:embed="rId1"/>
          <a:srcRect l="0" t="0" r="2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0" y="5437080"/>
            <a:ext cx="914400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直接连接符 6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90400" y="5456160"/>
            <a:ext cx="30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请示的写作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590400" y="5919840"/>
            <a:ext cx="7994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文一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份请示只能写一件事，一些单位向上级机关请示，经常把好几个问题写在一起，认为只要能解决一个问题就行了，结果一个也不解决不了，因为“一文多事”牵涉的单位多了，涉及的政策也多，任何一个上级机关都很难答复，几个单位同时答复更不可能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Administrator\桌面\42-17779620.jpg"/>
          <p:cNvPicPr/>
          <p:nvPr/>
        </p:nvPicPr>
        <p:blipFill>
          <a:blip r:embed="rId1"/>
          <a:srcRect l="0" t="0" r="6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0" y="5437080"/>
            <a:ext cx="914400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直接连接符 3"/>
          <p:cNvSpPr/>
          <p:nvPr/>
        </p:nvSpPr>
        <p:spPr>
          <a:xfrm>
            <a:off x="590400" y="5948280"/>
            <a:ext cx="79851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90400" y="5456160"/>
            <a:ext cx="30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2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多头请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590400" y="5919840"/>
            <a:ext cx="799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份请示，只送一个上级领导机关或上级主管部门，不能同时主送两个以上机关，更不能分头送给多个领导。如有需要，有关的单位可用抄送的形式。这样，可以避免出现推诿、扯皮的现象。一些单位以为多头分送保险，搞“广种薄收”，结果常常是谁都有关系，但谁都不管，失时误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45:57Z</dcterms:created>
  <dc:creator>zhbing56</dc:creator>
  <dc:description/>
  <cp:keywords/>
  <dc:language>en-US</dc:language>
  <cp:lastModifiedBy>a</cp:lastModifiedBy>
  <dcterms:modified xsi:type="dcterms:W3CDTF">2015-07-21T02:00:37Z</dcterms:modified>
  <cp:revision>148</cp:revision>
  <dc:subject/>
  <dc:title>I's not from me!!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