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289-F24C-4B37-932B-81DB9F5B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D59-2291-4466-8064-83BDDB7B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C4489-D5D8-4D54-9207-AB938D7E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BBC23-21FD-4DAC-A858-E7B80BD7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B782A-6CA4-4695-941E-5F42F2D6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B3326-1292-40D6-8083-E69DF00A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5AF0C-92A1-452E-A3F4-F99CC0D1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C3BA0-41EF-438B-9B5C-24973305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7D7AF-01CE-4C29-9797-71A119D7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C70BA-5E8A-499C-8FCD-94E36C63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E6C02-6BE5-4925-87B7-9480643E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95EB1-A62B-4FBF-BA94-547CD116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0C8-E3FE-4345-AA96-2FDD977A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8B30C-0F80-4C6D-8D9B-A8AC496E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6C4C9-1DCD-4128-9C8F-F28E0ECC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FD81F-6D23-4912-8513-A28DFFB1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49014-4C47-44B0-AE24-D09EEB95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75602-6532-41BF-90E4-47CD56FC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6688D-5AFA-44C6-892E-4088F61B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A5998-614E-4464-9BC3-1E690E0C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A2149-F78A-45D4-A94F-463AC1F4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79947-7EEA-456A-A631-975DA462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9B204-04F8-41E5-A6EE-A720EE6A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342-2CBA-4FC6-8612-5B0137AF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D36B4-F52A-4691-8A8B-0EC3F5EB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AD860-3A0D-488A-AB05-1990147A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09015-914D-4270-A3AC-B4B9ED6C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347A9-C077-480B-A165-ADF46A4E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D07FE-590F-4A90-BA52-13F819BF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F6C6A-0915-4989-8F3A-508770E4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0E9AE-0A0F-4640-8504-8E82962F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1BAE0-E841-48BA-9B80-43956E16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FB2BE-1FAE-409A-93F4-BAB9FB59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810F0-43D7-4C76-B037-D6545D50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8604-0DB7-4B74-8CED-4C0C6577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D5D78-9509-4743-A09C-88BD8AA3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D35A3-1F92-45DC-BFA6-CB850CF9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3CBD9-5FBA-45FF-A370-021035A2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CCBFD-3798-456A-8BB1-F5EA2758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6F969-085D-4C21-9D9B-4AC75B5F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4BA15-F1AF-41AE-B0B2-961E8C75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189E5-64B9-467F-BBBD-24B8E838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21CC3-81F3-4DAF-AE52-A9E2E7FF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67836-E3D2-4499-9342-9E6EF387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6AB6B-1C85-40A2-997E-A471BC9A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E1E9-113E-4408-A2B2-DBA5E696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4B44F-0637-4504-9F27-7FDD9A78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888A2-231E-4CDA-AD61-AB3BDBDB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C317C-D817-4F6A-9A77-A0E57D72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29478-4F5B-42E6-B2CE-4A246EA6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91854-8654-4F43-8F3A-4006532D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1B6FE-688F-48FE-B004-CF4D94F0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2AAE1-01DE-4BEC-A014-597E5675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DA126-6CC8-4C41-AC11-4EE1D6A5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0E8DD-8D8D-4BEA-BFD5-E786EC85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B848E-D7AC-42A6-AA64-F00FBC96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E8E7-602C-4451-9C13-0171983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53E9F-B0CE-4252-8FB1-BF223C99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5111E-6F1C-416B-94EA-710B0B1E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420F2-70B6-4A9D-A12E-D664C439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6A08F-1444-4728-8FDD-50C5DB8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6C3BE-399E-4753-A57B-5D436232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F5D40-94B6-4A7D-B835-B1F39A6B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35305-58BA-466D-B361-66A13542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2E78-506E-4D91-98B3-55D5733B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3F1E-420E-42AC-B1B7-34A5D0E8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39EE-20A5-4127-8362-952BBD63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1273-EF98-4466-B25A-63D3D3E0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D66-E85D-4646-A3AC-159C2D4C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ED66-4072-407A-8543-57B3863F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B394-D2F7-443B-9BB0-9F32DD8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BD07-9CFE-47AA-9C8E-569BEF1F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628F-FFFF-47AF-9831-F1936BE3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5294-D809-438D-992A-193843B7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AD68-F2E7-48F6-8D5A-F3C187E4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1A78-E257-4AB0-BA2D-1BC134F2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B70D-20E4-416C-826C-6E359106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4D65-904E-460D-BCB8-A8D647E7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330A-2221-4E5C-8AD8-9D67337A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4CF-2DBB-4488-9E97-5787C57E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7728D-D035-43E3-A02E-A33BC4B2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141A8-5B2B-4AA9-906D-4907AA02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1B3C-4B25-4764-8A18-176DDA5F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0D2C-7355-4F77-AEDF-CF06A79E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10B3-B86F-4BC5-A70E-40EA31E1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E224-7107-4AD0-AC3E-3E762F99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5A93-79A0-4C49-A5E3-DC786A54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FC44-F13E-431C-A662-2291DED0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6D65-216E-47BC-B26B-3B83EF14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D90C6-0FF1-4CE8-880D-6EEC9E2B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CC5-4CFF-405C-92D4-2FB80C27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A8141-C4B0-4300-B49B-D60AD440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D75D-2A20-4C5C-8914-A5E7AA72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4068-D9DD-4EC2-B557-DD17A6EF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4374-E702-4BDA-ABDE-80100318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2F42-B5A4-4CA1-8FFD-68F779B9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7516-DBAF-4D28-A8E8-86FE3CE8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A619-5670-463D-A0BE-C8DE4BD4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2AC9-0A93-4A22-8A9D-9874CEA0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83D94-6F10-4FCF-8A99-A7430F05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0A24C-D001-44B7-BBCD-703F4869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705-62DB-452F-AC0A-ACA5719A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FB8EE-D20D-4153-9DB6-9A7E058D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D250B-9EB3-4F9B-80B3-55D41244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B5518-F3F7-422A-A5B9-2004BE27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36E5-D55F-4FE1-8924-B562D6FF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DE75F-4EA9-43F6-9F02-6CB00E0B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6C0C1-C678-4EB1-85BC-B709A4A8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76CC9-B31B-462B-963E-F716DA3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2493-166D-4EB1-A219-567B1B2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636F9-BB54-4026-854E-500A9F6F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D05F3-DDBD-40FA-A3FD-5316CC8B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9C2-A650-4419-9818-AFC8CF52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33C2-F6A7-4891-BF4F-2FD9E680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D4396-D413-4D92-8873-87BFB37C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70A92-A985-4E61-9AA1-7E0040E0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DFFC-E366-4259-BA9F-F67ECAFD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501EC-F555-4CC4-8581-747257ED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CD9B-40B0-4838-B9C3-55A47DF2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B8EE-94EB-4FB5-B1E7-6B7DD80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3E7B0-8E02-4573-AEF0-1B112185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4A982-9150-452E-AF29-D9DD9812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1CC4F-A2E9-4864-AAEF-BBF21E6E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52D-A68B-4B24-B0A7-67E4EA46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6768A-8ADA-49AD-8A03-73AF854E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4D3F2-07E6-4383-BA8B-BBEA7653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4E8A9-1321-444A-ACF8-9F773CBF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4E639-0F5C-43A9-83C9-B4BD1608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BDF35-1642-4A4E-91F9-82AD9E6D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7A653-6698-4E97-84EE-890FFE57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B5CEF-63A8-4758-9703-51C427D9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A8D2D-9CE2-49B2-951C-F87AFC68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A7248-ACFE-4812-8276-B4627831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B6C93-0D27-4A04-BAE8-45D1F084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50C-9A06-477C-AB24-234E9CD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E5C68-0AED-482B-BD6E-B43B9597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E6512-34A2-4D6A-8113-73169AA8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D10E8-F358-4E9C-9CEF-C6EB35FC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49B23-6352-42D7-ACF5-59C49937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C793-B7B4-41F5-AC25-8E18607C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19E7E-14D5-4398-A8DE-655E26A0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8A4E7-1C20-4038-AC02-77D49DF7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DD7C5-FA6A-4B3D-B975-CA6D8D91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25315-1A23-4A49-9F5A-6E73E7C9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104F9-805E-4F9C-BC14-7AC95561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B950-76F1-4D2B-8E6F-88BD5DB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E465-7B07-4DF5-A26C-44397060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B1840-2F6D-42EB-9E60-90C2767B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05808-760C-40A3-8E5E-2059B7C5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A30F7-D883-4909-821B-0EF95D20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40A2C-7684-457D-9889-296E6285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E7A4A-2931-46D6-BCCF-DDEF52B5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F4A4E-D114-4742-9B76-24FFBF29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89884-F8E2-4705-AD12-D276436A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9839C-C6ED-4DA8-A8E2-B0E0A921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422C5-4AE3-4AFC-92EF-386A4A00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2184-5153-4626-8385-C29FB6C18B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E92F-1AC8-49CC-BC60-CDEC87B38F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1A5C-778B-4FDB-B14E-8A1E76FB62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B682-E2EE-4778-9450-089AE84787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98E9-CA5E-4C1D-B86E-61C8FAA158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01B7-EB3C-4419-B191-3E8E6873F4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A198-813B-45EB-905B-3B34B6D6AD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F9F1-F3D0-4555-8B28-9614592A5B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F0CE-4901-42F5-9BD4-05B09F0B12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046A-8688-4D87-8897-3F0370B6C1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338B-4A3C-4885-93D5-FF10946802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4F9B-8680-473A-9A28-AE7FF5DAFA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82F7-0E57-4BDE-AC9E-68834B1F99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山"/>
          <p:cNvPicPr/>
          <p:nvPr/>
        </p:nvPicPr>
        <p:blipFill>
          <a:blip r:embed="rId1"/>
          <a:stretch/>
        </p:blipFill>
        <p:spPr>
          <a:xfrm>
            <a:off x="-93600" y="2730600"/>
            <a:ext cx="9129600" cy="5162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C:/Users/lenovo/Desktop/云峰ppt/云.png云"/>
          <p:cNvPicPr/>
          <p:nvPr/>
        </p:nvPicPr>
        <p:blipFill>
          <a:blip r:embed="rId2"/>
          <a:stretch/>
        </p:blipFill>
        <p:spPr>
          <a:xfrm>
            <a:off x="1274760" y="765000"/>
            <a:ext cx="1300320" cy="762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C:/Users/lenovo/Desktop/云峰ppt/图片1.png图片1"/>
          <p:cNvPicPr/>
          <p:nvPr/>
        </p:nvPicPr>
        <p:blipFill>
          <a:blip r:embed="rId3"/>
          <a:stretch/>
        </p:blipFill>
        <p:spPr>
          <a:xfrm>
            <a:off x="3722760" y="34920"/>
            <a:ext cx="2852640" cy="1089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C:/Users/lenovo/Desktop/云峰ppt/云3.png云3"/>
          <p:cNvPicPr/>
          <p:nvPr/>
        </p:nvPicPr>
        <p:blipFill>
          <a:blip r:embed="rId4"/>
          <a:stretch/>
        </p:blipFill>
        <p:spPr>
          <a:xfrm>
            <a:off x="395280" y="95400"/>
            <a:ext cx="1224000" cy="952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C:/Users/lenovo/Desktop/云峰ppt/云4.png云4"/>
          <p:cNvPicPr/>
          <p:nvPr/>
        </p:nvPicPr>
        <p:blipFill>
          <a:blip r:embed="rId5"/>
          <a:stretch/>
        </p:blipFill>
        <p:spPr>
          <a:xfrm>
            <a:off x="1273320" y="-87480"/>
            <a:ext cx="2203200" cy="13096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C:/Users/lenovo/Desktop/云峰ppt/图片2.png图片2"/>
          <p:cNvPicPr/>
          <p:nvPr/>
        </p:nvPicPr>
        <p:blipFill>
          <a:blip r:embed="rId6"/>
          <a:stretch/>
        </p:blipFill>
        <p:spPr>
          <a:xfrm>
            <a:off x="7392960" y="-374760"/>
            <a:ext cx="5305320" cy="2995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C:/Users/lenovo/Desktop/云峰ppt/图片1.png图片1"/>
          <p:cNvPicPr/>
          <p:nvPr/>
        </p:nvPicPr>
        <p:blipFill>
          <a:blip r:embed="rId7"/>
          <a:stretch/>
        </p:blipFill>
        <p:spPr>
          <a:xfrm>
            <a:off x="3722760" y="17640"/>
            <a:ext cx="2852640" cy="1089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C:/Users/lenovo/Desktop/云峰ppt/云4.png云4"/>
          <p:cNvPicPr/>
          <p:nvPr/>
        </p:nvPicPr>
        <p:blipFill>
          <a:blip r:embed="rId8"/>
          <a:stretch/>
        </p:blipFill>
        <p:spPr>
          <a:xfrm>
            <a:off x="1273320" y="-104760"/>
            <a:ext cx="2203200" cy="1309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C:/Users/lenovo/Desktop/云峰ppt/图片2.png图片2"/>
          <p:cNvPicPr/>
          <p:nvPr/>
        </p:nvPicPr>
        <p:blipFill>
          <a:blip r:embed="rId9"/>
          <a:stretch/>
        </p:blipFill>
        <p:spPr>
          <a:xfrm>
            <a:off x="7392960" y="-392040"/>
            <a:ext cx="5305320" cy="2995560"/>
          </a:xfrm>
          <a:prstGeom prst="rect">
            <a:avLst/>
          </a:prstGeom>
          <a:ln w="0">
            <a:noFill/>
          </a:ln>
        </p:spPr>
      </p:pic>
      <p:sp>
        <p:nvSpPr>
          <p:cNvPr id="542" name="矩形 1"/>
          <p:cNvSpPr/>
          <p:nvPr/>
        </p:nvSpPr>
        <p:spPr>
          <a:xfrm>
            <a:off x="2754720" y="1332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墨云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1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云2"/>
          <p:cNvPicPr/>
          <p:nvPr/>
        </p:nvPicPr>
        <p:blipFill>
          <a:blip r:embed="rId1"/>
          <a:stretch/>
        </p:blipFill>
        <p:spPr>
          <a:xfrm>
            <a:off x="3708360" y="-87480"/>
            <a:ext cx="2808360" cy="1417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/Users/lenovo/Desktop/云峰ppt/图片2.png图片2"/>
          <p:cNvPicPr/>
          <p:nvPr/>
        </p:nvPicPr>
        <p:blipFill>
          <a:blip r:embed="rId2"/>
          <a:stretch/>
        </p:blipFill>
        <p:spPr>
          <a:xfrm>
            <a:off x="-1679400" y="-374760"/>
            <a:ext cx="5283000" cy="299556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4"/>
          <p:cNvGrpSpPr/>
          <p:nvPr/>
        </p:nvGrpSpPr>
        <p:grpSpPr>
          <a:xfrm>
            <a:off x="7240680" y="117360"/>
            <a:ext cx="1436760" cy="1428840"/>
            <a:chOff x="7240680" y="117360"/>
            <a:chExt cx="1436760" cy="1428840"/>
          </a:xfrm>
        </p:grpSpPr>
        <p:sp>
          <p:nvSpPr>
            <p:cNvPr id="547" name="Oval 5"/>
            <p:cNvSpPr/>
            <p:nvPr/>
          </p:nvSpPr>
          <p:spPr>
            <a:xfrm>
              <a:off x="7240680" y="117360"/>
              <a:ext cx="1436760" cy="142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6"/>
            <p:cNvSpPr/>
            <p:nvPr/>
          </p:nvSpPr>
          <p:spPr>
            <a:xfrm>
              <a:off x="7446960" y="260640"/>
              <a:ext cx="1008000" cy="115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未知"/>
          <p:cNvSpPr/>
          <p:nvPr/>
        </p:nvSpPr>
        <p:spPr>
          <a:xfrm>
            <a:off x="7542360" y="299880"/>
            <a:ext cx="82836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70" y="20769"/>
                </a:moveTo>
                <a:lnTo>
                  <a:pt x="6091" y="13292"/>
                </a:lnTo>
                <a:lnTo>
                  <a:pt x="10924" y="8695"/>
                </a:lnTo>
                <a:lnTo>
                  <a:pt x="13787" y="10800"/>
                </a:lnTo>
                <a:lnTo>
                  <a:pt x="16882" y="16172"/>
                </a:lnTo>
                <a:lnTo>
                  <a:pt x="19365" y="21600"/>
                </a:lnTo>
                <a:lnTo>
                  <a:pt x="21600" y="16172"/>
                </a:lnTo>
                <a:lnTo>
                  <a:pt x="20739" y="8695"/>
                </a:lnTo>
                <a:lnTo>
                  <a:pt x="18753" y="8695"/>
                </a:lnTo>
                <a:lnTo>
                  <a:pt x="16137" y="1661"/>
                </a:lnTo>
                <a:lnTo>
                  <a:pt x="12662" y="0"/>
                </a:lnTo>
                <a:lnTo>
                  <a:pt x="8689" y="0"/>
                </a:lnTo>
                <a:lnTo>
                  <a:pt x="5346" y="2492"/>
                </a:lnTo>
                <a:lnTo>
                  <a:pt x="2118" y="9138"/>
                </a:lnTo>
                <a:lnTo>
                  <a:pt x="496" y="10800"/>
                </a:lnTo>
                <a:lnTo>
                  <a:pt x="0" y="15341"/>
                </a:lnTo>
                <a:lnTo>
                  <a:pt x="1870" y="207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未知"/>
          <p:cNvSpPr/>
          <p:nvPr/>
        </p:nvSpPr>
        <p:spPr>
          <a:xfrm>
            <a:off x="7516800" y="419040"/>
            <a:ext cx="88884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" y="4923"/>
                </a:moveTo>
                <a:lnTo>
                  <a:pt x="0" y="12070"/>
                </a:lnTo>
                <a:lnTo>
                  <a:pt x="3625" y="19058"/>
                </a:lnTo>
                <a:lnTo>
                  <a:pt x="11802" y="21600"/>
                </a:lnTo>
                <a:lnTo>
                  <a:pt x="21600" y="16041"/>
                </a:lnTo>
                <a:lnTo>
                  <a:pt x="19902" y="4764"/>
                </a:lnTo>
                <a:lnTo>
                  <a:pt x="13500" y="0"/>
                </a:lnTo>
                <a:lnTo>
                  <a:pt x="6325" y="714"/>
                </a:lnTo>
                <a:lnTo>
                  <a:pt x="1080" y="49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未知"/>
          <p:cNvSpPr/>
          <p:nvPr/>
        </p:nvSpPr>
        <p:spPr>
          <a:xfrm>
            <a:off x="7612200" y="1152360"/>
            <a:ext cx="74916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32" y="12388"/>
                </a:moveTo>
                <a:lnTo>
                  <a:pt x="7047" y="21600"/>
                </a:lnTo>
                <a:lnTo>
                  <a:pt x="16108" y="17152"/>
                </a:lnTo>
                <a:lnTo>
                  <a:pt x="21600" y="7623"/>
                </a:lnTo>
                <a:lnTo>
                  <a:pt x="20044" y="0"/>
                </a:lnTo>
                <a:lnTo>
                  <a:pt x="18305" y="2858"/>
                </a:lnTo>
                <a:lnTo>
                  <a:pt x="16016" y="6670"/>
                </a:lnTo>
                <a:lnTo>
                  <a:pt x="13454" y="10800"/>
                </a:lnTo>
                <a:lnTo>
                  <a:pt x="9244" y="12070"/>
                </a:lnTo>
                <a:lnTo>
                  <a:pt x="4942" y="8258"/>
                </a:lnTo>
                <a:lnTo>
                  <a:pt x="1189" y="2858"/>
                </a:lnTo>
                <a:lnTo>
                  <a:pt x="0" y="7305"/>
                </a:lnTo>
                <a:lnTo>
                  <a:pt x="732" y="123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0" descr="园徽"/>
          <p:cNvPicPr/>
          <p:nvPr/>
        </p:nvPicPr>
        <p:blipFill>
          <a:blip r:embed="rId3"/>
          <a:stretch/>
        </p:blipFill>
        <p:spPr>
          <a:xfrm>
            <a:off x="7240680" y="117360"/>
            <a:ext cx="1436760" cy="142884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11"/>
          <p:cNvSpPr/>
          <p:nvPr/>
        </p:nvSpPr>
        <p:spPr>
          <a:xfrm>
            <a:off x="7740720" y="1539720"/>
            <a:ext cx="5032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7669080" y="52560"/>
            <a:ext cx="50328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8664480" y="620640"/>
            <a:ext cx="763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7175520" y="685800"/>
            <a:ext cx="763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7020000" y="52560"/>
            <a:ext cx="2087640" cy="14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未知"/>
          <p:cNvSpPr/>
          <p:nvPr/>
        </p:nvSpPr>
        <p:spPr>
          <a:xfrm>
            <a:off x="7596360" y="1946160"/>
            <a:ext cx="27612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365" y="0"/>
                </a:moveTo>
                <a:lnTo>
                  <a:pt x="1489" y="5225"/>
                </a:lnTo>
                <a:lnTo>
                  <a:pt x="0" y="13064"/>
                </a:lnTo>
                <a:lnTo>
                  <a:pt x="5958" y="21600"/>
                </a:lnTo>
                <a:lnTo>
                  <a:pt x="14499" y="15677"/>
                </a:lnTo>
                <a:lnTo>
                  <a:pt x="21600" y="7229"/>
                </a:lnTo>
                <a:lnTo>
                  <a:pt x="193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未知"/>
          <p:cNvSpPr/>
          <p:nvPr/>
        </p:nvSpPr>
        <p:spPr>
          <a:xfrm>
            <a:off x="7499520" y="1968480"/>
            <a:ext cx="380880" cy="514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21600" y="4000"/>
                </a:lnTo>
                <a:lnTo>
                  <a:pt x="21060" y="7600"/>
                </a:lnTo>
                <a:lnTo>
                  <a:pt x="16452" y="12586"/>
                </a:lnTo>
                <a:lnTo>
                  <a:pt x="6480" y="21600"/>
                </a:lnTo>
                <a:lnTo>
                  <a:pt x="1620" y="21600"/>
                </a:lnTo>
                <a:lnTo>
                  <a:pt x="0" y="20800"/>
                </a:lnTo>
                <a:lnTo>
                  <a:pt x="8640" y="13786"/>
                </a:lnTo>
                <a:lnTo>
                  <a:pt x="13500" y="8000"/>
                </a:lnTo>
                <a:lnTo>
                  <a:pt x="15912" y="4400"/>
                </a:lnTo>
                <a:lnTo>
                  <a:pt x="18900" y="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未知"/>
          <p:cNvSpPr/>
          <p:nvPr/>
        </p:nvSpPr>
        <p:spPr>
          <a:xfrm>
            <a:off x="7913520" y="1639800"/>
            <a:ext cx="133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65" y="526"/>
                </a:moveTo>
                <a:lnTo>
                  <a:pt x="3908" y="3226"/>
                </a:lnTo>
                <a:lnTo>
                  <a:pt x="3085" y="6756"/>
                </a:lnTo>
                <a:lnTo>
                  <a:pt x="6171" y="9041"/>
                </a:lnTo>
                <a:lnTo>
                  <a:pt x="4628" y="9664"/>
                </a:lnTo>
                <a:lnTo>
                  <a:pt x="1542" y="15064"/>
                </a:lnTo>
                <a:lnTo>
                  <a:pt x="0" y="19523"/>
                </a:lnTo>
                <a:lnTo>
                  <a:pt x="6171" y="21600"/>
                </a:lnTo>
                <a:lnTo>
                  <a:pt x="18514" y="20672"/>
                </a:lnTo>
                <a:lnTo>
                  <a:pt x="19337" y="14123"/>
                </a:lnTo>
                <a:lnTo>
                  <a:pt x="13165" y="9969"/>
                </a:lnTo>
                <a:lnTo>
                  <a:pt x="18514" y="6756"/>
                </a:lnTo>
                <a:lnTo>
                  <a:pt x="21600" y="526"/>
                </a:lnTo>
                <a:lnTo>
                  <a:pt x="11622" y="0"/>
                </a:lnTo>
                <a:lnTo>
                  <a:pt x="2365" y="5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未知"/>
          <p:cNvSpPr/>
          <p:nvPr/>
        </p:nvSpPr>
        <p:spPr>
          <a:xfrm>
            <a:off x="7689960" y="2473200"/>
            <a:ext cx="280800" cy="1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8560"/>
                </a:moveTo>
                <a:lnTo>
                  <a:pt x="17592" y="1200"/>
                </a:lnTo>
                <a:lnTo>
                  <a:pt x="11728" y="1760"/>
                </a:lnTo>
                <a:lnTo>
                  <a:pt x="7330" y="0"/>
                </a:lnTo>
                <a:lnTo>
                  <a:pt x="1466" y="1200"/>
                </a:lnTo>
                <a:lnTo>
                  <a:pt x="0" y="14960"/>
                </a:lnTo>
                <a:lnTo>
                  <a:pt x="9529" y="18000"/>
                </a:lnTo>
                <a:lnTo>
                  <a:pt x="16126" y="21600"/>
                </a:lnTo>
                <a:lnTo>
                  <a:pt x="21600" y="185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未知"/>
          <p:cNvSpPr/>
          <p:nvPr/>
        </p:nvSpPr>
        <p:spPr>
          <a:xfrm>
            <a:off x="7880400" y="1835280"/>
            <a:ext cx="46188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152" y="0"/>
                </a:moveTo>
                <a:lnTo>
                  <a:pt x="10012" y="9358"/>
                </a:lnTo>
                <a:lnTo>
                  <a:pt x="6001" y="14254"/>
                </a:lnTo>
                <a:lnTo>
                  <a:pt x="653" y="17954"/>
                </a:lnTo>
                <a:lnTo>
                  <a:pt x="0" y="19967"/>
                </a:lnTo>
                <a:lnTo>
                  <a:pt x="4011" y="20403"/>
                </a:lnTo>
                <a:lnTo>
                  <a:pt x="6239" y="21600"/>
                </a:lnTo>
                <a:lnTo>
                  <a:pt x="16044" y="11806"/>
                </a:lnTo>
                <a:lnTo>
                  <a:pt x="21600" y="4896"/>
                </a:lnTo>
                <a:lnTo>
                  <a:pt x="19163" y="0"/>
                </a:lnTo>
                <a:lnTo>
                  <a:pt x="17381" y="0"/>
                </a:lnTo>
                <a:lnTo>
                  <a:pt x="151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未知"/>
          <p:cNvSpPr/>
          <p:nvPr/>
        </p:nvSpPr>
        <p:spPr>
          <a:xfrm>
            <a:off x="7880400" y="2049480"/>
            <a:ext cx="723960" cy="35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595" y="14694"/>
                </a:moveTo>
                <a:lnTo>
                  <a:pt x="12922" y="10665"/>
                </a:lnTo>
                <a:lnTo>
                  <a:pt x="5115" y="3452"/>
                </a:lnTo>
                <a:lnTo>
                  <a:pt x="3543" y="1457"/>
                </a:lnTo>
                <a:lnTo>
                  <a:pt x="701" y="0"/>
                </a:lnTo>
                <a:lnTo>
                  <a:pt x="0" y="1457"/>
                </a:lnTo>
                <a:lnTo>
                  <a:pt x="4395" y="7788"/>
                </a:lnTo>
                <a:lnTo>
                  <a:pt x="15631" y="21024"/>
                </a:lnTo>
                <a:lnTo>
                  <a:pt x="21448" y="21600"/>
                </a:lnTo>
                <a:lnTo>
                  <a:pt x="21448" y="20449"/>
                </a:lnTo>
                <a:lnTo>
                  <a:pt x="21600" y="17571"/>
                </a:lnTo>
                <a:lnTo>
                  <a:pt x="20595" y="146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2" descr="水"/>
          <p:cNvPicPr/>
          <p:nvPr/>
        </p:nvPicPr>
        <p:blipFill>
          <a:blip r:embed="rId4"/>
          <a:stretch/>
        </p:blipFill>
        <p:spPr>
          <a:xfrm>
            <a:off x="7508880" y="1625760"/>
            <a:ext cx="1112760" cy="1022040"/>
          </a:xfrm>
          <a:prstGeom prst="rect">
            <a:avLst/>
          </a:prstGeom>
          <a:ln w="0">
            <a:noFill/>
          </a:ln>
        </p:spPr>
      </p:pic>
      <p:sp>
        <p:nvSpPr>
          <p:cNvPr id="565" name="未知"/>
          <p:cNvSpPr/>
          <p:nvPr/>
        </p:nvSpPr>
        <p:spPr>
          <a:xfrm>
            <a:off x="7713720" y="2994120"/>
            <a:ext cx="204840" cy="42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034" y="1440"/>
                </a:moveTo>
                <a:lnTo>
                  <a:pt x="0" y="0"/>
                </a:lnTo>
                <a:lnTo>
                  <a:pt x="0" y="9120"/>
                </a:lnTo>
                <a:lnTo>
                  <a:pt x="7556" y="21600"/>
                </a:lnTo>
                <a:lnTo>
                  <a:pt x="21065" y="20640"/>
                </a:lnTo>
                <a:lnTo>
                  <a:pt x="21600" y="14176"/>
                </a:lnTo>
                <a:lnTo>
                  <a:pt x="17052" y="7936"/>
                </a:lnTo>
                <a:lnTo>
                  <a:pt x="13575" y="3840"/>
                </a:lnTo>
                <a:lnTo>
                  <a:pt x="11034" y="1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未知"/>
          <p:cNvSpPr/>
          <p:nvPr/>
        </p:nvSpPr>
        <p:spPr>
          <a:xfrm>
            <a:off x="7804080" y="2979720"/>
            <a:ext cx="509760" cy="11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71"/>
                </a:moveTo>
                <a:lnTo>
                  <a:pt x="807" y="17326"/>
                </a:lnTo>
                <a:lnTo>
                  <a:pt x="2423" y="21600"/>
                </a:lnTo>
                <a:lnTo>
                  <a:pt x="7056" y="17326"/>
                </a:lnTo>
                <a:lnTo>
                  <a:pt x="8268" y="15593"/>
                </a:lnTo>
                <a:lnTo>
                  <a:pt x="10099" y="14669"/>
                </a:lnTo>
                <a:lnTo>
                  <a:pt x="10288" y="13860"/>
                </a:lnTo>
                <a:lnTo>
                  <a:pt x="13735" y="11204"/>
                </a:lnTo>
                <a:lnTo>
                  <a:pt x="16348" y="11204"/>
                </a:lnTo>
                <a:lnTo>
                  <a:pt x="17775" y="12936"/>
                </a:lnTo>
                <a:lnTo>
                  <a:pt x="21600" y="17326"/>
                </a:lnTo>
                <a:lnTo>
                  <a:pt x="21007" y="5197"/>
                </a:lnTo>
                <a:lnTo>
                  <a:pt x="16563" y="0"/>
                </a:lnTo>
                <a:lnTo>
                  <a:pt x="11311" y="0"/>
                </a:lnTo>
                <a:lnTo>
                  <a:pt x="5655" y="808"/>
                </a:lnTo>
                <a:lnTo>
                  <a:pt x="0" y="94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未知"/>
          <p:cNvSpPr/>
          <p:nvPr/>
        </p:nvSpPr>
        <p:spPr>
          <a:xfrm>
            <a:off x="8089920" y="3027240"/>
            <a:ext cx="26208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36" y="0"/>
                </a:moveTo>
                <a:lnTo>
                  <a:pt x="21600" y="0"/>
                </a:lnTo>
                <a:lnTo>
                  <a:pt x="14155" y="16276"/>
                </a:lnTo>
                <a:lnTo>
                  <a:pt x="9436" y="21600"/>
                </a:lnTo>
                <a:lnTo>
                  <a:pt x="0" y="21091"/>
                </a:lnTo>
                <a:lnTo>
                  <a:pt x="786" y="15767"/>
                </a:lnTo>
                <a:lnTo>
                  <a:pt x="2359" y="11935"/>
                </a:lnTo>
                <a:lnTo>
                  <a:pt x="6658" y="8138"/>
                </a:lnTo>
                <a:lnTo>
                  <a:pt x="8650" y="1763"/>
                </a:lnTo>
                <a:lnTo>
                  <a:pt x="94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未知"/>
          <p:cNvSpPr/>
          <p:nvPr/>
        </p:nvSpPr>
        <p:spPr>
          <a:xfrm>
            <a:off x="8047080" y="3338640"/>
            <a:ext cx="106200" cy="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9969" y="0"/>
                </a:lnTo>
                <a:lnTo>
                  <a:pt x="2811" y="1359"/>
                </a:lnTo>
                <a:lnTo>
                  <a:pt x="0" y="2567"/>
                </a:lnTo>
                <a:lnTo>
                  <a:pt x="1661" y="7854"/>
                </a:lnTo>
                <a:lnTo>
                  <a:pt x="4473" y="16313"/>
                </a:lnTo>
                <a:lnTo>
                  <a:pt x="216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未知"/>
          <p:cNvSpPr/>
          <p:nvPr/>
        </p:nvSpPr>
        <p:spPr>
          <a:xfrm>
            <a:off x="7859880" y="3094200"/>
            <a:ext cx="315720" cy="15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064" y="3466"/>
                </a:moveTo>
                <a:lnTo>
                  <a:pt x="735" y="800"/>
                </a:lnTo>
                <a:lnTo>
                  <a:pt x="0" y="3911"/>
                </a:lnTo>
                <a:lnTo>
                  <a:pt x="562" y="7377"/>
                </a:lnTo>
                <a:lnTo>
                  <a:pt x="2077" y="15822"/>
                </a:lnTo>
                <a:lnTo>
                  <a:pt x="4328" y="21600"/>
                </a:lnTo>
                <a:lnTo>
                  <a:pt x="7315" y="21600"/>
                </a:lnTo>
                <a:lnTo>
                  <a:pt x="7878" y="13511"/>
                </a:lnTo>
                <a:lnTo>
                  <a:pt x="10518" y="10044"/>
                </a:lnTo>
                <a:lnTo>
                  <a:pt x="13894" y="8888"/>
                </a:lnTo>
                <a:lnTo>
                  <a:pt x="15020" y="8888"/>
                </a:lnTo>
                <a:lnTo>
                  <a:pt x="15193" y="8888"/>
                </a:lnTo>
                <a:lnTo>
                  <a:pt x="16319" y="9688"/>
                </a:lnTo>
                <a:lnTo>
                  <a:pt x="18396" y="13866"/>
                </a:lnTo>
                <a:lnTo>
                  <a:pt x="19695" y="17333"/>
                </a:lnTo>
                <a:lnTo>
                  <a:pt x="21600" y="10844"/>
                </a:lnTo>
                <a:lnTo>
                  <a:pt x="21037" y="2755"/>
                </a:lnTo>
                <a:lnTo>
                  <a:pt x="17098" y="0"/>
                </a:lnTo>
                <a:lnTo>
                  <a:pt x="12769" y="2755"/>
                </a:lnTo>
                <a:lnTo>
                  <a:pt x="11817" y="3111"/>
                </a:lnTo>
                <a:lnTo>
                  <a:pt x="10302" y="3111"/>
                </a:lnTo>
                <a:lnTo>
                  <a:pt x="5064" y="34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未知"/>
          <p:cNvSpPr/>
          <p:nvPr/>
        </p:nvSpPr>
        <p:spPr>
          <a:xfrm>
            <a:off x="7905600" y="3157560"/>
            <a:ext cx="266760" cy="15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171" y="349"/>
                </a:moveTo>
                <a:lnTo>
                  <a:pt x="20520" y="0"/>
                </a:lnTo>
                <a:lnTo>
                  <a:pt x="21600" y="2623"/>
                </a:lnTo>
                <a:lnTo>
                  <a:pt x="18925" y="11018"/>
                </a:lnTo>
                <a:lnTo>
                  <a:pt x="14708" y="13991"/>
                </a:lnTo>
                <a:lnTo>
                  <a:pt x="11365" y="18189"/>
                </a:lnTo>
                <a:lnTo>
                  <a:pt x="8022" y="19326"/>
                </a:lnTo>
                <a:lnTo>
                  <a:pt x="1080" y="21600"/>
                </a:lnTo>
                <a:lnTo>
                  <a:pt x="0" y="21250"/>
                </a:lnTo>
                <a:lnTo>
                  <a:pt x="5348" y="13642"/>
                </a:lnTo>
                <a:lnTo>
                  <a:pt x="5091" y="15128"/>
                </a:lnTo>
                <a:lnTo>
                  <a:pt x="12034" y="5684"/>
                </a:lnTo>
                <a:lnTo>
                  <a:pt x="12497" y="1923"/>
                </a:lnTo>
                <a:lnTo>
                  <a:pt x="15171" y="3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未知"/>
          <p:cNvSpPr/>
          <p:nvPr/>
        </p:nvSpPr>
        <p:spPr>
          <a:xfrm>
            <a:off x="7851600" y="3286080"/>
            <a:ext cx="270000" cy="13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21" y="6113"/>
                </a:moveTo>
                <a:lnTo>
                  <a:pt x="0" y="15894"/>
                </a:lnTo>
                <a:lnTo>
                  <a:pt x="1321" y="21600"/>
                </a:lnTo>
                <a:lnTo>
                  <a:pt x="7725" y="15384"/>
                </a:lnTo>
                <a:lnTo>
                  <a:pt x="9249" y="12328"/>
                </a:lnTo>
                <a:lnTo>
                  <a:pt x="14992" y="11920"/>
                </a:lnTo>
                <a:lnTo>
                  <a:pt x="20278" y="9271"/>
                </a:lnTo>
                <a:lnTo>
                  <a:pt x="21600" y="3973"/>
                </a:lnTo>
                <a:lnTo>
                  <a:pt x="17839" y="1732"/>
                </a:lnTo>
                <a:lnTo>
                  <a:pt x="14992" y="0"/>
                </a:lnTo>
                <a:lnTo>
                  <a:pt x="10571" y="1732"/>
                </a:lnTo>
                <a:lnTo>
                  <a:pt x="4421" y="6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未知"/>
          <p:cNvSpPr/>
          <p:nvPr/>
        </p:nvSpPr>
        <p:spPr>
          <a:xfrm>
            <a:off x="7958160" y="3038400"/>
            <a:ext cx="108000" cy="60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61" y="1000"/>
                </a:moveTo>
                <a:lnTo>
                  <a:pt x="3323" y="3456"/>
                </a:lnTo>
                <a:lnTo>
                  <a:pt x="2172" y="5229"/>
                </a:lnTo>
                <a:lnTo>
                  <a:pt x="2172" y="7002"/>
                </a:lnTo>
                <a:lnTo>
                  <a:pt x="1150" y="8867"/>
                </a:lnTo>
                <a:lnTo>
                  <a:pt x="1150" y="10163"/>
                </a:lnTo>
                <a:lnTo>
                  <a:pt x="1150" y="11823"/>
                </a:lnTo>
                <a:lnTo>
                  <a:pt x="1150" y="14096"/>
                </a:lnTo>
                <a:lnTo>
                  <a:pt x="511" y="17757"/>
                </a:lnTo>
                <a:lnTo>
                  <a:pt x="1150" y="18939"/>
                </a:lnTo>
                <a:lnTo>
                  <a:pt x="0" y="20304"/>
                </a:lnTo>
                <a:lnTo>
                  <a:pt x="2811" y="21190"/>
                </a:lnTo>
                <a:lnTo>
                  <a:pt x="9969" y="20895"/>
                </a:lnTo>
                <a:lnTo>
                  <a:pt x="10480" y="21600"/>
                </a:lnTo>
                <a:lnTo>
                  <a:pt x="17254" y="20304"/>
                </a:lnTo>
                <a:lnTo>
                  <a:pt x="15592" y="16870"/>
                </a:lnTo>
                <a:lnTo>
                  <a:pt x="14953" y="13210"/>
                </a:lnTo>
                <a:lnTo>
                  <a:pt x="14953" y="11936"/>
                </a:lnTo>
                <a:lnTo>
                  <a:pt x="17254" y="8776"/>
                </a:lnTo>
                <a:lnTo>
                  <a:pt x="18276" y="5729"/>
                </a:lnTo>
                <a:lnTo>
                  <a:pt x="19427" y="2569"/>
                </a:lnTo>
                <a:lnTo>
                  <a:pt x="21600" y="0"/>
                </a:lnTo>
                <a:lnTo>
                  <a:pt x="1661" y="10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未知"/>
          <p:cNvSpPr/>
          <p:nvPr/>
        </p:nvSpPr>
        <p:spPr>
          <a:xfrm>
            <a:off x="7746840" y="3421080"/>
            <a:ext cx="43992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61" y="0"/>
                </a:moveTo>
                <a:lnTo>
                  <a:pt x="0" y="9805"/>
                </a:lnTo>
                <a:lnTo>
                  <a:pt x="0" y="20889"/>
                </a:lnTo>
                <a:lnTo>
                  <a:pt x="7967" y="21600"/>
                </a:lnTo>
                <a:lnTo>
                  <a:pt x="10800" y="17194"/>
                </a:lnTo>
                <a:lnTo>
                  <a:pt x="13632" y="18473"/>
                </a:lnTo>
                <a:lnTo>
                  <a:pt x="21070" y="15347"/>
                </a:lnTo>
                <a:lnTo>
                  <a:pt x="21600" y="1847"/>
                </a:lnTo>
                <a:lnTo>
                  <a:pt x="19296" y="2415"/>
                </a:lnTo>
                <a:lnTo>
                  <a:pt x="16059" y="568"/>
                </a:lnTo>
                <a:lnTo>
                  <a:pt x="12698" y="568"/>
                </a:lnTo>
                <a:lnTo>
                  <a:pt x="946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未知"/>
          <p:cNvSpPr/>
          <p:nvPr/>
        </p:nvSpPr>
        <p:spPr>
          <a:xfrm>
            <a:off x="7500960" y="3519360"/>
            <a:ext cx="94788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4" y="4202"/>
                </a:moveTo>
                <a:lnTo>
                  <a:pt x="1259" y="9773"/>
                </a:lnTo>
                <a:lnTo>
                  <a:pt x="260" y="11435"/>
                </a:lnTo>
                <a:lnTo>
                  <a:pt x="72" y="15247"/>
                </a:lnTo>
                <a:lnTo>
                  <a:pt x="0" y="19938"/>
                </a:lnTo>
                <a:lnTo>
                  <a:pt x="1201" y="21600"/>
                </a:lnTo>
                <a:lnTo>
                  <a:pt x="4343" y="21600"/>
                </a:lnTo>
                <a:lnTo>
                  <a:pt x="4777" y="19058"/>
                </a:lnTo>
                <a:lnTo>
                  <a:pt x="5472" y="16517"/>
                </a:lnTo>
                <a:lnTo>
                  <a:pt x="8165" y="16517"/>
                </a:lnTo>
                <a:lnTo>
                  <a:pt x="11046" y="13585"/>
                </a:lnTo>
                <a:lnTo>
                  <a:pt x="12812" y="11826"/>
                </a:lnTo>
                <a:lnTo>
                  <a:pt x="19211" y="15247"/>
                </a:lnTo>
                <a:lnTo>
                  <a:pt x="20847" y="16908"/>
                </a:lnTo>
                <a:lnTo>
                  <a:pt x="21600" y="12314"/>
                </a:lnTo>
                <a:lnTo>
                  <a:pt x="21281" y="5082"/>
                </a:lnTo>
                <a:lnTo>
                  <a:pt x="20152" y="1270"/>
                </a:lnTo>
                <a:lnTo>
                  <a:pt x="16257" y="1270"/>
                </a:lnTo>
                <a:lnTo>
                  <a:pt x="12001" y="3811"/>
                </a:lnTo>
                <a:lnTo>
                  <a:pt x="9989" y="2932"/>
                </a:lnTo>
                <a:lnTo>
                  <a:pt x="10177" y="0"/>
                </a:lnTo>
                <a:lnTo>
                  <a:pt x="9294" y="1661"/>
                </a:lnTo>
                <a:lnTo>
                  <a:pt x="8917" y="5473"/>
                </a:lnTo>
                <a:lnTo>
                  <a:pt x="8034" y="420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未知"/>
          <p:cNvSpPr/>
          <p:nvPr/>
        </p:nvSpPr>
        <p:spPr>
          <a:xfrm>
            <a:off x="7593120" y="3624120"/>
            <a:ext cx="222120" cy="25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92" y="2090"/>
                </a:moveTo>
                <a:lnTo>
                  <a:pt x="14092" y="0"/>
                </a:lnTo>
                <a:lnTo>
                  <a:pt x="6892" y="5788"/>
                </a:lnTo>
                <a:lnTo>
                  <a:pt x="0" y="11845"/>
                </a:lnTo>
                <a:lnTo>
                  <a:pt x="1292" y="21385"/>
                </a:lnTo>
                <a:lnTo>
                  <a:pt x="13046" y="21600"/>
                </a:lnTo>
                <a:lnTo>
                  <a:pt x="16492" y="14364"/>
                </a:lnTo>
                <a:lnTo>
                  <a:pt x="21600" y="8361"/>
                </a:lnTo>
                <a:lnTo>
                  <a:pt x="20492" y="209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未知"/>
          <p:cNvSpPr/>
          <p:nvPr/>
        </p:nvSpPr>
        <p:spPr>
          <a:xfrm>
            <a:off x="7823160" y="3619440"/>
            <a:ext cx="12708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932" y="5815"/>
                </a:moveTo>
                <a:lnTo>
                  <a:pt x="8466" y="0"/>
                </a:lnTo>
                <a:lnTo>
                  <a:pt x="0" y="1405"/>
                </a:lnTo>
                <a:lnTo>
                  <a:pt x="0" y="4728"/>
                </a:lnTo>
                <a:lnTo>
                  <a:pt x="1411" y="10544"/>
                </a:lnTo>
                <a:lnTo>
                  <a:pt x="2279" y="18276"/>
                </a:lnTo>
                <a:lnTo>
                  <a:pt x="11288" y="21600"/>
                </a:lnTo>
                <a:lnTo>
                  <a:pt x="21600" y="18021"/>
                </a:lnTo>
                <a:lnTo>
                  <a:pt x="16932" y="58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未知"/>
          <p:cNvSpPr/>
          <p:nvPr/>
        </p:nvSpPr>
        <p:spPr>
          <a:xfrm>
            <a:off x="7950240" y="3635280"/>
            <a:ext cx="173160" cy="1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2847"/>
                </a:moveTo>
                <a:lnTo>
                  <a:pt x="16852" y="4898"/>
                </a:lnTo>
                <a:lnTo>
                  <a:pt x="11709" y="722"/>
                </a:lnTo>
                <a:lnTo>
                  <a:pt x="2373" y="0"/>
                </a:lnTo>
                <a:lnTo>
                  <a:pt x="0" y="5942"/>
                </a:lnTo>
                <a:lnTo>
                  <a:pt x="7200" y="8672"/>
                </a:lnTo>
                <a:lnTo>
                  <a:pt x="10681" y="15336"/>
                </a:lnTo>
                <a:lnTo>
                  <a:pt x="21600" y="21600"/>
                </a:lnTo>
                <a:lnTo>
                  <a:pt x="21600" y="128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未知"/>
          <p:cNvSpPr/>
          <p:nvPr/>
        </p:nvSpPr>
        <p:spPr>
          <a:xfrm>
            <a:off x="8089920" y="3624120"/>
            <a:ext cx="264960" cy="18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730"/>
                </a:moveTo>
                <a:lnTo>
                  <a:pt x="3167" y="11461"/>
                </a:lnTo>
                <a:lnTo>
                  <a:pt x="5659" y="9551"/>
                </a:lnTo>
                <a:lnTo>
                  <a:pt x="9450" y="11461"/>
                </a:lnTo>
                <a:lnTo>
                  <a:pt x="12825" y="17485"/>
                </a:lnTo>
                <a:lnTo>
                  <a:pt x="19575" y="21600"/>
                </a:lnTo>
                <a:lnTo>
                  <a:pt x="21600" y="12710"/>
                </a:lnTo>
                <a:lnTo>
                  <a:pt x="18692" y="5363"/>
                </a:lnTo>
                <a:lnTo>
                  <a:pt x="14642" y="293"/>
                </a:lnTo>
                <a:lnTo>
                  <a:pt x="7009" y="0"/>
                </a:lnTo>
                <a:lnTo>
                  <a:pt x="3167" y="1910"/>
                </a:lnTo>
                <a:lnTo>
                  <a:pt x="0" y="57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未知"/>
          <p:cNvSpPr/>
          <p:nvPr/>
        </p:nvSpPr>
        <p:spPr>
          <a:xfrm>
            <a:off x="7765920" y="3863880"/>
            <a:ext cx="43812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831" y="4984"/>
                </a:moveTo>
                <a:lnTo>
                  <a:pt x="9781" y="4473"/>
                </a:lnTo>
                <a:lnTo>
                  <a:pt x="11003" y="4473"/>
                </a:lnTo>
                <a:lnTo>
                  <a:pt x="14138" y="2811"/>
                </a:lnTo>
                <a:lnTo>
                  <a:pt x="15612" y="1150"/>
                </a:lnTo>
                <a:lnTo>
                  <a:pt x="19280" y="0"/>
                </a:lnTo>
                <a:lnTo>
                  <a:pt x="21600" y="4984"/>
                </a:lnTo>
                <a:lnTo>
                  <a:pt x="20784" y="13292"/>
                </a:lnTo>
                <a:lnTo>
                  <a:pt x="18747" y="16615"/>
                </a:lnTo>
                <a:lnTo>
                  <a:pt x="12759" y="16615"/>
                </a:lnTo>
                <a:lnTo>
                  <a:pt x="11536" y="16615"/>
                </a:lnTo>
                <a:lnTo>
                  <a:pt x="10314" y="17765"/>
                </a:lnTo>
                <a:lnTo>
                  <a:pt x="8809" y="17765"/>
                </a:lnTo>
                <a:lnTo>
                  <a:pt x="6928" y="20449"/>
                </a:lnTo>
                <a:lnTo>
                  <a:pt x="5015" y="20449"/>
                </a:lnTo>
                <a:lnTo>
                  <a:pt x="407" y="21600"/>
                </a:lnTo>
                <a:lnTo>
                  <a:pt x="0" y="18276"/>
                </a:lnTo>
                <a:lnTo>
                  <a:pt x="125" y="4984"/>
                </a:lnTo>
                <a:lnTo>
                  <a:pt x="2570" y="0"/>
                </a:lnTo>
                <a:lnTo>
                  <a:pt x="5831" y="498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未知"/>
          <p:cNvSpPr/>
          <p:nvPr/>
        </p:nvSpPr>
        <p:spPr>
          <a:xfrm>
            <a:off x="7924680" y="3703680"/>
            <a:ext cx="104760" cy="43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283" y="2459"/>
                </a:moveTo>
                <a:lnTo>
                  <a:pt x="9032" y="5202"/>
                </a:lnTo>
                <a:lnTo>
                  <a:pt x="7985" y="9995"/>
                </a:lnTo>
                <a:lnTo>
                  <a:pt x="6807" y="12739"/>
                </a:lnTo>
                <a:lnTo>
                  <a:pt x="5105" y="16680"/>
                </a:lnTo>
                <a:lnTo>
                  <a:pt x="0" y="17784"/>
                </a:lnTo>
                <a:lnTo>
                  <a:pt x="0" y="18888"/>
                </a:lnTo>
                <a:lnTo>
                  <a:pt x="2880" y="20937"/>
                </a:lnTo>
                <a:lnTo>
                  <a:pt x="9032" y="21600"/>
                </a:lnTo>
                <a:lnTo>
                  <a:pt x="18196" y="19140"/>
                </a:lnTo>
                <a:lnTo>
                  <a:pt x="19898" y="16838"/>
                </a:lnTo>
                <a:lnTo>
                  <a:pt x="21600" y="12865"/>
                </a:lnTo>
                <a:lnTo>
                  <a:pt x="20421" y="11509"/>
                </a:lnTo>
                <a:lnTo>
                  <a:pt x="20421" y="8766"/>
                </a:lnTo>
                <a:lnTo>
                  <a:pt x="20421" y="5738"/>
                </a:lnTo>
                <a:lnTo>
                  <a:pt x="19374" y="977"/>
                </a:lnTo>
                <a:lnTo>
                  <a:pt x="14792" y="0"/>
                </a:lnTo>
                <a:lnTo>
                  <a:pt x="9032" y="819"/>
                </a:lnTo>
                <a:lnTo>
                  <a:pt x="6283" y="24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未知"/>
          <p:cNvSpPr/>
          <p:nvPr/>
        </p:nvSpPr>
        <p:spPr>
          <a:xfrm>
            <a:off x="7669080" y="4049640"/>
            <a:ext cx="65880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776" y="3962"/>
                </a:moveTo>
                <a:lnTo>
                  <a:pt x="2168" y="6646"/>
                </a:lnTo>
                <a:lnTo>
                  <a:pt x="0" y="9969"/>
                </a:lnTo>
                <a:lnTo>
                  <a:pt x="271" y="17765"/>
                </a:lnTo>
                <a:lnTo>
                  <a:pt x="1980" y="20577"/>
                </a:lnTo>
                <a:lnTo>
                  <a:pt x="3711" y="21600"/>
                </a:lnTo>
                <a:lnTo>
                  <a:pt x="7318" y="17765"/>
                </a:lnTo>
                <a:lnTo>
                  <a:pt x="13656" y="18915"/>
                </a:lnTo>
                <a:lnTo>
                  <a:pt x="17805" y="20577"/>
                </a:lnTo>
                <a:lnTo>
                  <a:pt x="20432" y="21600"/>
                </a:lnTo>
                <a:lnTo>
                  <a:pt x="21600" y="9457"/>
                </a:lnTo>
                <a:lnTo>
                  <a:pt x="19431" y="1150"/>
                </a:lnTo>
                <a:lnTo>
                  <a:pt x="14198" y="0"/>
                </a:lnTo>
                <a:lnTo>
                  <a:pt x="11654" y="1150"/>
                </a:lnTo>
                <a:lnTo>
                  <a:pt x="9215" y="3323"/>
                </a:lnTo>
                <a:lnTo>
                  <a:pt x="8131" y="3323"/>
                </a:lnTo>
                <a:lnTo>
                  <a:pt x="6776" y="39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0" descr="墨"/>
          <p:cNvPicPr/>
          <p:nvPr/>
        </p:nvPicPr>
        <p:blipFill>
          <a:blip r:embed="rId5"/>
          <a:stretch/>
        </p:blipFill>
        <p:spPr>
          <a:xfrm>
            <a:off x="7500960" y="2968560"/>
            <a:ext cx="954000" cy="1187640"/>
          </a:xfrm>
          <a:prstGeom prst="rect">
            <a:avLst/>
          </a:prstGeom>
          <a:ln w="0">
            <a:noFill/>
          </a:ln>
        </p:spPr>
      </p:pic>
      <p:sp>
        <p:nvSpPr>
          <p:cNvPr id="583" name="未知"/>
          <p:cNvSpPr/>
          <p:nvPr/>
        </p:nvSpPr>
        <p:spPr>
          <a:xfrm>
            <a:off x="7796160" y="4441680"/>
            <a:ext cx="48744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68" y="1860"/>
                </a:moveTo>
                <a:lnTo>
                  <a:pt x="13921" y="0"/>
                </a:lnTo>
                <a:lnTo>
                  <a:pt x="8409" y="2640"/>
                </a:lnTo>
                <a:lnTo>
                  <a:pt x="1828" y="2880"/>
                </a:lnTo>
                <a:lnTo>
                  <a:pt x="0" y="6240"/>
                </a:lnTo>
                <a:lnTo>
                  <a:pt x="871" y="14340"/>
                </a:lnTo>
                <a:lnTo>
                  <a:pt x="6946" y="18480"/>
                </a:lnTo>
                <a:lnTo>
                  <a:pt x="12093" y="21600"/>
                </a:lnTo>
                <a:lnTo>
                  <a:pt x="17437" y="18780"/>
                </a:lnTo>
                <a:lnTo>
                  <a:pt x="21600" y="14040"/>
                </a:lnTo>
                <a:lnTo>
                  <a:pt x="21346" y="7800"/>
                </a:lnTo>
                <a:lnTo>
                  <a:pt x="20868" y="18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未知"/>
          <p:cNvSpPr/>
          <p:nvPr/>
        </p:nvSpPr>
        <p:spPr>
          <a:xfrm>
            <a:off x="7512120" y="4737240"/>
            <a:ext cx="936720" cy="28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95" y="10800"/>
                </a:moveTo>
                <a:lnTo>
                  <a:pt x="381" y="12705"/>
                </a:lnTo>
                <a:lnTo>
                  <a:pt x="0" y="15686"/>
                </a:lnTo>
                <a:lnTo>
                  <a:pt x="0" y="16957"/>
                </a:lnTo>
                <a:lnTo>
                  <a:pt x="1084" y="19498"/>
                </a:lnTo>
                <a:lnTo>
                  <a:pt x="3941" y="21600"/>
                </a:lnTo>
                <a:lnTo>
                  <a:pt x="9656" y="15247"/>
                </a:lnTo>
                <a:lnTo>
                  <a:pt x="10228" y="13585"/>
                </a:lnTo>
                <a:lnTo>
                  <a:pt x="11371" y="12510"/>
                </a:lnTo>
                <a:lnTo>
                  <a:pt x="13217" y="11679"/>
                </a:lnTo>
                <a:lnTo>
                  <a:pt x="17658" y="10164"/>
                </a:lnTo>
                <a:lnTo>
                  <a:pt x="21028" y="10164"/>
                </a:lnTo>
                <a:lnTo>
                  <a:pt x="21600" y="4447"/>
                </a:lnTo>
                <a:lnTo>
                  <a:pt x="21336" y="0"/>
                </a:lnTo>
                <a:lnTo>
                  <a:pt x="19123" y="0"/>
                </a:lnTo>
                <a:lnTo>
                  <a:pt x="15884" y="635"/>
                </a:lnTo>
                <a:lnTo>
                  <a:pt x="2095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未知"/>
          <p:cNvSpPr/>
          <p:nvPr/>
        </p:nvSpPr>
        <p:spPr>
          <a:xfrm>
            <a:off x="7705800" y="4898880"/>
            <a:ext cx="38736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11" y="0"/>
                </a:moveTo>
                <a:lnTo>
                  <a:pt x="15776" y="0"/>
                </a:lnTo>
                <a:lnTo>
                  <a:pt x="13623" y="460"/>
                </a:lnTo>
                <a:lnTo>
                  <a:pt x="13023" y="1407"/>
                </a:lnTo>
                <a:lnTo>
                  <a:pt x="12388" y="3275"/>
                </a:lnTo>
                <a:lnTo>
                  <a:pt x="9811" y="5630"/>
                </a:lnTo>
                <a:lnTo>
                  <a:pt x="7517" y="8336"/>
                </a:lnTo>
                <a:lnTo>
                  <a:pt x="6600" y="9257"/>
                </a:lnTo>
                <a:lnTo>
                  <a:pt x="2611" y="12207"/>
                </a:lnTo>
                <a:lnTo>
                  <a:pt x="1694" y="13615"/>
                </a:lnTo>
                <a:lnTo>
                  <a:pt x="0" y="16538"/>
                </a:lnTo>
                <a:lnTo>
                  <a:pt x="176" y="19353"/>
                </a:lnTo>
                <a:lnTo>
                  <a:pt x="3847" y="21464"/>
                </a:lnTo>
                <a:lnTo>
                  <a:pt x="7517" y="21600"/>
                </a:lnTo>
                <a:lnTo>
                  <a:pt x="11329" y="21221"/>
                </a:lnTo>
                <a:lnTo>
                  <a:pt x="15000" y="20165"/>
                </a:lnTo>
                <a:lnTo>
                  <a:pt x="11329" y="20409"/>
                </a:lnTo>
                <a:lnTo>
                  <a:pt x="9494" y="17593"/>
                </a:lnTo>
                <a:lnTo>
                  <a:pt x="12247" y="14778"/>
                </a:lnTo>
                <a:lnTo>
                  <a:pt x="14858" y="11963"/>
                </a:lnTo>
                <a:lnTo>
                  <a:pt x="18847" y="10204"/>
                </a:lnTo>
                <a:lnTo>
                  <a:pt x="21141" y="7389"/>
                </a:lnTo>
                <a:lnTo>
                  <a:pt x="21600" y="4574"/>
                </a:lnTo>
                <a:lnTo>
                  <a:pt x="20823" y="1759"/>
                </a:lnTo>
                <a:lnTo>
                  <a:pt x="182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未知"/>
          <p:cNvSpPr/>
          <p:nvPr/>
        </p:nvSpPr>
        <p:spPr>
          <a:xfrm>
            <a:off x="7837560" y="5124600"/>
            <a:ext cx="42372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596" y="6259"/>
                </a:moveTo>
                <a:lnTo>
                  <a:pt x="2683" y="10261"/>
                </a:lnTo>
                <a:lnTo>
                  <a:pt x="420" y="17136"/>
                </a:lnTo>
                <a:lnTo>
                  <a:pt x="0" y="20676"/>
                </a:lnTo>
                <a:lnTo>
                  <a:pt x="840" y="21343"/>
                </a:lnTo>
                <a:lnTo>
                  <a:pt x="2683" y="21600"/>
                </a:lnTo>
                <a:lnTo>
                  <a:pt x="12061" y="16469"/>
                </a:lnTo>
                <a:lnTo>
                  <a:pt x="19789" y="10928"/>
                </a:lnTo>
                <a:lnTo>
                  <a:pt x="21600" y="7336"/>
                </a:lnTo>
                <a:lnTo>
                  <a:pt x="20759" y="0"/>
                </a:lnTo>
                <a:lnTo>
                  <a:pt x="17687" y="1333"/>
                </a:lnTo>
                <a:lnTo>
                  <a:pt x="12222" y="3591"/>
                </a:lnTo>
                <a:lnTo>
                  <a:pt x="8698" y="4925"/>
                </a:lnTo>
                <a:lnTo>
                  <a:pt x="6596" y="62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未知"/>
          <p:cNvSpPr/>
          <p:nvPr/>
        </p:nvSpPr>
        <p:spPr>
          <a:xfrm>
            <a:off x="8159760" y="4921200"/>
            <a:ext cx="258840" cy="43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392"/>
                </a:moveTo>
                <a:lnTo>
                  <a:pt x="5041" y="8932"/>
                </a:lnTo>
                <a:lnTo>
                  <a:pt x="6899" y="10800"/>
                </a:lnTo>
                <a:lnTo>
                  <a:pt x="8491" y="14036"/>
                </a:lnTo>
                <a:lnTo>
                  <a:pt x="7589" y="17429"/>
                </a:lnTo>
                <a:lnTo>
                  <a:pt x="9871" y="19857"/>
                </a:lnTo>
                <a:lnTo>
                  <a:pt x="15390" y="21600"/>
                </a:lnTo>
                <a:lnTo>
                  <a:pt x="20697" y="19981"/>
                </a:lnTo>
                <a:lnTo>
                  <a:pt x="21600" y="12698"/>
                </a:lnTo>
                <a:lnTo>
                  <a:pt x="18840" y="9461"/>
                </a:lnTo>
                <a:lnTo>
                  <a:pt x="15178" y="4077"/>
                </a:lnTo>
                <a:lnTo>
                  <a:pt x="7801" y="1089"/>
                </a:lnTo>
                <a:lnTo>
                  <a:pt x="3449" y="0"/>
                </a:lnTo>
                <a:lnTo>
                  <a:pt x="0" y="1774"/>
                </a:lnTo>
                <a:lnTo>
                  <a:pt x="0" y="33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6" descr="云~"/>
          <p:cNvPicPr/>
          <p:nvPr/>
        </p:nvPicPr>
        <p:blipFill>
          <a:blip r:embed="rId6"/>
          <a:stretch/>
        </p:blipFill>
        <p:spPr>
          <a:xfrm>
            <a:off x="7518240" y="4433760"/>
            <a:ext cx="943200" cy="966960"/>
          </a:xfrm>
          <a:prstGeom prst="rect">
            <a:avLst/>
          </a:prstGeom>
          <a:ln w="0">
            <a:noFill/>
          </a:ln>
        </p:spPr>
      </p:pic>
      <p:sp>
        <p:nvSpPr>
          <p:cNvPr id="589" name="未知"/>
          <p:cNvSpPr/>
          <p:nvPr/>
        </p:nvSpPr>
        <p:spPr>
          <a:xfrm>
            <a:off x="7694640" y="5772240"/>
            <a:ext cx="138240" cy="34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6" y="2080"/>
                </a:moveTo>
                <a:lnTo>
                  <a:pt x="5251" y="11680"/>
                </a:lnTo>
                <a:lnTo>
                  <a:pt x="1486" y="20680"/>
                </a:lnTo>
                <a:lnTo>
                  <a:pt x="0" y="18880"/>
                </a:lnTo>
                <a:lnTo>
                  <a:pt x="0" y="21600"/>
                </a:lnTo>
                <a:lnTo>
                  <a:pt x="8917" y="21600"/>
                </a:lnTo>
                <a:lnTo>
                  <a:pt x="18627" y="20680"/>
                </a:lnTo>
                <a:lnTo>
                  <a:pt x="21600" y="8400"/>
                </a:lnTo>
                <a:lnTo>
                  <a:pt x="21600" y="3280"/>
                </a:lnTo>
                <a:lnTo>
                  <a:pt x="15655" y="0"/>
                </a:lnTo>
                <a:lnTo>
                  <a:pt x="8917" y="0"/>
                </a:lnTo>
                <a:lnTo>
                  <a:pt x="1486" y="208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未知"/>
          <p:cNvSpPr/>
          <p:nvPr/>
        </p:nvSpPr>
        <p:spPr>
          <a:xfrm>
            <a:off x="7508880" y="5967360"/>
            <a:ext cx="176040" cy="28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90" y="12092"/>
                </a:moveTo>
                <a:lnTo>
                  <a:pt x="21600" y="4388"/>
                </a:lnTo>
                <a:lnTo>
                  <a:pt x="18714" y="1121"/>
                </a:lnTo>
                <a:lnTo>
                  <a:pt x="13412" y="0"/>
                </a:lnTo>
                <a:lnTo>
                  <a:pt x="9357" y="731"/>
                </a:lnTo>
                <a:lnTo>
                  <a:pt x="7563" y="5509"/>
                </a:lnTo>
                <a:lnTo>
                  <a:pt x="5224" y="9507"/>
                </a:lnTo>
                <a:lnTo>
                  <a:pt x="2885" y="11702"/>
                </a:lnTo>
                <a:lnTo>
                  <a:pt x="545" y="14286"/>
                </a:lnTo>
                <a:lnTo>
                  <a:pt x="0" y="16480"/>
                </a:lnTo>
                <a:lnTo>
                  <a:pt x="545" y="20478"/>
                </a:lnTo>
                <a:lnTo>
                  <a:pt x="5848" y="21600"/>
                </a:lnTo>
                <a:lnTo>
                  <a:pt x="15751" y="18674"/>
                </a:lnTo>
                <a:lnTo>
                  <a:pt x="18090" y="120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未知"/>
          <p:cNvSpPr/>
          <p:nvPr/>
        </p:nvSpPr>
        <p:spPr>
          <a:xfrm>
            <a:off x="7566120" y="6095880"/>
            <a:ext cx="280800" cy="15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206" y="5400"/>
                </a:moveTo>
                <a:lnTo>
                  <a:pt x="2199" y="11430"/>
                </a:lnTo>
                <a:lnTo>
                  <a:pt x="1075" y="14850"/>
                </a:lnTo>
                <a:lnTo>
                  <a:pt x="0" y="18180"/>
                </a:lnTo>
                <a:lnTo>
                  <a:pt x="1466" y="21600"/>
                </a:lnTo>
                <a:lnTo>
                  <a:pt x="14269" y="16200"/>
                </a:lnTo>
                <a:lnTo>
                  <a:pt x="21600" y="7380"/>
                </a:lnTo>
                <a:lnTo>
                  <a:pt x="21257" y="0"/>
                </a:lnTo>
                <a:lnTo>
                  <a:pt x="15735" y="630"/>
                </a:lnTo>
                <a:lnTo>
                  <a:pt x="6206" y="54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未知"/>
          <p:cNvSpPr/>
          <p:nvPr/>
        </p:nvSpPr>
        <p:spPr>
          <a:xfrm>
            <a:off x="7827840" y="5924520"/>
            <a:ext cx="11916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40" y="1776"/>
                </a:moveTo>
                <a:lnTo>
                  <a:pt x="21600" y="8640"/>
                </a:lnTo>
                <a:lnTo>
                  <a:pt x="18153" y="14736"/>
                </a:lnTo>
                <a:lnTo>
                  <a:pt x="16429" y="15456"/>
                </a:lnTo>
                <a:lnTo>
                  <a:pt x="16429" y="20496"/>
                </a:lnTo>
                <a:lnTo>
                  <a:pt x="1723" y="21600"/>
                </a:lnTo>
                <a:lnTo>
                  <a:pt x="0" y="15840"/>
                </a:lnTo>
                <a:lnTo>
                  <a:pt x="1723" y="16560"/>
                </a:lnTo>
                <a:lnTo>
                  <a:pt x="3446" y="11856"/>
                </a:lnTo>
                <a:lnTo>
                  <a:pt x="0" y="5376"/>
                </a:lnTo>
                <a:lnTo>
                  <a:pt x="4365" y="0"/>
                </a:lnTo>
                <a:lnTo>
                  <a:pt x="10340" y="17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未知"/>
          <p:cNvSpPr/>
          <p:nvPr/>
        </p:nvSpPr>
        <p:spPr>
          <a:xfrm>
            <a:off x="7927920" y="5629320"/>
            <a:ext cx="214200" cy="2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21" y="1006"/>
                </a:moveTo>
                <a:lnTo>
                  <a:pt x="10062" y="7184"/>
                </a:lnTo>
                <a:lnTo>
                  <a:pt x="3332" y="12676"/>
                </a:lnTo>
                <a:lnTo>
                  <a:pt x="0" y="18167"/>
                </a:lnTo>
                <a:lnTo>
                  <a:pt x="1922" y="21600"/>
                </a:lnTo>
                <a:lnTo>
                  <a:pt x="6729" y="19540"/>
                </a:lnTo>
                <a:lnTo>
                  <a:pt x="14421" y="13728"/>
                </a:lnTo>
                <a:lnTo>
                  <a:pt x="20638" y="5125"/>
                </a:lnTo>
                <a:lnTo>
                  <a:pt x="21600" y="2059"/>
                </a:lnTo>
                <a:lnTo>
                  <a:pt x="17754" y="0"/>
                </a:lnTo>
                <a:lnTo>
                  <a:pt x="14421" y="10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未知"/>
          <p:cNvSpPr/>
          <p:nvPr/>
        </p:nvSpPr>
        <p:spPr>
          <a:xfrm>
            <a:off x="8042400" y="5743440"/>
            <a:ext cx="21420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84" y="12698"/>
                </a:moveTo>
                <a:lnTo>
                  <a:pt x="0" y="20552"/>
                </a:lnTo>
                <a:lnTo>
                  <a:pt x="6217" y="21600"/>
                </a:lnTo>
                <a:lnTo>
                  <a:pt x="11024" y="16625"/>
                </a:lnTo>
                <a:lnTo>
                  <a:pt x="18715" y="12698"/>
                </a:lnTo>
                <a:lnTo>
                  <a:pt x="21600" y="5890"/>
                </a:lnTo>
                <a:lnTo>
                  <a:pt x="17754" y="2880"/>
                </a:lnTo>
                <a:lnTo>
                  <a:pt x="13908" y="0"/>
                </a:lnTo>
                <a:lnTo>
                  <a:pt x="8140" y="2880"/>
                </a:lnTo>
                <a:lnTo>
                  <a:pt x="2884" y="126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未知"/>
          <p:cNvSpPr/>
          <p:nvPr/>
        </p:nvSpPr>
        <p:spPr>
          <a:xfrm>
            <a:off x="7913520" y="5800680"/>
            <a:ext cx="314640" cy="3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19636" y="0"/>
                </a:lnTo>
                <a:lnTo>
                  <a:pt x="17672" y="0"/>
                </a:lnTo>
                <a:lnTo>
                  <a:pt x="15403" y="1776"/>
                </a:lnTo>
                <a:lnTo>
                  <a:pt x="14399" y="5014"/>
                </a:lnTo>
                <a:lnTo>
                  <a:pt x="12130" y="7700"/>
                </a:lnTo>
                <a:lnTo>
                  <a:pt x="10472" y="9477"/>
                </a:lnTo>
                <a:lnTo>
                  <a:pt x="3621" y="16269"/>
                </a:lnTo>
                <a:lnTo>
                  <a:pt x="654" y="18954"/>
                </a:lnTo>
                <a:lnTo>
                  <a:pt x="0" y="21600"/>
                </a:lnTo>
                <a:lnTo>
                  <a:pt x="4276" y="21323"/>
                </a:lnTo>
                <a:lnTo>
                  <a:pt x="10167" y="18046"/>
                </a:lnTo>
                <a:lnTo>
                  <a:pt x="10821" y="15084"/>
                </a:lnTo>
                <a:lnTo>
                  <a:pt x="12785" y="11846"/>
                </a:lnTo>
                <a:lnTo>
                  <a:pt x="17672" y="7384"/>
                </a:lnTo>
                <a:lnTo>
                  <a:pt x="21600" y="2053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7999560" y="5862600"/>
            <a:ext cx="585720" cy="34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40" y="0"/>
                </a:moveTo>
                <a:lnTo>
                  <a:pt x="3346" y="3320"/>
                </a:lnTo>
                <a:lnTo>
                  <a:pt x="5101" y="5120"/>
                </a:lnTo>
                <a:lnTo>
                  <a:pt x="8775" y="6920"/>
                </a:lnTo>
                <a:lnTo>
                  <a:pt x="14930" y="9600"/>
                </a:lnTo>
                <a:lnTo>
                  <a:pt x="20546" y="12320"/>
                </a:lnTo>
                <a:lnTo>
                  <a:pt x="21600" y="13800"/>
                </a:lnTo>
                <a:lnTo>
                  <a:pt x="21061" y="21600"/>
                </a:lnTo>
                <a:lnTo>
                  <a:pt x="12988" y="18320"/>
                </a:lnTo>
                <a:lnTo>
                  <a:pt x="6669" y="12320"/>
                </a:lnTo>
                <a:lnTo>
                  <a:pt x="3861" y="7200"/>
                </a:lnTo>
                <a:lnTo>
                  <a:pt x="2644" y="6000"/>
                </a:lnTo>
                <a:lnTo>
                  <a:pt x="0" y="1800"/>
                </a:lnTo>
                <a:lnTo>
                  <a:pt x="124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未知"/>
          <p:cNvSpPr/>
          <p:nvPr/>
        </p:nvSpPr>
        <p:spPr>
          <a:xfrm>
            <a:off x="7942320" y="6100920"/>
            <a:ext cx="304920" cy="8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50" y="3680"/>
                </a:moveTo>
                <a:lnTo>
                  <a:pt x="11835" y="3680"/>
                </a:lnTo>
                <a:lnTo>
                  <a:pt x="16560" y="0"/>
                </a:lnTo>
                <a:lnTo>
                  <a:pt x="19935" y="0"/>
                </a:lnTo>
                <a:lnTo>
                  <a:pt x="21600" y="15680"/>
                </a:lnTo>
                <a:lnTo>
                  <a:pt x="16875" y="19200"/>
                </a:lnTo>
                <a:lnTo>
                  <a:pt x="13500" y="19200"/>
                </a:lnTo>
                <a:lnTo>
                  <a:pt x="10485" y="21600"/>
                </a:lnTo>
                <a:lnTo>
                  <a:pt x="8100" y="21600"/>
                </a:lnTo>
                <a:lnTo>
                  <a:pt x="1710" y="21600"/>
                </a:lnTo>
                <a:lnTo>
                  <a:pt x="0" y="18080"/>
                </a:lnTo>
                <a:lnTo>
                  <a:pt x="360" y="9600"/>
                </a:lnTo>
                <a:lnTo>
                  <a:pt x="9450" y="36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未知"/>
          <p:cNvSpPr/>
          <p:nvPr/>
        </p:nvSpPr>
        <p:spPr>
          <a:xfrm>
            <a:off x="7942320" y="6210360"/>
            <a:ext cx="285840" cy="8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" y="10720"/>
                </a:moveTo>
                <a:lnTo>
                  <a:pt x="8640" y="4800"/>
                </a:lnTo>
                <a:lnTo>
                  <a:pt x="12240" y="3520"/>
                </a:lnTo>
                <a:lnTo>
                  <a:pt x="18384" y="0"/>
                </a:lnTo>
                <a:lnTo>
                  <a:pt x="20880" y="1120"/>
                </a:lnTo>
                <a:lnTo>
                  <a:pt x="21600" y="15520"/>
                </a:lnTo>
                <a:lnTo>
                  <a:pt x="17664" y="14400"/>
                </a:lnTo>
                <a:lnTo>
                  <a:pt x="15120" y="15520"/>
                </a:lnTo>
                <a:lnTo>
                  <a:pt x="11184" y="17920"/>
                </a:lnTo>
                <a:lnTo>
                  <a:pt x="4704" y="21600"/>
                </a:lnTo>
                <a:lnTo>
                  <a:pt x="0" y="19200"/>
                </a:lnTo>
                <a:lnTo>
                  <a:pt x="1440" y="107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7794720" y="6267600"/>
            <a:ext cx="561960" cy="16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64" y="13976"/>
                </a:moveTo>
                <a:lnTo>
                  <a:pt x="11520" y="8216"/>
                </a:lnTo>
                <a:lnTo>
                  <a:pt x="13350" y="8216"/>
                </a:lnTo>
                <a:lnTo>
                  <a:pt x="16279" y="6945"/>
                </a:lnTo>
                <a:lnTo>
                  <a:pt x="17011" y="0"/>
                </a:lnTo>
                <a:lnTo>
                  <a:pt x="21600" y="9487"/>
                </a:lnTo>
                <a:lnTo>
                  <a:pt x="20672" y="17110"/>
                </a:lnTo>
                <a:lnTo>
                  <a:pt x="12447" y="14569"/>
                </a:lnTo>
                <a:lnTo>
                  <a:pt x="9884" y="16517"/>
                </a:lnTo>
                <a:lnTo>
                  <a:pt x="7322" y="19651"/>
                </a:lnTo>
                <a:lnTo>
                  <a:pt x="2733" y="21600"/>
                </a:lnTo>
                <a:lnTo>
                  <a:pt x="0" y="19058"/>
                </a:lnTo>
                <a:lnTo>
                  <a:pt x="1464" y="1397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8051760" y="5996160"/>
            <a:ext cx="114480" cy="7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600" y="1730"/>
                </a:moveTo>
                <a:lnTo>
                  <a:pt x="4440" y="5563"/>
                </a:lnTo>
                <a:lnTo>
                  <a:pt x="3600" y="9148"/>
                </a:lnTo>
                <a:lnTo>
                  <a:pt x="0" y="14040"/>
                </a:lnTo>
                <a:lnTo>
                  <a:pt x="0" y="20928"/>
                </a:lnTo>
                <a:lnTo>
                  <a:pt x="8040" y="21600"/>
                </a:lnTo>
                <a:lnTo>
                  <a:pt x="21600" y="18950"/>
                </a:lnTo>
                <a:lnTo>
                  <a:pt x="16200" y="13652"/>
                </a:lnTo>
                <a:lnTo>
                  <a:pt x="14400" y="12186"/>
                </a:lnTo>
                <a:lnTo>
                  <a:pt x="13440" y="6093"/>
                </a:lnTo>
                <a:lnTo>
                  <a:pt x="17040" y="4768"/>
                </a:lnTo>
                <a:lnTo>
                  <a:pt x="17040" y="1589"/>
                </a:lnTo>
                <a:lnTo>
                  <a:pt x="12600" y="0"/>
                </a:lnTo>
                <a:lnTo>
                  <a:pt x="7200" y="0"/>
                </a:lnTo>
                <a:lnTo>
                  <a:pt x="3600" y="17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59" descr="峰"/>
          <p:cNvPicPr/>
          <p:nvPr/>
        </p:nvPicPr>
        <p:blipFill>
          <a:blip r:embed="rId7"/>
          <a:stretch/>
        </p:blipFill>
        <p:spPr>
          <a:xfrm>
            <a:off x="7500960" y="5610240"/>
            <a:ext cx="1090440" cy="11620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0" descr="山2"/>
          <p:cNvPicPr/>
          <p:nvPr/>
        </p:nvPicPr>
        <p:blipFill>
          <a:blip r:embed="rId8"/>
          <a:stretch/>
        </p:blipFill>
        <p:spPr>
          <a:xfrm>
            <a:off x="-20520" y="2297160"/>
            <a:ext cx="9128160" cy="516420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61"/>
          <p:cNvSpPr/>
          <p:nvPr/>
        </p:nvSpPr>
        <p:spPr>
          <a:xfrm>
            <a:off x="7767720" y="5397480"/>
            <a:ext cx="1396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2"/>
          <p:cNvSpPr/>
          <p:nvPr/>
        </p:nvSpPr>
        <p:spPr>
          <a:xfrm>
            <a:off x="8172360" y="4148280"/>
            <a:ext cx="28908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3"/>
          <p:cNvSpPr/>
          <p:nvPr/>
        </p:nvSpPr>
        <p:spPr>
          <a:xfrm>
            <a:off x="7597800" y="4148280"/>
            <a:ext cx="28728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4"/>
          <p:cNvSpPr/>
          <p:nvPr/>
        </p:nvSpPr>
        <p:spPr>
          <a:xfrm>
            <a:off x="7815240" y="2630520"/>
            <a:ext cx="21420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5"/>
          <p:cNvSpPr/>
          <p:nvPr/>
        </p:nvSpPr>
        <p:spPr>
          <a:xfrm>
            <a:off x="8442360" y="3519360"/>
            <a:ext cx="1252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6"/>
          <p:cNvSpPr/>
          <p:nvPr/>
        </p:nvSpPr>
        <p:spPr>
          <a:xfrm>
            <a:off x="5797440" y="2563560"/>
            <a:ext cx="74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77777"/>
                </a:solidFill>
                <a:latin typeface="Arial"/>
                <a:ea typeface="叶根友毛笔行书简体"/>
              </a:rPr>
              <a:t>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77777"/>
                </a:solidFill>
                <a:latin typeface="Arial"/>
                <a:ea typeface="叶根友毛笔行书简体"/>
              </a:rPr>
              <a:t>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7"/>
          <p:cNvSpPr/>
          <p:nvPr/>
        </p:nvSpPr>
        <p:spPr>
          <a:xfrm>
            <a:off x="4067280" y="3307680"/>
            <a:ext cx="74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77777"/>
                </a:solidFill>
                <a:latin typeface="Arial"/>
                <a:ea typeface="叶根友毛笔行书简体"/>
              </a:rPr>
              <a:t>乐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8"/>
          <p:cNvSpPr/>
          <p:nvPr/>
        </p:nvSpPr>
        <p:spPr>
          <a:xfrm>
            <a:off x="2556000" y="4028400"/>
            <a:ext cx="74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77777"/>
                </a:solidFill>
                <a:latin typeface="Arial"/>
                <a:ea typeface="叶根友毛笔行书简体"/>
              </a:rPr>
              <a:t>务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9"/>
          <p:cNvSpPr/>
          <p:nvPr/>
        </p:nvSpPr>
        <p:spPr>
          <a:xfrm>
            <a:off x="942840" y="4676040"/>
            <a:ext cx="74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77777"/>
                </a:solidFill>
                <a:latin typeface="Arial"/>
                <a:ea typeface="叶根友毛笔行书简体"/>
              </a:rPr>
              <a:t>笃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4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01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401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901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5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5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25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2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5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5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25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5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5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5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5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5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5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5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5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5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5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25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5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5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5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5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5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山2"/>
          <p:cNvPicPr/>
          <p:nvPr/>
        </p:nvPicPr>
        <p:blipFill>
          <a:blip r:embed="rId1"/>
          <a:stretch/>
        </p:blipFill>
        <p:spPr>
          <a:xfrm>
            <a:off x="-96840" y="2532240"/>
            <a:ext cx="9348840" cy="5289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园徽（初）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11440" y="981000"/>
            <a:ext cx="3976560" cy="39592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826920" y="-63000"/>
            <a:ext cx="51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叶根友毛笔行书简体"/>
              </a:rPr>
              <a:t>目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叶根友毛笔行书简体"/>
              </a:rPr>
              <a:t>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标题"/>
          <p:cNvPicPr/>
          <p:nvPr/>
        </p:nvPicPr>
        <p:blipFill>
          <a:blip r:embed="rId3"/>
          <a:stretch/>
        </p:blipFill>
        <p:spPr>
          <a:xfrm>
            <a:off x="755640" y="981000"/>
            <a:ext cx="3743280" cy="3841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标号"/>
          <p:cNvPicPr/>
          <p:nvPr/>
        </p:nvPicPr>
        <p:blipFill>
          <a:blip r:embed="rId4"/>
          <a:stretch/>
        </p:blipFill>
        <p:spPr>
          <a:xfrm>
            <a:off x="682560" y="1628640"/>
            <a:ext cx="720720" cy="64944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7"/>
          <p:cNvSpPr/>
          <p:nvPr/>
        </p:nvSpPr>
        <p:spPr>
          <a:xfrm>
            <a:off x="826920" y="177192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dobe 繁黑體 Std B"/>
                <a:ea typeface="叶根友毛笔行书简体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8" descr="标号"/>
          <p:cNvPicPr/>
          <p:nvPr/>
        </p:nvPicPr>
        <p:blipFill>
          <a:blip r:embed="rId5"/>
          <a:stretch/>
        </p:blipFill>
        <p:spPr>
          <a:xfrm>
            <a:off x="682560" y="2851200"/>
            <a:ext cx="720720" cy="6490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9"/>
          <p:cNvSpPr/>
          <p:nvPr/>
        </p:nvSpPr>
        <p:spPr>
          <a:xfrm>
            <a:off x="826920" y="299268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dobe 繁黑體 Std B"/>
                <a:ea typeface="叶根友毛笔行书简体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10" descr="标号"/>
          <p:cNvPicPr/>
          <p:nvPr/>
        </p:nvPicPr>
        <p:blipFill>
          <a:blip r:embed="rId6"/>
          <a:stretch/>
        </p:blipFill>
        <p:spPr>
          <a:xfrm>
            <a:off x="682560" y="4219560"/>
            <a:ext cx="720720" cy="6494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1"/>
          <p:cNvSpPr/>
          <p:nvPr/>
        </p:nvSpPr>
        <p:spPr>
          <a:xfrm>
            <a:off x="826920" y="436248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dobe 繁黑體 Std B"/>
                <a:ea typeface="叶根友毛笔行书简体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标号"/>
          <p:cNvPicPr/>
          <p:nvPr/>
        </p:nvPicPr>
        <p:blipFill>
          <a:blip r:embed="rId7"/>
          <a:stretch/>
        </p:blipFill>
        <p:spPr>
          <a:xfrm>
            <a:off x="682560" y="5587920"/>
            <a:ext cx="720720" cy="6494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3"/>
          <p:cNvSpPr/>
          <p:nvPr/>
        </p:nvSpPr>
        <p:spPr>
          <a:xfrm>
            <a:off x="828720" y="573120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dobe 繁黑體 Std B"/>
                <a:ea typeface="叶根友毛笔行书简体"/>
              </a:rPr>
              <a:t>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1587600" y="1766880"/>
            <a:ext cx="32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1587600" y="2989440"/>
            <a:ext cx="32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1619280" y="4357800"/>
            <a:ext cx="32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1619280" y="5654880"/>
            <a:ext cx="32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园徽（初）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611440" y="981000"/>
            <a:ext cx="3976560" cy="395928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3"/>
          <p:cNvSpPr/>
          <p:nvPr/>
        </p:nvSpPr>
        <p:spPr>
          <a:xfrm>
            <a:off x="682560" y="-6228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叶根友毛笔行书简体"/>
              </a:rPr>
              <a:t>标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4" descr="标题"/>
          <p:cNvPicPr/>
          <p:nvPr/>
        </p:nvPicPr>
        <p:blipFill>
          <a:blip r:embed="rId2"/>
          <a:stretch/>
        </p:blipFill>
        <p:spPr>
          <a:xfrm>
            <a:off x="682560" y="981000"/>
            <a:ext cx="3743280" cy="38412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5"/>
          <p:cNvGrpSpPr/>
          <p:nvPr/>
        </p:nvGrpSpPr>
        <p:grpSpPr>
          <a:xfrm>
            <a:off x="682560" y="1366920"/>
            <a:ext cx="8066160" cy="4510080"/>
            <a:chOff x="682560" y="1366920"/>
            <a:chExt cx="8066160" cy="4510080"/>
          </a:xfrm>
        </p:grpSpPr>
        <p:pic>
          <p:nvPicPr>
            <p:cNvPr id="632" name="Picture 6" descr="背景"/>
            <p:cNvPicPr/>
            <p:nvPr/>
          </p:nvPicPr>
          <p:blipFill>
            <a:blip r:embed="rId3"/>
            <a:stretch/>
          </p:blipFill>
          <p:spPr>
            <a:xfrm>
              <a:off x="682560" y="1366920"/>
              <a:ext cx="8066160" cy="45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 Box 7"/>
            <p:cNvSpPr/>
            <p:nvPr/>
          </p:nvSpPr>
          <p:spPr>
            <a:xfrm>
              <a:off x="754920" y="1555920"/>
              <a:ext cx="390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单击此处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4" name="Picture 8" descr="山2"/>
          <p:cNvPicPr/>
          <p:nvPr/>
        </p:nvPicPr>
        <p:blipFill>
          <a:blip r:embed="rId4"/>
          <a:stretch/>
        </p:blipFill>
        <p:spPr>
          <a:xfrm>
            <a:off x="-96840" y="2532240"/>
            <a:ext cx="9348840" cy="5289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山2"/>
          <p:cNvPicPr/>
          <p:nvPr/>
        </p:nvPicPr>
        <p:blipFill>
          <a:blip r:embed="rId1"/>
          <a:stretch/>
        </p:blipFill>
        <p:spPr>
          <a:xfrm>
            <a:off x="-96840" y="2532240"/>
            <a:ext cx="9348840" cy="52894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园徽（初）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11440" y="981000"/>
            <a:ext cx="3976560" cy="3959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背景"/>
          <p:cNvPicPr/>
          <p:nvPr/>
        </p:nvPicPr>
        <p:blipFill>
          <a:blip r:embed="rId3"/>
          <a:stretch/>
        </p:blipFill>
        <p:spPr>
          <a:xfrm>
            <a:off x="682560" y="692280"/>
            <a:ext cx="8066160" cy="50418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2771640" y="4752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叶根友毛笔行书简体"/>
              </a:rPr>
              <a:t>标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6" descr="标题"/>
          <p:cNvPicPr/>
          <p:nvPr/>
        </p:nvPicPr>
        <p:blipFill>
          <a:blip r:embed="rId4"/>
          <a:stretch/>
        </p:blipFill>
        <p:spPr>
          <a:xfrm>
            <a:off x="2771640" y="1521000"/>
            <a:ext cx="3743640" cy="384120"/>
          </a:xfrm>
          <a:prstGeom prst="rect">
            <a:avLst/>
          </a:prstGeom>
          <a:ln w="0">
            <a:noFill/>
          </a:ln>
        </p:spPr>
      </p:pic>
      <p:sp>
        <p:nvSpPr>
          <p:cNvPr id="640" name="Line 7"/>
          <p:cNvSpPr/>
          <p:nvPr/>
        </p:nvSpPr>
        <p:spPr>
          <a:xfrm flipV="1">
            <a:off x="1692360" y="1904760"/>
            <a:ext cx="0" cy="27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1692360" y="4653000"/>
            <a:ext cx="5759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2050920" y="3357720"/>
            <a:ext cx="72072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2760840" y="2990880"/>
            <a:ext cx="718920" cy="16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4006800" y="2992320"/>
            <a:ext cx="720720" cy="16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4716360" y="3357720"/>
            <a:ext cx="719280" cy="129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5807160" y="3357720"/>
            <a:ext cx="720720" cy="1296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4"/>
          <p:cNvSpPr/>
          <p:nvPr/>
        </p:nvSpPr>
        <p:spPr>
          <a:xfrm>
            <a:off x="6516720" y="3357720"/>
            <a:ext cx="7192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山2"/>
          <p:cNvPicPr/>
          <p:nvPr/>
        </p:nvPicPr>
        <p:blipFill>
          <a:blip r:embed="rId1"/>
          <a:stretch/>
        </p:blipFill>
        <p:spPr>
          <a:xfrm>
            <a:off x="-96840" y="2532240"/>
            <a:ext cx="9348840" cy="52894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园徽（初）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11440" y="981000"/>
            <a:ext cx="3976560" cy="3959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背景"/>
          <p:cNvPicPr/>
          <p:nvPr/>
        </p:nvPicPr>
        <p:blipFill>
          <a:blip r:embed="rId3"/>
          <a:stretch/>
        </p:blipFill>
        <p:spPr>
          <a:xfrm>
            <a:off x="682560" y="333360"/>
            <a:ext cx="80661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5"/>
          <p:cNvGrpSpPr/>
          <p:nvPr/>
        </p:nvGrpSpPr>
        <p:grpSpPr>
          <a:xfrm>
            <a:off x="1189080" y="2206800"/>
            <a:ext cx="2085840" cy="2950920"/>
            <a:chOff x="1189080" y="2206800"/>
            <a:chExt cx="2085840" cy="2950920"/>
          </a:xfrm>
        </p:grpSpPr>
        <p:pic>
          <p:nvPicPr>
            <p:cNvPr id="652" name="Picture 6" descr="插图"/>
            <p:cNvPicPr/>
            <p:nvPr/>
          </p:nvPicPr>
          <p:blipFill>
            <a:blip r:embed="rId4"/>
            <a:stretch/>
          </p:blipFill>
          <p:spPr>
            <a:xfrm>
              <a:off x="1189080" y="2206800"/>
              <a:ext cx="2085840" cy="29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Text Box 7"/>
            <p:cNvSpPr/>
            <p:nvPr/>
          </p:nvSpPr>
          <p:spPr>
            <a:xfrm>
              <a:off x="1295640" y="2269800"/>
              <a:ext cx="18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此处添加图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8"/>
          <p:cNvSpPr/>
          <p:nvPr/>
        </p:nvSpPr>
        <p:spPr>
          <a:xfrm>
            <a:off x="3635280" y="2341800"/>
            <a:ext cx="32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1187280" y="3427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叶根友毛笔行书简体"/>
              </a:rPr>
              <a:t>标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0" descr="标题"/>
          <p:cNvPicPr/>
          <p:nvPr/>
        </p:nvPicPr>
        <p:blipFill>
          <a:blip r:embed="rId5"/>
          <a:stretch/>
        </p:blipFill>
        <p:spPr>
          <a:xfrm>
            <a:off x="1187280" y="1387440"/>
            <a:ext cx="3743640" cy="3841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3:43Z</dcterms:modified>
  <cp:revision>0</cp:revision>
  <dc:subject/>
  <dc:title/>
</cp:coreProperties>
</file>