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cashreg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6.jpeg" ContentType="image/jpeg"/>
  <Override PartName="/ppt/media/image21.gif" ContentType="image/gif"/>
  <Override PartName="/ppt/media/image19.jpeg" ContentType="image/jpeg"/>
  <Override PartName="/ppt/media/image18.jpeg" ContentType="image/jpeg"/>
  <Override PartName="/ppt/media/type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17.jpeg" ContentType="image/jpeg"/>
  <Override PartName="/ppt/media/image3.png" ContentType="image/pn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  <p:custShowLst>
    <p:custShow name="自定义放映1" id="0">
      <p:sldLst>
        <p:sld r:id="rId38"/>
        <p:sld r:id="rId40"/>
        <p:sld r:id="rId37"/>
        <p:sld r:id="rId3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94A-FC43-48D4-9ECA-19F19D3B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517-0727-4637-BB58-425CAA7C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91425-2267-4790-B56D-05D0AB87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57D53-D579-4BB4-94FE-FFCBC2E2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8CE98-A110-4F9A-9DDB-DBD2B0D0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4DCE4-16B5-402C-9917-D78C28D2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4000D-795D-4E80-818A-59D8EE5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0DFD1-E3FA-44E2-A1D9-52C37A6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178EB-8B3B-4F46-89C1-633FD86C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D3473-4B84-4F3F-A3C8-5EC6AF0C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B96F8-08B9-4247-A45A-91C688AC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D1196-6966-451D-8CDD-18C5E085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C72-B1A8-45DE-8EFF-BD2ABD21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06398-F044-4DC6-B1EA-336A9D9D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C170A-B839-49A6-965C-6FAA90D4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C2167-7850-4656-999C-479E1E33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799BA-A48E-4526-BB09-D3BDB24E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D3C96-6617-46AC-B3F8-74C436C3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51C7A-1E49-494A-A438-E34C2452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424A1-3C44-497E-9643-92CA3330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6A71F-9906-42D7-A2EE-9237107F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0B8E7-2ACB-4789-B4DA-731C50B5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0C627-7EF2-4FB3-BB48-16E35C30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CD5-1C23-4B85-A6A3-98EDCADB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29287-277C-4958-9E88-BE9B7539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193F3-3E54-4B0F-918F-DE463BC0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ACF83-DDC9-4C06-BC73-A86E130D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8497B-8658-4C45-BA4C-51CEA279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BBAF1-3875-42BC-B6BC-6F9B67FA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AF71C-8965-404A-A4FB-D9AC9DE2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D7952-86E3-4BA2-A524-DDE734E7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A872B-355F-44E4-8B9E-79160D32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4C28D-543F-467C-A985-2F92BC4D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2C789-9337-43BE-ACFF-1BCA328C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F7E4-2766-4D90-9C5C-0ED6E67E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0E1F3-5EA0-4DD3-A9BA-E700DCB1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9FF73-B7A8-4413-B693-56C699AE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0D111-0304-4A4A-BF70-0CD25458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BE90A-9943-45F8-B87E-701CC7A5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755A7-11AB-4CCA-8D6F-E416EF04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8A1E6-D99B-488E-B3CD-DF818827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B056A-C4C5-4D6F-8A47-3A9CFCAC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71EE5-45AC-4DF0-B563-ABFDE55E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79422-B7EA-44C0-A72F-0AD07DCF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3F080-B0D7-4C39-9B81-CCD45C24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5875-56E2-4423-BF8B-6A2CDA1B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A4353-9CBC-41AF-8EE9-ED0FFA48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48C30-1DBE-4A96-8251-C667FD3E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C1AAA-BCA2-4A4A-BA89-E8FE1552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AB12D-F2BF-437F-91E7-425D4FEA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D6C0D-83CC-44E0-BE03-DFCDC180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EB3C1-C580-4CBB-AFAA-5078726E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626DE-1E09-4EC5-825F-4A086DB3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879B8-EA8D-49EB-88DD-F24C4FB6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5FA93-0C02-45D6-89CB-B6EE84DF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A7997-DFF1-4C34-BABB-465C3BCF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4E78-6421-49BB-812A-C51221D0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93C1E-BD75-4155-86EB-3F586C34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3741E-D206-4249-B252-936E65E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69492-AD07-43EF-9B58-87AB3849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C6494-756C-4359-9F63-05C2193F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8FB3D-B0BA-4B14-84CA-134E73E5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1EC61-AC43-4C7E-BF20-22B4B637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842AE-BFAA-4FC5-8A36-72CF1D11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7607-46AF-498E-A1D0-377B920C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49E0-D52D-4124-AF45-D20BE489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549A-DC9D-4E51-AC40-C51F8433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E451-245E-4E85-ADCF-7654D644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684-729B-4D5D-BE68-5007C862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A54D-4E3C-4E47-A797-C37C4F95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0A7F-4F7C-4DA9-A92F-22E44802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D932-F71D-4588-A8B2-9443849B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3C56-E58C-4A01-9644-208CFF7D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B6ED-4232-4CE4-A45E-A3E770FD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55A0-81F4-483D-B71E-39C438AE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86935-B82E-41F8-BCB1-2EDBC4A1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5C26-0897-4118-838F-D9E95227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723BD-295A-4B60-83A5-544E0640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E8C2-D62F-4B04-8B58-1FBF82E7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D84-35EF-497A-BDE6-6B759DBD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ACF4-56BC-4D3C-9FBC-26DDA434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51EA-985B-4316-877D-B301E77B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E4DB-104A-4D5B-B373-0A91DE33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7B3CE-AA88-4271-AC77-08705B69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D2D9-A263-48E2-B149-82B04516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A0AB-EA0D-4684-8910-1203D9DC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F041-5F7D-404F-ACC6-DACFF3EB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1A43-4A4A-46A7-AD18-B7C3B360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52CC-0F97-4B75-AAB6-4BABEB61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AD71D-8B05-4BB1-BB92-8630FE4F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779-63B0-4A62-8E5E-4B4D2658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20247-0F2E-4F2F-97E9-4EDFF8B2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78B78-5678-4824-AC3C-20410425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434E-E3C1-4D94-8E62-DC42BFA4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002A-8042-404B-80D7-4DF58411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83935-9D53-4839-9626-11326D5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8FCD3-4ADA-48AA-8A33-48E99909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F493D-0531-49A5-AB77-38B43549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34D2-264C-499C-B569-6E458566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B9B31-1331-4E66-9B08-BCEBB92A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0F9AE-8AD4-4A6A-B6D8-02F73338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C78-50C6-4ED1-9323-E8FAB671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B70AF-303F-473C-A87B-C3F063BD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6886E-05E9-41A9-BA15-0B7EACD3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E99BF-334A-4FE9-B1CA-036A2B43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E2898-36A3-4A2E-8C22-649EE6F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B9FEB-16AE-4B0F-9970-2A9670C6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580E3-C109-400E-8B61-14DC4174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B6B86-20C2-4519-97D7-2090CD85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B1AE1-FBF4-4199-ADE8-373A71F2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9F8C3-83DC-48B5-BB6C-1670CD13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F2CC-5883-4ACE-886A-644035EE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8D7-D5BB-4AAF-9B2C-A54C5DFD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552DE-56DE-4B0F-9D78-5A4471E3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00FBC-D4A8-4A7D-A979-6CC52D8F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141DC-0907-4F64-9233-8D04AA04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9C3C7-762F-49D0-AE9C-44BD906A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310D9-0854-4CDA-9AD2-3AC9D486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A53AB-0865-4670-B75A-B11FDD4C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3C167-CE80-4D1D-AA86-A4839C59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E5BF2-156B-49A3-A599-424A0385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D2C63-71C6-4608-90FB-F17AF03B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2AA4-5497-42BA-A5A7-6FA73458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8A1-7F84-462F-BA39-59BD71D7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60E9F-1D19-435A-8102-168EE91E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82513-4D44-48C7-8F83-06E19FAD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00876-C429-49D3-B853-706524FD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09FF4-1902-4018-A455-4137468D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4E02A-FA6D-406A-98CB-159D0B46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6587-D79A-41AA-BBF5-0FFAD9F2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B9272-7D94-421F-BA4B-D0EFC4BC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39B27-5524-43E6-B46F-9FBD9E25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AE541-751B-4AC6-B610-B32B070B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F73A6-01E7-4A75-A97D-12DF3E70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D91-A69D-41CC-AF6D-24ADBE3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6AC72-0336-4B44-A689-E0B36237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A564-4BEB-4926-A511-DF4276F7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6A54C-5764-427B-B2B6-E38A2A34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E3792-1BE8-4891-BA89-247B0E2E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4A7C5-2E04-4F74-A891-033C9C45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0A2AD-7EE3-4C2F-AD63-17545865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55938-8C9E-4617-8E44-DAAF4054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905B8-9464-4464-906E-F89A6315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802CC-CD79-4768-9A25-0FA6E195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FBDB5-B9A6-4245-80ED-D407FA41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690-A602-4818-BEB7-17A524BC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970AE-B9C1-463D-9120-22078DC2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5FC3C-1430-43CF-8136-0B2E65D5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52402-4472-4785-8E91-DEAC6FED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1970-94DC-4F0C-89B3-DD82B5FF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D3FA5-4E12-4EC1-8F39-72620CF2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0D077-2DC6-4734-BDD7-5EB33230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7DB9E-228B-4540-BF80-2B6F17D9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8E3A6-B4FE-4035-9FD9-479DB510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98347-B3B0-49E9-A961-B4CF3167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DE937-4F9E-482E-81E7-1F004A12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45FC-FFA8-4CF3-A437-5EA2CA981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274F-7863-48ED-82CD-3F1C8571DA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FF6D-0A65-4A61-BB71-634CC15FFF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79C5-D393-4DB7-9527-6DEC233D65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5513-77C9-44AD-AC9C-5801B2E0FC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C85A-3DEB-4310-B201-A5897F0CD7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4070-BFF3-49D9-BFA5-50865EFCA8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A97-95AE-4A52-97A2-98D5DAD101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6855-A590-43E0-9189-68280289B2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C4FE-519C-497B-BB87-1F57E79EB1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BBDA-1BF9-41CE-A6D4-82F1335FBE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0684-ED7D-4CA6-8745-6D844DC37A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31F1-0FC7-4A0F-A49C-C2F5B20E5D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" Target="slide4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.xml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bianhao05"/>
          <p:cNvPicPr/>
          <p:nvPr/>
        </p:nvPicPr>
        <p:blipFill>
          <a:blip r:embed="rId2"/>
          <a:stretch/>
        </p:blipFill>
        <p:spPr>
          <a:xfrm>
            <a:off x="609480" y="5867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bianhao05"/>
          <p:cNvPicPr/>
          <p:nvPr/>
        </p:nvPicPr>
        <p:blipFill>
          <a:blip r:embed="rId3"/>
          <a:stretch/>
        </p:blipFill>
        <p:spPr>
          <a:xfrm>
            <a:off x="4495680" y="5638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3" descr="bianhao05"/>
          <p:cNvPicPr/>
          <p:nvPr/>
        </p:nvPicPr>
        <p:blipFill>
          <a:blip r:embed="rId4"/>
          <a:stretch/>
        </p:blipFill>
        <p:spPr>
          <a:xfrm>
            <a:off x="266688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4" descr="bianhao05"/>
          <p:cNvPicPr/>
          <p:nvPr/>
        </p:nvPicPr>
        <p:blipFill>
          <a:blip r:embed="rId5"/>
          <a:stretch/>
        </p:blipFill>
        <p:spPr>
          <a:xfrm>
            <a:off x="693432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8" descr="bianhao05"/>
          <p:cNvPicPr/>
          <p:nvPr/>
        </p:nvPicPr>
        <p:blipFill>
          <a:blip r:embed="rId6"/>
          <a:stretch/>
        </p:blipFill>
        <p:spPr>
          <a:xfrm>
            <a:off x="7467480" y="10666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38" name="WordArt 20"/>
          <p:cNvSpPr txBox="1"/>
          <p:nvPr/>
        </p:nvSpPr>
        <p:spPr>
          <a:xfrm>
            <a:off x="635040" y="1066680"/>
            <a:ext cx="248904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07932" dir="2700000" blurRad="0" rotWithShape="0">
                    <a:srgbClr val="ffccff"/>
                  </a:outerShdw>
                </a:effectLst>
                <a:latin typeface="华文行楷"/>
              </a:rPr>
              <a:t>猫</a:t>
            </a:r>
            <a:endParaRPr b="0" lang="en-US" sz="4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07932" dir="2700000" blurRad="0" rotWithShape="0">
                  <a:srgbClr val="ffccff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539" name="Group 23"/>
          <p:cNvGrpSpPr/>
          <p:nvPr/>
        </p:nvGrpSpPr>
        <p:grpSpPr>
          <a:xfrm>
            <a:off x="304920" y="0"/>
            <a:ext cx="4190760" cy="1371600"/>
            <a:chOff x="304920" y="0"/>
            <a:chExt cx="4190760" cy="1371600"/>
          </a:xfrm>
        </p:grpSpPr>
        <p:sp>
          <p:nvSpPr>
            <p:cNvPr id="540" name="Text Box 21"/>
            <p:cNvSpPr/>
            <p:nvPr/>
          </p:nvSpPr>
          <p:spPr>
            <a:xfrm>
              <a:off x="380880" y="0"/>
              <a:ext cx="380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22"/>
            <p:cNvSpPr/>
            <p:nvPr/>
          </p:nvSpPr>
          <p:spPr>
            <a:xfrm>
              <a:off x="304920" y="609480"/>
              <a:ext cx="4190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矩形 1"/>
          <p:cNvSpPr/>
          <p:nvPr/>
        </p:nvSpPr>
        <p:spPr>
          <a:xfrm>
            <a:off x="2523960" y="652320"/>
            <a:ext cx="53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四年级之猫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矩形 12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dalianmao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380880" y="4479840"/>
            <a:ext cx="8458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它听到老鼠的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一点响动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，又是多么</a:t>
            </a:r>
            <a:r>
              <a:rPr b="1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尽职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。它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屏息凝视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，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一连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就是几个钟头，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非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把老鼠等出来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不可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7620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200807212025435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3413880" y="3733920"/>
            <a:ext cx="3664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自由朗读第二自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画出表现猫古怪性格的词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讨论课文是怎样表现猫的性格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者对猫是一种什么样的感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哪里看出来的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1523880" y="2286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60f6"/>
                </a:solidFill>
                <a:latin typeface="Times New Roman"/>
                <a:ea typeface="华文行楷"/>
              </a:rPr>
              <a:t>句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590920" y="990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60f6"/>
                </a:solidFill>
                <a:latin typeface="Times New Roman"/>
                <a:ea typeface="华文行楷"/>
              </a:rPr>
              <a:t>句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228600" y="1066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行楷"/>
              </a:rPr>
              <a:t>句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594360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行楷"/>
              </a:rPr>
              <a:t>句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7924680" y="22860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762120" y="1905120"/>
            <a:ext cx="807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      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用身子蹭你的腿</a:t>
            </a: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,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把脖子伸出来要求抓痒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762120" y="190512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      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用身子</a:t>
            </a:r>
            <a:r>
              <a:rPr b="0" lang="zh-CN" sz="6000" spc="-1" strike="noStrike">
                <a:solidFill>
                  <a:srgbClr val="3333cc"/>
                </a:solidFill>
                <a:latin typeface="华文新魏"/>
                <a:ea typeface="华文新魏"/>
              </a:rPr>
              <a:t>蹭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你的腿</a:t>
            </a: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,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把脖子</a:t>
            </a:r>
            <a:r>
              <a:rPr b="0" lang="zh-CN" sz="6000" spc="-1" strike="noStrike">
                <a:solidFill>
                  <a:srgbClr val="3333cc"/>
                </a:solidFill>
                <a:latin typeface="华文新魏"/>
                <a:ea typeface="华文新魏"/>
              </a:rPr>
              <a:t>伸出来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要求抓痒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4" descr="152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0" y="0"/>
            <a:ext cx="944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1daf"/>
                </a:solidFill>
                <a:latin typeface="华文新魏"/>
                <a:ea typeface="华文新魏"/>
              </a:rPr>
              <a:t>      </a:t>
            </a:r>
            <a:r>
              <a:rPr b="0" lang="zh-CN" sz="5400" spc="-1" strike="noStrike">
                <a:solidFill>
                  <a:srgbClr val="091daf"/>
                </a:solidFill>
                <a:latin typeface="华文新魏"/>
                <a:ea typeface="华文新魏"/>
              </a:rPr>
              <a:t>在你写作的时候，跳上桌来，在稿纸上踩印几朵小梅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457200" y="12193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你写作的时候，跳上桌来，在稿纸上踩印几朵小梅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457200" y="3200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3a763a"/>
                </a:solidFill>
                <a:latin typeface="华文新魏"/>
                <a:ea typeface="华文新魏"/>
              </a:rPr>
              <a:t>在你写作的时候，跳上桌来，在稿纸上踩印几个脏脚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457200" y="1219320"/>
            <a:ext cx="8458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你写作的时候，跳上桌来，在稿纸上踩印几朵</a:t>
            </a:r>
            <a:r>
              <a:rPr b="0" lang="zh-CN" sz="4800" spc="-1" strike="noStrike">
                <a:solidFill>
                  <a:srgbClr val="f94919"/>
                </a:solidFill>
                <a:latin typeface="华文新魏"/>
                <a:ea typeface="华文新魏"/>
              </a:rPr>
              <a:t>小梅花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457200" y="3200400"/>
            <a:ext cx="8458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3a763a"/>
                </a:solidFill>
                <a:latin typeface="华文新魏"/>
                <a:ea typeface="华文新魏"/>
              </a:rPr>
              <a:t>在你写作的时候，跳上桌来，在稿纸上踩印几个</a:t>
            </a:r>
            <a:r>
              <a:rPr b="0" lang="zh-CN" sz="4800" spc="-1" strike="noStrike">
                <a:solidFill>
                  <a:srgbClr val="f94919"/>
                </a:solidFill>
                <a:latin typeface="华文新魏"/>
                <a:ea typeface="华文新魏"/>
              </a:rPr>
              <a:t>脏脚印</a:t>
            </a:r>
            <a:r>
              <a:rPr b="0" lang="zh-CN" sz="4800" spc="-1" strike="noStrike">
                <a:solidFill>
                  <a:srgbClr val="3a763a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184"/>
          <p:cNvPicPr/>
          <p:nvPr/>
        </p:nvPicPr>
        <p:blipFill>
          <a:blip r:embed="rId1"/>
          <a:stretch/>
        </p:blipFill>
        <p:spPr>
          <a:xfrm>
            <a:off x="-304920" y="-76320"/>
            <a:ext cx="9677520" cy="710244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5"/>
          <p:cNvSpPr/>
          <p:nvPr/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还会丰富多腔地叫唤，长短不同，粗细各异，变化多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3"/>
          <p:cNvSpPr/>
          <p:nvPr/>
        </p:nvSpPr>
        <p:spPr>
          <a:xfrm>
            <a:off x="685800" y="3505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还会怪声怪气地号叫，让人听了心烦。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还会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丰富多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叫唤，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长短不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粗细各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变化多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68389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读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画出表现猫性格古怪的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WordArt 3"/>
          <p:cNvSpPr txBox="1"/>
          <p:nvPr/>
        </p:nvSpPr>
        <p:spPr>
          <a:xfrm>
            <a:off x="1619280" y="2133720"/>
            <a:ext cx="4205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老实、贪玩、尽职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971640" y="3357720"/>
            <a:ext cx="547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画出相关的句子，读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76212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不叫的时候，它还会咕噜咕噜地给自己解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76212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不叫的时候，它还会</a:t>
            </a:r>
            <a:r>
              <a:rPr b="1" lang="zh-CN" sz="4000" spc="-1" strike="noStrike">
                <a:solidFill>
                  <a:srgbClr val="f94919"/>
                </a:solidFill>
                <a:latin typeface="Times New Roman"/>
                <a:ea typeface="楷体_GB2312"/>
              </a:rPr>
              <a:t>咕噜咕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给自己解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b1a5"/>
            </a:gs>
            <a:gs pos="50000">
              <a:srgbClr val="d8ecee"/>
            </a:gs>
            <a:gs pos="100000">
              <a:srgbClr val="4fb1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685800" y="19051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他什么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想藏起来。可是它又那么勇猛，不要说见着小虫和老鼠，就是遇上蛇也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505320" y="19051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都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3203640" y="40766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敢斗一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7467480" y="5638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dx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dx1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dx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dx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b1a5"/>
            </a:gs>
            <a:gs pos="50000">
              <a:srgbClr val="d8ecee"/>
            </a:gs>
            <a:gs pos="100000">
              <a:srgbClr val="4fb1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685800" y="19051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他什么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想藏起来。可是它又那么勇猛，不要说见着小虫和老鼠，就是遇上蛇也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3505320" y="19051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都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3132000" y="414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敢斗一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7467480" y="5638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b1a5"/>
            </a:gs>
            <a:gs pos="50000">
              <a:srgbClr val="d8ecee"/>
            </a:gs>
            <a:gs pos="100000">
              <a:srgbClr val="4fb1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685800" y="19051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他什么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想藏起来。可是它又那么勇猛，不要说见着小虫和老鼠，就是遇上蛇也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3492360" y="1916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都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3132000" y="414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敢斗一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7467480" y="5638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PM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RT_002"/>
          <p:cNvPicPr/>
          <p:nvPr/>
        </p:nvPicPr>
        <p:blipFill>
          <a:blip r:embed="rId2"/>
          <a:stretch/>
        </p:blipFill>
        <p:spPr>
          <a:xfrm>
            <a:off x="7696080" y="30492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6"/>
          <p:cNvSpPr/>
          <p:nvPr/>
        </p:nvSpPr>
        <p:spPr>
          <a:xfrm>
            <a:off x="4191120" y="58672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1332000" y="134136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猫的性格古怪，主要表现在：它既（              ）又（              ），既贪玩又 （          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既胆小又（                    ）；高兴时，（                                  ），不高兴时，（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19920" y="525780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027"/>
          <p:cNvSpPr/>
          <p:nvPr/>
        </p:nvSpPr>
        <p:spPr>
          <a:xfrm>
            <a:off x="4378680" y="250992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028"/>
          <p:cNvSpPr/>
          <p:nvPr/>
        </p:nvSpPr>
        <p:spPr>
          <a:xfrm>
            <a:off x="2549880" y="518148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1029" descr="SLEEP-2"/>
          <p:cNvPicPr/>
          <p:nvPr/>
        </p:nvPicPr>
        <p:blipFill>
          <a:blip r:embed="rId4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030" descr="Cat on the tree"/>
          <p:cNvPicPr/>
          <p:nvPr/>
        </p:nvPicPr>
        <p:blipFill>
          <a:blip r:embed="rId5"/>
          <a:stretch/>
        </p:blipFill>
        <p:spPr>
          <a:xfrm>
            <a:off x="0" y="0"/>
            <a:ext cx="4800600" cy="3233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031" descr="paode Cat"/>
          <p:cNvPicPr/>
          <p:nvPr/>
        </p:nvPicPr>
        <p:blipFill>
          <a:blip r:embed="rId6"/>
          <a:stretch/>
        </p:blipFill>
        <p:spPr>
          <a:xfrm>
            <a:off x="4724280" y="0"/>
            <a:ext cx="4419720" cy="32544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032">
            <a:hlinkClick r:id="rId7" action="ppaction://hlinksldjump"/>
          </p:cNvPr>
          <p:cNvSpPr/>
          <p:nvPr/>
        </p:nvSpPr>
        <p:spPr>
          <a:xfrm>
            <a:off x="4604040" y="5562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76f040"/>
                </a:solidFill>
                <a:latin typeface="Times New Roman"/>
                <a:ea typeface="隶书"/>
              </a:rPr>
              <a:t>老实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33">
            <a:hlinkClick r:id="rId8" action="ppaction://hlinksldjump"/>
          </p:cNvPr>
          <p:cNvSpPr/>
          <p:nvPr/>
        </p:nvSpPr>
        <p:spPr>
          <a:xfrm>
            <a:off x="2895480" y="22543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0f44e"/>
                </a:solidFill>
                <a:latin typeface="Times New Roman"/>
                <a:ea typeface="华文新魏"/>
              </a:rPr>
              <a:t>贪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35">
            <a:hlinkClick r:id="rId9" action="ppaction://hlinksldjump"/>
          </p:cNvPr>
          <p:cNvSpPr/>
          <p:nvPr/>
        </p:nvSpPr>
        <p:spPr>
          <a:xfrm>
            <a:off x="6172200" y="220968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5460f6"/>
                </a:solidFill>
                <a:latin typeface="Times New Roman"/>
                <a:ea typeface="华文行楷"/>
              </a:rPr>
              <a:t>尽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037">
            <a:hlinkClick r:id="rId10" action="ppaction://hlinksldjump"/>
          </p:cNvPr>
          <p:cNvSpPr/>
          <p:nvPr/>
        </p:nvSpPr>
        <p:spPr>
          <a:xfrm>
            <a:off x="7620120" y="6216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dissolve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5067360"/>
            <a:ext cx="874872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说它</a:t>
            </a: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老实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吧，它的确有时候很乖。它会找个暖和的地方，成天睡大觉，无忧无虑，什么事也不过问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5143680"/>
            <a:ext cx="874872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说它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老实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吧，它的确有时候很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乖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。它会找个暖和的地方，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成天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睡大觉，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无忧无虑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，什么事也不过问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620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026" descr="cat23"/>
          <p:cNvPicPr/>
          <p:nvPr/>
        </p:nvPicPr>
        <p:blipFill>
          <a:blip r:embed="rId2"/>
          <a:stretch/>
        </p:blipFill>
        <p:spPr>
          <a:xfrm>
            <a:off x="3708360" y="3789360"/>
            <a:ext cx="914400" cy="1467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27"/>
          <p:cNvSpPr/>
          <p:nvPr/>
        </p:nvSpPr>
        <p:spPr>
          <a:xfrm>
            <a:off x="1187280" y="5300640"/>
            <a:ext cx="541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028"/>
          <p:cNvSpPr/>
          <p:nvPr/>
        </p:nvSpPr>
        <p:spPr>
          <a:xfrm>
            <a:off x="0" y="52578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它决定要出去玩玩，就会出走一天一夜，任凭谁怎么呼唤，它也不肯回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cat23"/>
          <p:cNvPicPr/>
          <p:nvPr/>
        </p:nvPicPr>
        <p:blipFill>
          <a:blip r:embed="rId2"/>
          <a:stretch/>
        </p:blipFill>
        <p:spPr>
          <a:xfrm>
            <a:off x="3708360" y="3789360"/>
            <a:ext cx="914400" cy="1467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3"/>
          <p:cNvSpPr/>
          <p:nvPr/>
        </p:nvSpPr>
        <p:spPr>
          <a:xfrm>
            <a:off x="1187280" y="5300640"/>
            <a:ext cx="541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0" y="52578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它决定要出去玩玩，就会出走</a:t>
            </a: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一天一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，任凭谁</a:t>
            </a: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怎么呼唤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，它也不肯回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7924680" y="6216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1026" descr="dalianmao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1027"/>
          <p:cNvSpPr/>
          <p:nvPr/>
        </p:nvSpPr>
        <p:spPr>
          <a:xfrm>
            <a:off x="380880" y="447984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它听到老鼠的一点响动，又是多么</a:t>
            </a:r>
            <a:r>
              <a:rPr b="1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尽职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。它屏息凝视，一连就是几个钟头，非把老鼠等出来不可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23:36:18Z</dcterms:created>
  <dc:creator/>
  <dc:description/>
  <cp:keywords>幻灯片之家 http:/www.eeppt.com</cp:keywords>
  <dc:language>en-US</dc:language>
  <cp:lastModifiedBy/>
  <dcterms:modified xsi:type="dcterms:W3CDTF">2015-07-20T03:07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