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jpeg" ContentType="image/jpeg"/>
  <Override PartName="/ppt/media/image7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7C7C-125E-44E3-B0F5-EE9B0388C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美黑简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美黑简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45C9-4C85-4AF6-AB21-89E639A5D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美黑简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美黑简体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美黑简体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美黑简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03B2-E698-4C2C-8191-5D1900046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美黑简体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美黑简体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美黑简体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美黑简体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美黑简体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美黑简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268A-FF2F-4ED2-BB01-0E7CB6ECB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AEAB6-4BA9-46A6-8D4A-41E89268F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美黑简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5FE2C-ED1D-4976-98CD-B3EF91444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美黑简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3E8BB-0779-4386-B996-0C3206F90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美黑简体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美黑简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BE17F-7D9B-4639-A0B2-347456A07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CC5EC-ACE9-4E19-AFC3-C7A3B1F95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美黑简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EC5BD-E046-436F-815D-02C8C18D9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美黑简体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美黑简体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美黑简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58D4D-0764-46D5-9D20-8E3BB63BD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美黑简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F7A0-2FA5-4026-B723-BC859763D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美黑简体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美黑简体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美黑简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75DA1-15EC-444A-86E7-42484B066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美黑简体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美黑简体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美黑简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AEE0A-DFBC-4159-85E2-891966817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美黑简体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美黑简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B6F6D-1D78-40E4-ADD1-70A4DB030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美黑简体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美黑简体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美黑简体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美黑简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258D3-5F0C-4FD7-8670-204046B63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美黑简体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美黑简体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美黑简体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美黑简体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美黑简体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美黑简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1F429-51A1-4E3D-AF83-FFD09C858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美黑简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3C30-7F75-4080-B66D-9265343A6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美黑简体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美黑简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0865-7D4D-4E40-AA10-A446D6D0D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F4DF-0386-44C4-A350-887CDF252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美黑简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1649-0AC4-450A-996B-64A5F57B7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美黑简体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美黑简体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美黑简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E572-F5C0-4739-A2AA-435B2B795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美黑简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美黑简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美黑简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3142-C65A-4B52-87E1-3EF931363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美黑简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美黑简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美黑简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1B8A-A11F-42FE-893E-E7689554E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美黑简体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方正美黑简体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美黑简体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方正美黑简体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美黑简体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方正美黑简体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美黑简体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方正美黑简体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美黑简体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方正美黑简体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美黑简体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方正美黑简体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美黑简体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方正美黑简体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CA541-6BEC-4429-B86B-C3FBC2F7C8E0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7A984-CFEB-4B34-8450-BBE959015C5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48E75-BC73-4C42-A5A8-951ECB4F0911}" type="datetime">
              <a:rPr b="0" lang="zh-CN" sz="9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6D1E4-3103-4D0D-A058-E176A7939CEA}" type="slidenum">
              <a:rPr b="0" lang="zh-CN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5"/>
          <p:cNvSpPr/>
          <p:nvPr/>
        </p:nvSpPr>
        <p:spPr>
          <a:xfrm>
            <a:off x="4700520" y="2813040"/>
            <a:ext cx="4415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b0200"/>
                </a:solidFill>
                <a:latin typeface="方正瘦金书繁体"/>
                <a:ea typeface="方正瘦金书繁体"/>
              </a:rPr>
              <a:t>照亮</a:t>
            </a:r>
            <a:r>
              <a:rPr b="1" lang="zh-CN" sz="3200" spc="-1" strike="noStrike">
                <a:solidFill>
                  <a:srgbClr val="ffffff"/>
                </a:solidFill>
                <a:latin typeface="造字工房悦黑体验版纤细体"/>
              </a:rPr>
              <a:t>你自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1"/>
          <p:cNvSpPr/>
          <p:nvPr/>
        </p:nvSpPr>
        <p:spPr>
          <a:xfrm>
            <a:off x="3160800" y="987480"/>
            <a:ext cx="3872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商务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4"/>
          <p:cNvSpPr/>
          <p:nvPr/>
        </p:nvSpPr>
        <p:spPr>
          <a:xfrm>
            <a:off x="239760" y="458784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Box 2"/>
          <p:cNvSpPr/>
          <p:nvPr/>
        </p:nvSpPr>
        <p:spPr>
          <a:xfrm>
            <a:off x="3780000" y="2946240"/>
            <a:ext cx="417672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95959"/>
                </a:solidFill>
                <a:latin typeface="方正美黑简体"/>
              </a:rPr>
              <a:t>如何取得</a:t>
            </a:r>
            <a:r>
              <a:rPr b="1" lang="zh-CN" sz="4800" spc="-1" strike="noStrike">
                <a:solidFill>
                  <a:srgbClr val="00b0f0"/>
                </a:solidFill>
                <a:latin typeface="方正美黑简体"/>
              </a:rPr>
              <a:t>真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95959"/>
                </a:solidFill>
                <a:latin typeface="方正美黑简体"/>
              </a:rPr>
              <a:t>取</a:t>
            </a:r>
            <a:r>
              <a:rPr b="1" lang="zh-CN" sz="4800" spc="-1" strike="noStrike">
                <a:solidFill>
                  <a:srgbClr val="00b0f0"/>
                </a:solidFill>
                <a:latin typeface="方正美黑简体"/>
              </a:rPr>
              <a:t>悦</a:t>
            </a:r>
            <a:r>
              <a:rPr b="1" lang="zh-CN" sz="3600" spc="-1" strike="noStrike">
                <a:solidFill>
                  <a:srgbClr val="595959"/>
                </a:solidFill>
                <a:latin typeface="方正美黑简体"/>
              </a:rPr>
              <a:t>观众</a:t>
            </a:r>
            <a:r>
              <a:rPr b="1" lang="zh-CN" sz="5400" spc="-1" strike="noStrike">
                <a:solidFill>
                  <a:srgbClr val="3f3f3f"/>
                </a:solidFill>
                <a:latin typeface="方正美黑简体"/>
              </a:rPr>
              <a:t>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Box 1"/>
          <p:cNvSpPr/>
          <p:nvPr/>
        </p:nvSpPr>
        <p:spPr>
          <a:xfrm>
            <a:off x="755640" y="627120"/>
            <a:ext cx="302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方正美黑简体"/>
              </a:rPr>
              <a:t>解除</a:t>
            </a:r>
            <a:r>
              <a:rPr b="1" lang="zh-CN" sz="4800" spc="-1" strike="noStrike">
                <a:solidFill>
                  <a:srgbClr val="00b0f0"/>
                </a:solidFill>
                <a:latin typeface="方正美黑简体"/>
              </a:rPr>
              <a:t>烦恼</a:t>
            </a:r>
            <a:r>
              <a:rPr b="1" lang="zh-CN" sz="3600" spc="-1" strike="noStrike">
                <a:solidFill>
                  <a:srgbClr val="ffffff"/>
                </a:solidFill>
                <a:latin typeface="方正美黑简体"/>
              </a:rPr>
              <a:t>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Box 2"/>
          <p:cNvSpPr/>
          <p:nvPr/>
        </p:nvSpPr>
        <p:spPr>
          <a:xfrm>
            <a:off x="2627280" y="2055960"/>
            <a:ext cx="5329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华文隶书"/>
                <a:ea typeface="华文隶书"/>
              </a:rPr>
              <a:t>谢谢观看！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1"/>
          <p:cNvSpPr/>
          <p:nvPr/>
        </p:nvSpPr>
        <p:spPr>
          <a:xfrm>
            <a:off x="6806160" y="4443480"/>
            <a:ext cx="38304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c0c0c"/>
                </a:solidFill>
                <a:latin typeface="方正美黑简体"/>
                <a:ea typeface="造字工房悦黑体验版纤细体"/>
              </a:rPr>
              <a:t>PPT</a:t>
            </a:r>
            <a:r>
              <a:rPr b="0" lang="zh-CN" sz="100" spc="-1" strike="noStrike">
                <a:solidFill>
                  <a:srgbClr val="0c0c0c"/>
                </a:solidFill>
                <a:latin typeface="方正美黑简体"/>
              </a:rPr>
              <a:t>模板下载：</a:t>
            </a:r>
            <a:r>
              <a:rPr b="0" lang="en-US" sz="100" spc="-1" strike="noStrike">
                <a:solidFill>
                  <a:srgbClr val="0c0c0c"/>
                </a:solidFill>
                <a:latin typeface="方正美黑简体"/>
                <a:ea typeface="造字工房悦黑体验版纤细体"/>
              </a:rPr>
              <a:t>www.1ppt.com/mob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1116000" y="4732200"/>
            <a:ext cx="676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ffffff"/>
                </a:solidFill>
                <a:latin typeface="Verdana"/>
              </a:rPr>
              <a:t>之家整理发布，更多免费</a:t>
            </a:r>
            <a:r>
              <a:rPr b="1" lang="zh-CN" sz="1400" spc="-1" strike="noStrike">
                <a:solidFill>
                  <a:srgbClr val="ffffff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ffffff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ffffff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灯片编号占位符 4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BA6F5-0A69-47EB-94C5-B76170B57B7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3"/>
          <p:cNvSpPr/>
          <p:nvPr/>
        </p:nvSpPr>
        <p:spPr>
          <a:xfrm>
            <a:off x="2473200" y="695160"/>
            <a:ext cx="37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美黑简体"/>
              </a:rPr>
              <a:t>演示目录是平淡无奇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图表 1" descr=""/>
          <p:cNvPicPr/>
          <p:nvPr/>
        </p:nvPicPr>
        <p:blipFill>
          <a:blip r:embed="rId1"/>
          <a:stretch/>
        </p:blipFill>
        <p:spPr>
          <a:xfrm>
            <a:off x="2389320" y="1500120"/>
            <a:ext cx="4632120" cy="3087720"/>
          </a:xfrm>
          <a:prstGeom prst="rect">
            <a:avLst/>
          </a:prstGeom>
          <a:ln w="0">
            <a:noFill/>
          </a:ln>
        </p:spPr>
      </p:pic>
      <p:sp>
        <p:nvSpPr>
          <p:cNvPr id="88" name="直接连接符 5"/>
          <p:cNvSpPr/>
          <p:nvPr/>
        </p:nvSpPr>
        <p:spPr>
          <a:xfrm flipV="1">
            <a:off x="5730840" y="1787040"/>
            <a:ext cx="289080" cy="289080"/>
          </a:xfrm>
          <a:prstGeom prst="line">
            <a:avLst/>
          </a:prstGeom>
          <a:ln w="6480">
            <a:solidFill>
              <a:srgbClr val="59595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6"/>
          <p:cNvSpPr/>
          <p:nvPr/>
        </p:nvSpPr>
        <p:spPr>
          <a:xfrm>
            <a:off x="6019920" y="1581120"/>
            <a:ext cx="208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方正美黑简体"/>
              </a:rPr>
              <a:t>新颖创意的</a:t>
            </a:r>
            <a:r>
              <a:rPr b="0" lang="en-US" sz="1800" spc="-1" strike="noStrike">
                <a:solidFill>
                  <a:srgbClr val="000000"/>
                </a:solidFill>
                <a:latin typeface="Kozuka Gothic Pr6N M"/>
                <a:ea typeface="Kozuka Gothic Pr6N M"/>
              </a:rPr>
              <a:t>1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7"/>
          <p:cNvSpPr/>
          <p:nvPr/>
        </p:nvSpPr>
        <p:spPr>
          <a:xfrm>
            <a:off x="1200240" y="411480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方正美黑简体"/>
              </a:rPr>
              <a:t>非新颖创意的</a:t>
            </a:r>
            <a:r>
              <a:rPr b="0" lang="en-US" sz="1800" spc="-1" strike="noStrike">
                <a:solidFill>
                  <a:srgbClr val="000000"/>
                </a:solidFill>
                <a:latin typeface="Kozuka Gothic Pr6N M"/>
                <a:ea typeface="Kozuka Gothic Pr6N M"/>
              </a:rPr>
              <a:t>8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直接连接符 9"/>
          <p:cNvSpPr/>
          <p:nvPr/>
        </p:nvSpPr>
        <p:spPr>
          <a:xfrm flipV="1">
            <a:off x="3360600" y="3971520"/>
            <a:ext cx="287640" cy="289080"/>
          </a:xfrm>
          <a:prstGeom prst="line">
            <a:avLst/>
          </a:prstGeom>
          <a:ln w="6480">
            <a:solidFill>
              <a:srgbClr val="59595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组合 12"/>
          <p:cNvGrpSpPr/>
          <p:nvPr/>
        </p:nvGrpSpPr>
        <p:grpSpPr>
          <a:xfrm>
            <a:off x="1146240" y="270000"/>
            <a:ext cx="1411200" cy="1008360"/>
            <a:chOff x="1146240" y="270000"/>
            <a:chExt cx="1411200" cy="1008360"/>
          </a:xfrm>
        </p:grpSpPr>
        <p:sp>
          <p:nvSpPr>
            <p:cNvPr id="93" name="TextBox 2"/>
            <p:cNvSpPr/>
            <p:nvPr/>
          </p:nvSpPr>
          <p:spPr>
            <a:xfrm>
              <a:off x="1146240" y="270000"/>
              <a:ext cx="1109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fb0200"/>
                  </a:solidFill>
                  <a:latin typeface="Kozuka Gothic Pr6N M"/>
                  <a:ea typeface="Kozuka Gothic Pr6N M"/>
                </a:rPr>
                <a:t>85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矩形 11"/>
            <p:cNvSpPr/>
            <p:nvPr/>
          </p:nvSpPr>
          <p:spPr>
            <a:xfrm>
              <a:off x="1954440" y="423360"/>
              <a:ext cx="603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b0200"/>
                  </a:solidFill>
                  <a:latin typeface="Kozuka Gothic Pr6N M"/>
                  <a:ea typeface="Kozuka Gothic Pr6N M"/>
                </a:rPr>
                <a:t>%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灯片编号占位符 4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D7738-B7BB-422C-823B-F485294145E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C:\Users\多吉\Desktop\目录板式\方与圆\方与圆类目录@多吉格格辑录-042.jpg"/>
          <p:cNvPicPr/>
          <p:nvPr/>
        </p:nvPicPr>
        <p:blipFill>
          <a:blip r:embed="rId1"/>
          <a:stretch/>
        </p:blipFill>
        <p:spPr>
          <a:xfrm>
            <a:off x="4861080" y="1284120"/>
            <a:ext cx="3384360" cy="3384720"/>
          </a:xfrm>
          <a:prstGeom prst="rect">
            <a:avLst/>
          </a:prstGeom>
          <a:ln w="0">
            <a:noFill/>
          </a:ln>
        </p:spPr>
      </p:pic>
      <p:sp>
        <p:nvSpPr>
          <p:cNvPr id="97" name="TextBox 3"/>
          <p:cNvSpPr/>
          <p:nvPr/>
        </p:nvSpPr>
        <p:spPr>
          <a:xfrm rot="1675200">
            <a:off x="7524720" y="247680"/>
            <a:ext cx="18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f3f3f"/>
                </a:solidFill>
                <a:latin typeface="方正瘦金书繁体"/>
                <a:ea typeface="方正瘦金书繁体"/>
              </a:rPr>
              <a:t>常见案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1263600" y="77148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造字工房悦黑体验版纤细体"/>
              </a:rPr>
              <a:t>某培训目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7"/>
          <p:cNvSpPr/>
          <p:nvPr/>
        </p:nvSpPr>
        <p:spPr>
          <a:xfrm>
            <a:off x="5219640" y="77148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造字工房悦黑体验版纤细体"/>
              </a:rPr>
              <a:t>某创意目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5"/>
          <p:cNvSpPr/>
          <p:nvPr/>
        </p:nvSpPr>
        <p:spPr>
          <a:xfrm>
            <a:off x="4282920" y="771480"/>
            <a:ext cx="56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b0200"/>
                </a:solidFill>
                <a:latin typeface="微软雅黑"/>
                <a:ea typeface="微软雅黑"/>
              </a:rPr>
              <a:t>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2" descr=""/>
          <p:cNvPicPr/>
          <p:nvPr/>
        </p:nvPicPr>
        <p:blipFill>
          <a:blip r:embed="rId2"/>
          <a:srcRect l="8312" t="277" r="14393" b="0"/>
          <a:stretch/>
        </p:blipFill>
        <p:spPr>
          <a:xfrm>
            <a:off x="812880" y="1284120"/>
            <a:ext cx="3448080" cy="3383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Box 1"/>
          <p:cNvSpPr/>
          <p:nvPr/>
        </p:nvSpPr>
        <p:spPr>
          <a:xfrm>
            <a:off x="1655640" y="2247840"/>
            <a:ext cx="58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方正美黑简体"/>
              </a:rPr>
              <a:t>或许，有些夸张</a:t>
            </a:r>
            <a:r>
              <a:rPr b="1" lang="en-US" sz="4000" spc="-1" strike="noStrike">
                <a:solidFill>
                  <a:srgbClr val="7f7f7f"/>
                </a:solidFill>
                <a:latin typeface="方正美黑简体"/>
                <a:ea typeface="造字工房悦黑体验版纤细体"/>
              </a:rPr>
              <a:t>…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Box 3"/>
          <p:cNvSpPr/>
          <p:nvPr/>
        </p:nvSpPr>
        <p:spPr>
          <a:xfrm>
            <a:off x="1571760" y="63324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c0c0c"/>
                </a:solidFill>
                <a:latin typeface="方正美黑简体"/>
              </a:rPr>
              <a:t>但实际上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组合 10"/>
          <p:cNvGrpSpPr/>
          <p:nvPr/>
        </p:nvGrpSpPr>
        <p:grpSpPr>
          <a:xfrm>
            <a:off x="1128600" y="1500120"/>
            <a:ext cx="6972480" cy="3087720"/>
            <a:chOff x="1128600" y="1500120"/>
            <a:chExt cx="6972480" cy="3087720"/>
          </a:xfrm>
        </p:grpSpPr>
        <p:pic>
          <p:nvPicPr>
            <p:cNvPr id="105" name="图表 1" descr=""/>
            <p:cNvPicPr/>
            <p:nvPr/>
          </p:nvPicPr>
          <p:blipFill>
            <a:blip r:embed="rId1"/>
            <a:stretch/>
          </p:blipFill>
          <p:spPr>
            <a:xfrm>
              <a:off x="2389320" y="1500120"/>
              <a:ext cx="4632840" cy="308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直接连接符 5"/>
            <p:cNvSpPr/>
            <p:nvPr/>
          </p:nvSpPr>
          <p:spPr>
            <a:xfrm flipV="1">
              <a:off x="5744160" y="1819800"/>
              <a:ext cx="288000" cy="288000"/>
            </a:xfrm>
            <a:prstGeom prst="line">
              <a:avLst/>
            </a:prstGeom>
            <a:ln w="6480">
              <a:solidFill>
                <a:srgbClr val="5959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Box 6"/>
            <p:cNvSpPr/>
            <p:nvPr/>
          </p:nvSpPr>
          <p:spPr>
            <a:xfrm>
              <a:off x="6019560" y="1581120"/>
              <a:ext cx="2081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方正美黑简体"/>
                </a:rPr>
                <a:t>新颖创意的</a:t>
              </a:r>
              <a:r>
                <a:rPr b="0" lang="en-US" sz="1800" spc="-1" strike="noStrike">
                  <a:solidFill>
                    <a:srgbClr val="000000"/>
                  </a:solidFill>
                  <a:latin typeface="Kozuka Gothic Pr6N M"/>
                  <a:ea typeface="Kozuka Gothic Pr6N M"/>
                </a:rPr>
                <a:t>1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Box 7"/>
            <p:cNvSpPr/>
            <p:nvPr/>
          </p:nvSpPr>
          <p:spPr>
            <a:xfrm>
              <a:off x="1128600" y="4045680"/>
              <a:ext cx="21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方正美黑简体"/>
                </a:rPr>
                <a:t>非新颖创意的</a:t>
              </a:r>
              <a:r>
                <a:rPr b="0" lang="en-US" sz="1800" spc="-1" strike="noStrike">
                  <a:solidFill>
                    <a:srgbClr val="000000"/>
                  </a:solidFill>
                  <a:latin typeface="Kozuka Gothic Pr6N M"/>
                  <a:ea typeface="Kozuka Gothic Pr6N M"/>
                </a:rPr>
                <a:t>99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直接连接符 9"/>
            <p:cNvSpPr/>
            <p:nvPr/>
          </p:nvSpPr>
          <p:spPr>
            <a:xfrm flipV="1">
              <a:off x="3288960" y="3877560"/>
              <a:ext cx="288000" cy="288000"/>
            </a:xfrm>
            <a:prstGeom prst="line">
              <a:avLst/>
            </a:prstGeom>
            <a:ln w="6480">
              <a:solidFill>
                <a:srgbClr val="5959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TextBox 2"/>
          <p:cNvSpPr/>
          <p:nvPr/>
        </p:nvSpPr>
        <p:spPr>
          <a:xfrm>
            <a:off x="4162320" y="307800"/>
            <a:ext cx="1108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b0200"/>
                </a:solidFill>
                <a:latin typeface="Kozuka Gothic Pr6N M"/>
                <a:ea typeface="Kozuka Gothic Pr6N M"/>
              </a:rPr>
              <a:t>9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11"/>
          <p:cNvSpPr/>
          <p:nvPr/>
        </p:nvSpPr>
        <p:spPr>
          <a:xfrm>
            <a:off x="5117760" y="477720"/>
            <a:ext cx="64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b0200"/>
                </a:solidFill>
                <a:latin typeface="Kozuka Gothic Pr6N M"/>
                <a:ea typeface="Kozuka Gothic Pr6N M"/>
              </a:rPr>
              <a:t>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Box 1"/>
          <p:cNvSpPr/>
          <p:nvPr/>
        </p:nvSpPr>
        <p:spPr>
          <a:xfrm>
            <a:off x="630360" y="657360"/>
            <a:ext cx="136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方正美黑简体"/>
                <a:ea typeface="造字工房悦黑体验版纤细体"/>
              </a:rPr>
              <a:t>W</a:t>
            </a:r>
            <a:r>
              <a:rPr b="1" lang="en-US" sz="3600" spc="-1" strike="noStrike">
                <a:solidFill>
                  <a:srgbClr val="ffffff"/>
                </a:solidFill>
                <a:latin typeface="方正美黑简体"/>
                <a:ea typeface="造字工房悦黑体验版纤细体"/>
              </a:rPr>
              <a:t>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34920" y="4732200"/>
            <a:ext cx="337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Box 1"/>
          <p:cNvSpPr/>
          <p:nvPr/>
        </p:nvSpPr>
        <p:spPr>
          <a:xfrm>
            <a:off x="2843280" y="95076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c0c0c"/>
                </a:solidFill>
                <a:latin typeface="方正美黑简体"/>
              </a:rPr>
              <a:t>我们看到的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3"/>
          <p:cNvSpPr/>
          <p:nvPr/>
        </p:nvSpPr>
        <p:spPr>
          <a:xfrm>
            <a:off x="3132000" y="1670040"/>
            <a:ext cx="288000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c0c0c"/>
                </a:solidFill>
                <a:latin typeface="方正美黑简体"/>
              </a:rPr>
              <a:t>乏味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c0c0c"/>
                </a:solidFill>
                <a:latin typeface="方正美黑简体"/>
              </a:rPr>
              <a:t>鲜有新意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c0c0c"/>
                </a:solidFill>
                <a:latin typeface="方正美黑简体"/>
              </a:rPr>
              <a:t>粗制滥造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c0c0c"/>
                </a:solidFill>
                <a:latin typeface="方正美黑简体"/>
              </a:rPr>
              <a:t>彼此撞衫的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Box 1"/>
          <p:cNvSpPr/>
          <p:nvPr/>
        </p:nvSpPr>
        <p:spPr>
          <a:xfrm>
            <a:off x="2843280" y="95076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c0c0c"/>
                </a:solidFill>
                <a:latin typeface="方正美黑简体"/>
              </a:rPr>
              <a:t>我们想看的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2808360" y="1670040"/>
            <a:ext cx="352908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c0c0c"/>
                </a:solidFill>
                <a:latin typeface="方正美黑简体"/>
              </a:rPr>
              <a:t>稀罕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c0c0c"/>
                </a:solidFill>
                <a:latin typeface="方正美黑简体"/>
              </a:rPr>
              <a:t>眼前一亮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c0c0c"/>
                </a:solidFill>
                <a:latin typeface="方正美黑简体"/>
              </a:rPr>
              <a:t>能</a:t>
            </a:r>
            <a:r>
              <a:rPr b="0" lang="en-US" sz="2800" spc="-1" strike="noStrike">
                <a:solidFill>
                  <a:srgbClr val="0c0c0c"/>
                </a:solidFill>
                <a:latin typeface="方正美黑简体"/>
                <a:ea typeface="造字工房悦黑体验版纤细体"/>
              </a:rPr>
              <a:t>HOLD</a:t>
            </a:r>
            <a:r>
              <a:rPr b="0" lang="zh-CN" sz="2800" spc="-1" strike="noStrike">
                <a:solidFill>
                  <a:srgbClr val="0c0c0c"/>
                </a:solidFill>
                <a:latin typeface="方正美黑简体"/>
              </a:rPr>
              <a:t>住全场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c0c0c"/>
                </a:solidFill>
                <a:latin typeface="方正美黑简体"/>
              </a:rPr>
              <a:t>耳目一新的创意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94000" y="141120"/>
            <a:ext cx="61560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24000" y="95256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ppt图表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自然风景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国外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简洁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Rectangle 7"/>
          <p:cNvSpPr/>
          <p:nvPr/>
        </p:nvSpPr>
        <p:spPr>
          <a:xfrm>
            <a:off x="6608880" y="24912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16T09:18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02:58:20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