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9BD6-6D2C-4407-9AB6-58AFD659D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C581-6FCF-4995-8FB8-2ABB0EA9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F4F-BDAE-4EBE-B863-F21BCA7D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6800-C27A-4770-9A1B-E047F630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DB59-52E6-436E-A404-79671764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969C-875D-4892-A25A-C384178E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72B1-78AF-4C02-9B0A-C4B650DA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2DBA-CCF6-4D99-975C-732E2FCF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C07C-80D9-426A-B1D4-7E30C0F1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362D-DB36-4628-B875-3B80FF887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5DE8-E412-457D-BC1A-F87B9674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74C9-D224-49D1-A962-0D664D5E3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04B63-3348-4D01-B5F5-CD377C95D7B0}" type="slidenum"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4510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6880" y="2781360"/>
            <a:ext cx="34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四叶草动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4149720"/>
            <a:ext cx="63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s-E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414A-AB22-4619-A086-1CD0F1F8F4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1:5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8T03:06:07Z</dcterms:modified>
  <cp:revision>2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