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36B-31C8-4A46-B3EB-F132D646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951-CA02-42E6-A493-38BC34A3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8DE-EAF4-4C28-8064-1C1EEFAB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A16-3252-4322-A65A-50CBF6FA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21C-548A-4D4C-851D-D990D897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536-6845-4434-AD97-616B85A0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C3D-CBFE-4A68-BCCB-C51B1D34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CF2-0D5F-4B0F-AA62-DF77C930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836-BFBC-4979-9F39-DFC413EA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23C-64E3-4202-BC1E-1DDFC04D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885-A7A2-42ED-B4F7-ED9846CD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B67-D474-4467-A471-AC9BEF8F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AE4C-87EB-4473-A6E5-8136A0EADF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60" y="537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685960" y="3380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团队管理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D56-8AFA-4365-9825-C9F0FB64D3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2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5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6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0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6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69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76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79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3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88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2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523404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2040" cy="8101080"/>
          </a:xfrm>
          <a:prstGeom prst="rect">
            <a:avLst/>
          </a:prstGeom>
          <a:ln w="0">
            <a:noFill/>
          </a:ln>
        </p:spPr>
      </p:pic>
      <p:sp>
        <p:nvSpPr>
          <p:cNvPr id="133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66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72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30532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8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77004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6:22:07Z</dcterms:created>
  <dc:creator>pc</dc:creator>
  <dc:description/>
  <dc:language>en-US</dc:language>
  <cp:lastModifiedBy>ppt宝藏 www.pptbz.com提供漂亮ppt模板下载</cp:lastModifiedBy>
  <dcterms:modified xsi:type="dcterms:W3CDTF">2015-07-21T03:33:36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