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F1E0-9F4D-4FC7-A532-36028C36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9A3DD-9BB6-446B-B29A-F58CF0E4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CFCF-AAE6-4466-9FA8-B0A2E82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A8B4-4AA0-4313-BB8C-A07E374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1DCA-374E-40DF-9246-AA9102C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BECB-0BB3-4858-9686-591A2F2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78E8-A29C-480C-9F97-33DD68F4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72F93-4861-4821-8BCF-A59BA884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FB8F-6886-49E3-AB40-E613D630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EF76A-DE90-4BC0-8085-BBF22631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7E4DE-52DC-4643-A7BD-536B71C8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6E812-58D3-421E-ACB9-48D73B60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4A124-F458-43D5-B96C-26CCB087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1B2DB-BB25-46AD-948E-5394564D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4B3F-9696-4DE9-B66D-513B058F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5A382-8E7F-455E-AD78-9C1C966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BC2C-CDE7-4638-9A9B-992FA87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F46CF-FF4B-4A62-993D-6C1A3417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BB30-BC84-4D56-9B9A-893A6BD3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BCAE-6073-4A23-AB4C-C2B540C2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B0CD-7EC3-4314-B002-0C3DC229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1E98D-25ED-459B-A2B5-E748B7D2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93F7D-40C1-4DC3-A4E5-CA301AF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BE0E6-7C52-4442-8EDA-C722016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A29A2-AB33-415A-BBCE-D13EFB8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576E5-AFCD-446D-A05A-86099EB1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1D8AF-0E84-4E1B-9FFC-418E5B4D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67822-C416-4577-850C-FF4811C1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1B67C-7EB9-4241-BFC1-4377769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C1FD8-27B6-4B44-A086-47C97F7F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5D73D-2F23-430D-BA86-2BA1E97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8EC73-0DE2-495C-8950-7B80576B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CE366-322A-49F4-BB21-3E85A6D7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E7A7E-BFEE-4EE3-8087-58EC2DD2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A92CF-CFF5-4344-8772-24C93BE3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0B08F-FF32-45D2-BDA9-40E8262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BB4E-C5F9-4E34-890C-005E5E75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4DABD-855F-4704-AF21-7802B19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50456-2E64-48F6-B963-4A4506C6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7E3A8-82E2-4324-815A-32088F3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FD7E4-767D-49A3-8182-7D3B5A5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EBB4E-6A43-4B93-AD7B-914D3161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BF879-BDB7-483D-B11D-1C7A528C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0BD5C-59FA-417D-8469-3C5CF181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1E043-2FF8-48D5-8A4A-E755995B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1D20-9039-44E0-A163-C5332AC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ADAE4-A82A-4040-9B3D-7BB9314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A4DD2-D88D-4D5A-96C4-C5E34DD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02A5D-0DB5-4277-B25F-326D8449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7E70C-7923-437E-8D5A-77EF5E00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C481A-97B9-4027-846E-89F930CB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0516-EFF8-4805-B2D3-165B428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F363E-9B8A-4583-8187-34866A2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8D333-D80E-4E0D-8F51-3DC6B5E2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0AA2E-5A05-4C3E-956A-B9173F9E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89F33-F0A6-4E3B-A9F2-E7974638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FB81-989D-4E7E-B03D-EB4A0605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1CB84-2784-4F47-A56B-F4759F99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D289D-5766-434F-9B16-F56C30C8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DDCB3-5044-4690-8DE1-3FF906DE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A8B4A-574F-4C4F-AF40-11D4EB6F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8A5B8-EFC1-4F55-9889-A23FA450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C23A7-E3A2-403C-99EB-4451624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3ECDE-2E92-48F3-AA90-73FE895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D155D-48B5-46F7-94BF-FA1E44F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6E3AB-E663-4FA3-89F0-9108F48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A58B9-6CE3-452C-8337-CE7E89E0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B45E0-7056-4095-A2B4-47C42CF7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A8430-FC78-4EFE-AF5F-7BFCF09D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5C5-5E34-4EA1-BDE5-EDCE2C6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E29-0B56-4A71-9F08-D87360DB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9C8-BEF4-4EDA-9DFE-6461F40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C75-B7EE-43FA-92DF-550E2E2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253-7DB5-44D1-A84E-09CB21CF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7D0-B87A-4996-97EB-22AB6A9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0C5-6ED9-4812-9913-18BD9BE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47A-C286-4BFA-B2A8-CF44FA7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B9B-CC37-4464-9A51-23E25CE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94E-161F-48DA-98B7-5350A51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5F1-DD24-48DE-86C1-86C5354F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30C-BAF1-40DA-957D-2D42D027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0F05-0DBA-4C51-B7B6-BC7ACE5C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ABA-CAB3-4533-9070-710DBBC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EE51-F9ED-4097-9502-29D8000E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1D8-A9E5-4222-9EFA-16348A0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D950-1152-47F3-9411-DB8A9618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A2DD-F6B9-4C93-AF66-33025003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58C-CA8B-4B3B-98C3-9B101E6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A131-187D-43DE-BD92-0BE3112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7FB2-F93F-4903-8735-2BA4873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ED2-9237-4CB1-90F8-763883D2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EC2F-D456-466B-9AC9-5EBEB369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C35-5F34-44EA-A52B-EB22B16D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FFC4-EA2F-4B4A-9E34-1027D5A4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90CF-0DE1-4BD7-85F0-CC466835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4B10-F7C6-4A92-BD12-908534E9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085B-C413-4AAB-A7D9-60E0C90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E176-6CC9-4668-80CF-B000584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1872-F961-4CAE-951D-70BF7FB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B2DF-DAB2-4426-99B7-72B6FCA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7A32-3695-4D1A-A036-265706F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328A-A4C0-4612-9E9D-704C238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E213-1E1F-4FA5-B35C-A337AF01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2E96-3344-43A5-A91E-8E4755D8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D165-5D72-4B06-BEF8-D1414C67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53E7-5016-4AA9-B6BB-1901AD3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DE43-3BE3-44EE-88B9-AA71C55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8A49-60E6-47BD-ACA3-09A2DBF0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F793-27FA-45A6-ACB9-CF969F4A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5875-58F5-480D-8C96-926437E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0DA4-F79B-4C37-9CCD-BE59A1B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52B5-635C-4147-B4B5-AA95F2D1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523A-93E7-4355-9EFE-BAE134C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E6B4-D44B-4E09-9255-3FBB0B8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6E10-0523-426D-B412-2235C21F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5D1F8-CD03-4BF9-92BD-5E6F599A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8316-6F4A-4907-BDAA-96780D82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82597-5CBE-4EC2-B840-4097253C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295EF-A5FA-4758-8684-ECFA3C5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A1F8-E0C2-401C-87E0-6EC20308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A18A-9186-450F-9EDF-DED19416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B7AD-5321-4FB3-BC7A-C58074E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230A-D583-4BE5-90E2-073FEA0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1358-870B-4C53-898C-9974804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409E-69DE-49C4-95C6-B22DC2C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2DCC-1EF3-46F7-982C-73BE7FE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D84B-813E-4590-8607-0FBCA0C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5EA0-C879-44C0-8924-A13864CB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FD55E-B36D-4F4D-9F63-C1ACA620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A000-7971-493A-B7B8-DB4320BA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CD91-8C73-4475-B29E-689E474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96A66-BF40-4D86-ACE9-61CAEB7E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C5DE-CDB5-4CBB-B759-9CF4507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A500-F4D7-446E-B163-C03BEF2A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B577-008D-4E4D-8B3F-0E07BAE6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09BB-5188-4829-8873-6CC08AC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D4628-AFB2-407C-91A3-12D29CA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F269-CF4A-4912-925B-4919A2C7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424B-0D1B-40DE-9E48-4A43A66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54B1-D16B-44D3-B6E4-AA3CFE4E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983E3-323E-4568-85DB-FC178C3E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EEFD-707C-4B26-9BF2-9E7CF77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2475-898A-4D84-9D5F-C6F41299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EB57-B1EF-4F4B-9BB2-FC00D163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D8D-969D-47FC-BA99-B676FF05BE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D15-4FFE-4936-BB8A-9ACF131EAF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D267-0511-4D77-9DC8-6B37689012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44F0-257F-4561-B548-43A661762C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9E1-FC96-434A-931B-D7499FE4EC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FC6-F2ED-4194-BCB5-A3535F8DCD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A48-3167-4C97-99CB-B8C3CEA7DE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2E11-8525-4B95-9408-90CA34AF32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75B-A240-43A0-9832-4BB145A8E1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54E-4396-4C9C-9E8D-1B72B43A68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33D4-E755-4428-9A40-6E4C87F73B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531-888A-477E-881A-239EE4EA9B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3"/>
          <p:cNvSpPr/>
          <p:nvPr/>
        </p:nvSpPr>
        <p:spPr>
          <a:xfrm>
            <a:off x="971640" y="2133720"/>
            <a:ext cx="58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体积和体积单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长方体和正方体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0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3"/>
          <a:stretch/>
        </p:blipFill>
        <p:spPr>
          <a:xfrm>
            <a:off x="798480" y="87948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572" name="矩形 6"/>
          <p:cNvSpPr/>
          <p:nvPr/>
        </p:nvSpPr>
        <p:spPr>
          <a:xfrm>
            <a:off x="5400" y="6453360"/>
            <a:ext cx="339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684360" y="1590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根长方体木料，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横截面的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根木料的体积是多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1692360" y="5025960"/>
            <a:ext cx="54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_GB2312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6×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这根木料的体积是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62" name="Group 27"/>
          <p:cNvGrpSpPr/>
          <p:nvPr/>
        </p:nvGrpSpPr>
        <p:grpSpPr>
          <a:xfrm>
            <a:off x="3281760" y="2205000"/>
            <a:ext cx="4819320" cy="2320560"/>
            <a:chOff x="3281760" y="2205000"/>
            <a:chExt cx="4819320" cy="2320560"/>
          </a:xfrm>
        </p:grpSpPr>
        <p:pic>
          <p:nvPicPr>
            <p:cNvPr id="663" name="Picture 25" descr="p-43"/>
            <p:cNvPicPr/>
            <p:nvPr/>
          </p:nvPicPr>
          <p:blipFill>
            <a:blip r:embed="rId1"/>
            <a:stretch/>
          </p:blipFill>
          <p:spPr>
            <a:xfrm>
              <a:off x="3709800" y="2205000"/>
              <a:ext cx="439128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6"/>
            <p:cNvSpPr/>
            <p:nvPr/>
          </p:nvSpPr>
          <p:spPr>
            <a:xfrm>
              <a:off x="3281760" y="3919680"/>
              <a:ext cx="1273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5435640" y="1484280"/>
            <a:ext cx="3386160" cy="792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cc00"/>
                </a:solidFill>
                <a:latin typeface="楷体_GB2312"/>
              </a:rPr>
              <a:t>◎</a:t>
            </a:r>
            <a:r>
              <a:rPr b="1" lang="zh-CN" sz="3000" spc="-1" strike="noStrike">
                <a:solidFill>
                  <a:srgbClr val="99cc00"/>
                </a:solidFill>
                <a:latin typeface="宋体"/>
                <a:ea typeface="宋体"/>
              </a:rPr>
              <a:t>生活中的数学</a:t>
            </a:r>
            <a:r>
              <a:rPr b="1" lang="zh-CN" sz="3000" spc="-1" strike="noStrike">
                <a:solidFill>
                  <a:srgbClr val="99cc00"/>
                </a:solidFill>
                <a:latin typeface="楷体_GB2312"/>
              </a:rPr>
              <a:t>◎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1403280" y="1773360"/>
            <a:ext cx="352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乘飞机的行李规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539640" y="51991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机场行李托运一般不超过此规格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知道其他交通工具关于行李的规定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5653080" y="519912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手提行李的三边之和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般不得超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70" name="Picture 16" descr="27副本"/>
          <p:cNvPicPr/>
          <p:nvPr/>
        </p:nvPicPr>
        <p:blipFill>
          <a:blip r:embed="rId1"/>
          <a:stretch/>
        </p:blipFill>
        <p:spPr>
          <a:xfrm>
            <a:off x="971640" y="2627280"/>
            <a:ext cx="3413160" cy="2530440"/>
          </a:xfrm>
          <a:prstGeom prst="rect">
            <a:avLst/>
          </a:prstGeom>
          <a:ln w="0">
            <a:noFill/>
          </a:ln>
        </p:spPr>
      </p:pic>
      <p:sp>
        <p:nvSpPr>
          <p:cNvPr id="671" name="Line 21"/>
          <p:cNvSpPr/>
          <p:nvPr/>
        </p:nvSpPr>
        <p:spPr>
          <a:xfrm flipH="1">
            <a:off x="1763280" y="4869000"/>
            <a:ext cx="57636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2" name="Line 24"/>
          <p:cNvSpPr/>
          <p:nvPr/>
        </p:nvSpPr>
        <p:spPr>
          <a:xfrm flipV="1">
            <a:off x="3203640" y="4436640"/>
            <a:ext cx="431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3" name="Line 26"/>
          <p:cNvSpPr/>
          <p:nvPr/>
        </p:nvSpPr>
        <p:spPr>
          <a:xfrm flipH="1">
            <a:off x="3131640" y="4581360"/>
            <a:ext cx="7164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755880" y="386064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760920" y="317808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6" name="Line 33"/>
          <p:cNvSpPr/>
          <p:nvPr/>
        </p:nvSpPr>
        <p:spPr>
          <a:xfrm>
            <a:off x="3564000" y="2900520"/>
            <a:ext cx="1443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7" name="Line 34"/>
          <p:cNvSpPr/>
          <p:nvPr/>
        </p:nvSpPr>
        <p:spPr>
          <a:xfrm>
            <a:off x="3780000" y="3116160"/>
            <a:ext cx="1443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8" name="Line 35"/>
          <p:cNvSpPr/>
          <p:nvPr/>
        </p:nvSpPr>
        <p:spPr>
          <a:xfrm>
            <a:off x="3367080" y="2781360"/>
            <a:ext cx="1443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9" name="Rectangle 36"/>
          <p:cNvSpPr/>
          <p:nvPr/>
        </p:nvSpPr>
        <p:spPr>
          <a:xfrm rot="20284800">
            <a:off x="2368080" y="4543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0" name="Rectangle 37"/>
          <p:cNvSpPr/>
          <p:nvPr/>
        </p:nvSpPr>
        <p:spPr>
          <a:xfrm>
            <a:off x="3606120" y="34527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1" name="Rectangle 38"/>
          <p:cNvSpPr/>
          <p:nvPr/>
        </p:nvSpPr>
        <p:spPr>
          <a:xfrm>
            <a:off x="3459960" y="2530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82" name="Picture 39" descr="28副本"/>
          <p:cNvPicPr/>
          <p:nvPr/>
        </p:nvPicPr>
        <p:blipFill>
          <a:blip r:embed="rId2"/>
          <a:stretch/>
        </p:blipFill>
        <p:spPr>
          <a:xfrm>
            <a:off x="5662440" y="2637000"/>
            <a:ext cx="2725920" cy="23302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40"/>
          <p:cNvSpPr/>
          <p:nvPr/>
        </p:nvSpPr>
        <p:spPr>
          <a:xfrm>
            <a:off x="5236200" y="3645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4" name="Rectangle 41"/>
          <p:cNvSpPr/>
          <p:nvPr/>
        </p:nvSpPr>
        <p:spPr>
          <a:xfrm>
            <a:off x="6388920" y="4508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5" name="Rectangle 42"/>
          <p:cNvSpPr/>
          <p:nvPr/>
        </p:nvSpPr>
        <p:spPr>
          <a:xfrm>
            <a:off x="8028720" y="4508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>
            <a:off x="971640" y="213372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106640" y="6118200"/>
            <a:ext cx="6759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1413000" y="1989000"/>
            <a:ext cx="575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物体所占空间的大小叫做物体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5" name="TextBox 9"/>
          <p:cNvSpPr/>
          <p:nvPr/>
        </p:nvSpPr>
        <p:spPr>
          <a:xfrm>
            <a:off x="5219640" y="20764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体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828720" y="32241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量体积要用体积单位，常用的体积单位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可以分别写成（    ）、（    ）和（    ） 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7" name="TextBox 11"/>
          <p:cNvSpPr/>
          <p:nvPr/>
        </p:nvSpPr>
        <p:spPr>
          <a:xfrm>
            <a:off x="6291360" y="3233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立方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8" name="TextBox 12"/>
          <p:cNvSpPr/>
          <p:nvPr/>
        </p:nvSpPr>
        <p:spPr>
          <a:xfrm>
            <a:off x="961920" y="35863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立方分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2556000" y="35863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立方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0" name="TextBox 14"/>
          <p:cNvSpPr/>
          <p:nvPr/>
        </p:nvSpPr>
        <p:spPr>
          <a:xfrm>
            <a:off x="5618160" y="3606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1" name="TextBox 15"/>
          <p:cNvSpPr/>
          <p:nvPr/>
        </p:nvSpPr>
        <p:spPr>
          <a:xfrm>
            <a:off x="6886440" y="3611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2" name="TextBox 16"/>
          <p:cNvSpPr/>
          <p:nvPr/>
        </p:nvSpPr>
        <p:spPr>
          <a:xfrm>
            <a:off x="1197000" y="3957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4" name="Rectangle 43"/>
          <p:cNvSpPr/>
          <p:nvPr/>
        </p:nvSpPr>
        <p:spPr>
          <a:xfrm>
            <a:off x="2231280" y="1844640"/>
            <a:ext cx="178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长方体的体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5" name="Rectangle 44"/>
          <p:cNvSpPr/>
          <p:nvPr/>
        </p:nvSpPr>
        <p:spPr>
          <a:xfrm>
            <a:off x="4356000" y="1844640"/>
            <a:ext cx="2243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长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宽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3492360" y="2708280"/>
            <a:ext cx="219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 b h</a:t>
            </a:r>
            <a:r>
              <a:rPr b="1" lang="en-US" sz="27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7" name="Rectangle 43"/>
          <p:cNvSpPr/>
          <p:nvPr/>
        </p:nvSpPr>
        <p:spPr>
          <a:xfrm>
            <a:off x="1405080" y="3860640"/>
            <a:ext cx="316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正方体的体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8" name="Rectangle 44"/>
          <p:cNvSpPr/>
          <p:nvPr/>
        </p:nvSpPr>
        <p:spPr>
          <a:xfrm>
            <a:off x="4068720" y="3860640"/>
            <a:ext cx="381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棱长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棱长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棱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9" name="Rectangle 14"/>
          <p:cNvSpPr/>
          <p:nvPr/>
        </p:nvSpPr>
        <p:spPr>
          <a:xfrm>
            <a:off x="3564000" y="4724280"/>
            <a:ext cx="129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23"/>
          <p:cNvSpPr/>
          <p:nvPr/>
        </p:nvSpPr>
        <p:spPr>
          <a:xfrm>
            <a:off x="1305000" y="31989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92" name="Picture 18" descr="24副本"/>
          <p:cNvPicPr/>
          <p:nvPr/>
        </p:nvPicPr>
        <p:blipFill>
          <a:blip r:embed="rId1"/>
          <a:stretch/>
        </p:blipFill>
        <p:spPr>
          <a:xfrm>
            <a:off x="1042920" y="2523960"/>
            <a:ext cx="2712960" cy="1863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9" descr="25副本"/>
          <p:cNvPicPr/>
          <p:nvPr/>
        </p:nvPicPr>
        <p:blipFill>
          <a:blip r:embed="rId2"/>
          <a:stretch/>
        </p:blipFill>
        <p:spPr>
          <a:xfrm>
            <a:off x="5003640" y="2349360"/>
            <a:ext cx="2087640" cy="202104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2"/>
          <p:cNvGrpSpPr/>
          <p:nvPr/>
        </p:nvGrpSpPr>
        <p:grpSpPr>
          <a:xfrm>
            <a:off x="3348000" y="1557360"/>
            <a:ext cx="5492880" cy="1871640"/>
            <a:chOff x="3348000" y="1557360"/>
            <a:chExt cx="5492880" cy="1871640"/>
          </a:xfrm>
        </p:grpSpPr>
        <p:pic>
          <p:nvPicPr>
            <p:cNvPr id="595" name="Picture 20" descr="P44教师"/>
            <p:cNvPicPr/>
            <p:nvPr/>
          </p:nvPicPr>
          <p:blipFill>
            <a:blip r:embed="rId3"/>
            <a:stretch/>
          </p:blipFill>
          <p:spPr>
            <a:xfrm>
              <a:off x="7164360" y="1557360"/>
              <a:ext cx="16765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AutoShape 27"/>
            <p:cNvSpPr/>
            <p:nvPr/>
          </p:nvSpPr>
          <p:spPr>
            <a:xfrm>
              <a:off x="3348000" y="1628640"/>
              <a:ext cx="3887640" cy="496440"/>
            </a:xfrm>
            <a:prstGeom prst="wedgeRoundRectCallout">
              <a:avLst>
                <a:gd name="adj1" fmla="val 59185"/>
                <a:gd name="adj2" fmla="val -13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会计算下面图形的体积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97" name="Rectangle 8"/>
          <p:cNvSpPr/>
          <p:nvPr/>
        </p:nvSpPr>
        <p:spPr>
          <a:xfrm>
            <a:off x="971640" y="43099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a b h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1116000" y="4886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7×3×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1116000" y="5462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5148360" y="429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a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5373720" y="47959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5384880" y="530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×6×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5384880" y="5803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16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1258920" y="16765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或正方体底面的面积叫做</a:t>
            </a: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底面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6" name="AutoShape 39"/>
          <p:cNvSpPr/>
          <p:nvPr/>
        </p:nvSpPr>
        <p:spPr>
          <a:xfrm>
            <a:off x="1619280" y="3548160"/>
            <a:ext cx="2327400" cy="465120"/>
          </a:xfrm>
          <a:prstGeom prst="parallelogram">
            <a:avLst>
              <a:gd name="adj" fmla="val 102741"/>
            </a:avLst>
          </a:prstGeom>
          <a:solidFill>
            <a:srgbClr val="ffb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7" name="Line 36"/>
          <p:cNvSpPr/>
          <p:nvPr/>
        </p:nvSpPr>
        <p:spPr>
          <a:xfrm>
            <a:off x="2081160" y="2832120"/>
            <a:ext cx="0" cy="716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2077920" y="3552840"/>
            <a:ext cx="1860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9" name="Line 38"/>
          <p:cNvSpPr/>
          <p:nvPr/>
        </p:nvSpPr>
        <p:spPr>
          <a:xfrm flipV="1">
            <a:off x="1619280" y="3549600"/>
            <a:ext cx="46368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0" name="AutoShape 34"/>
          <p:cNvSpPr/>
          <p:nvPr/>
        </p:nvSpPr>
        <p:spPr>
          <a:xfrm>
            <a:off x="1619280" y="2827440"/>
            <a:ext cx="2324160" cy="1185840"/>
          </a:xfrm>
          <a:prstGeom prst="cube">
            <a:avLst>
              <a:gd name="adj" fmla="val 384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1" name="Rectangle 40"/>
          <p:cNvSpPr/>
          <p:nvPr/>
        </p:nvSpPr>
        <p:spPr>
          <a:xfrm>
            <a:off x="2422440" y="34956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底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2" name="AutoShape 41"/>
          <p:cNvSpPr/>
          <p:nvPr/>
        </p:nvSpPr>
        <p:spPr>
          <a:xfrm>
            <a:off x="5094360" y="3602160"/>
            <a:ext cx="1415880" cy="366480"/>
          </a:xfrm>
          <a:prstGeom prst="parallelogram">
            <a:avLst>
              <a:gd name="adj" fmla="val 98518"/>
            </a:avLst>
          </a:prstGeom>
          <a:solidFill>
            <a:srgbClr val="ffb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3" name="Line 43"/>
          <p:cNvSpPr/>
          <p:nvPr/>
        </p:nvSpPr>
        <p:spPr>
          <a:xfrm>
            <a:off x="5452920" y="2552760"/>
            <a:ext cx="0" cy="1006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4" name="Line 44"/>
          <p:cNvSpPr/>
          <p:nvPr/>
        </p:nvSpPr>
        <p:spPr>
          <a:xfrm>
            <a:off x="5448240" y="360828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5" name="Line 45"/>
          <p:cNvSpPr/>
          <p:nvPr/>
        </p:nvSpPr>
        <p:spPr>
          <a:xfrm flipV="1">
            <a:off x="5097600" y="3620880"/>
            <a:ext cx="347400" cy="347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6" name="AutoShape 35"/>
          <p:cNvSpPr/>
          <p:nvPr/>
        </p:nvSpPr>
        <p:spPr>
          <a:xfrm>
            <a:off x="5091120" y="2546280"/>
            <a:ext cx="1424160" cy="14241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7" name="Rectangle 46"/>
          <p:cNvSpPr/>
          <p:nvPr/>
        </p:nvSpPr>
        <p:spPr>
          <a:xfrm>
            <a:off x="5398920" y="3500280"/>
            <a:ext cx="10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底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8" name="Group 29"/>
          <p:cNvGrpSpPr/>
          <p:nvPr/>
        </p:nvGrpSpPr>
        <p:grpSpPr>
          <a:xfrm>
            <a:off x="1332000" y="4508640"/>
            <a:ext cx="4392000" cy="1414440"/>
            <a:chOff x="1332000" y="4508640"/>
            <a:chExt cx="4392000" cy="1414440"/>
          </a:xfrm>
        </p:grpSpPr>
        <p:pic>
          <p:nvPicPr>
            <p:cNvPr id="619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1332000" y="4508640"/>
              <a:ext cx="15235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AutoShape 27"/>
            <p:cNvSpPr/>
            <p:nvPr/>
          </p:nvSpPr>
          <p:spPr>
            <a:xfrm>
              <a:off x="3276360" y="4508640"/>
              <a:ext cx="2447640" cy="934920"/>
            </a:xfrm>
            <a:prstGeom prst="wedgeRoundRectCallout">
              <a:avLst>
                <a:gd name="adj1" fmla="val -65888"/>
                <a:gd name="adj2" fmla="val 34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长方体和正方体的底面积怎样求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1332000" y="3522600"/>
            <a:ext cx="539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长方体的体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23" name="Group 49"/>
          <p:cNvGrpSpPr/>
          <p:nvPr/>
        </p:nvGrpSpPr>
        <p:grpSpPr>
          <a:xfrm>
            <a:off x="3914640" y="4110120"/>
            <a:ext cx="1392120" cy="856440"/>
            <a:chOff x="3914640" y="4110120"/>
            <a:chExt cx="1392120" cy="856440"/>
          </a:xfrm>
        </p:grpSpPr>
        <p:grpSp>
          <p:nvGrpSpPr>
            <p:cNvPr id="624" name="Group 7"/>
            <p:cNvGrpSpPr/>
            <p:nvPr/>
          </p:nvGrpSpPr>
          <p:grpSpPr>
            <a:xfrm>
              <a:off x="3978000" y="4110120"/>
              <a:ext cx="1015920" cy="383760"/>
              <a:chOff x="3978000" y="4110120"/>
              <a:chExt cx="1015920" cy="383760"/>
            </a:xfrm>
          </p:grpSpPr>
          <p:sp>
            <p:nvSpPr>
              <p:cNvPr id="625" name="Line 8"/>
              <p:cNvSpPr/>
              <p:nvPr/>
            </p:nvSpPr>
            <p:spPr>
              <a:xfrm>
                <a:off x="3978000" y="4110120"/>
                <a:ext cx="101592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26" name="Line 9"/>
              <p:cNvSpPr/>
              <p:nvPr/>
            </p:nvSpPr>
            <p:spPr>
              <a:xfrm flipV="1">
                <a:off x="4485960" y="4133520"/>
                <a:ext cx="0" cy="36036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627" name="Rectangle 10"/>
            <p:cNvSpPr/>
            <p:nvPr/>
          </p:nvSpPr>
          <p:spPr>
            <a:xfrm>
              <a:off x="3914640" y="4397400"/>
              <a:ext cx="139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楷体_GB2312"/>
                  <a:ea typeface="宋体"/>
                </a:rPr>
                <a:t>底面积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28" name="Rectangle 11"/>
          <p:cNvSpPr/>
          <p:nvPr/>
        </p:nvSpPr>
        <p:spPr>
          <a:xfrm>
            <a:off x="1332000" y="4951440"/>
            <a:ext cx="5788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方体的体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棱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棱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棱长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29" name="Group 50"/>
          <p:cNvGrpSpPr/>
          <p:nvPr/>
        </p:nvGrpSpPr>
        <p:grpSpPr>
          <a:xfrm>
            <a:off x="3984480" y="5526000"/>
            <a:ext cx="1633320" cy="856440"/>
            <a:chOff x="3984480" y="5526000"/>
            <a:chExt cx="1633320" cy="856440"/>
          </a:xfrm>
        </p:grpSpPr>
        <p:grpSp>
          <p:nvGrpSpPr>
            <p:cNvPr id="630" name="Group 13"/>
            <p:cNvGrpSpPr/>
            <p:nvPr/>
          </p:nvGrpSpPr>
          <p:grpSpPr>
            <a:xfrm>
              <a:off x="3984480" y="5526000"/>
              <a:ext cx="1633320" cy="383760"/>
              <a:chOff x="3984480" y="5526000"/>
              <a:chExt cx="1633320" cy="383760"/>
            </a:xfrm>
          </p:grpSpPr>
          <p:sp>
            <p:nvSpPr>
              <p:cNvPr id="631" name="Line 14"/>
              <p:cNvSpPr/>
              <p:nvPr/>
            </p:nvSpPr>
            <p:spPr>
              <a:xfrm>
                <a:off x="3984480" y="5526000"/>
                <a:ext cx="1633320" cy="0"/>
              </a:xfrm>
              <a:prstGeom prst="line">
                <a:avLst/>
              </a:prstGeom>
              <a:ln w="22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32" name="Line 15"/>
              <p:cNvSpPr/>
              <p:nvPr/>
            </p:nvSpPr>
            <p:spPr>
              <a:xfrm flipV="1">
                <a:off x="4800960" y="5549400"/>
                <a:ext cx="0" cy="360360"/>
              </a:xfrm>
              <a:prstGeom prst="line">
                <a:avLst/>
              </a:prstGeom>
              <a:ln w="22320">
                <a:solidFill>
                  <a:srgbClr val="ff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633" name="Rectangle 16"/>
            <p:cNvSpPr/>
            <p:nvPr/>
          </p:nvSpPr>
          <p:spPr>
            <a:xfrm>
              <a:off x="4186080" y="5813280"/>
              <a:ext cx="1430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楷体_GB2312"/>
                  <a:ea typeface="宋体"/>
                </a:rPr>
                <a:t>底面积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34" name="AutoShape 19"/>
          <p:cNvSpPr/>
          <p:nvPr/>
        </p:nvSpPr>
        <p:spPr>
          <a:xfrm>
            <a:off x="2197080" y="2781360"/>
            <a:ext cx="2327400" cy="465120"/>
          </a:xfrm>
          <a:prstGeom prst="parallelogram">
            <a:avLst>
              <a:gd name="adj" fmla="val 102741"/>
            </a:avLst>
          </a:prstGeom>
          <a:solidFill>
            <a:srgbClr val="ffb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5" name="Line 21"/>
          <p:cNvSpPr/>
          <p:nvPr/>
        </p:nvSpPr>
        <p:spPr>
          <a:xfrm>
            <a:off x="2658960" y="2065320"/>
            <a:ext cx="0" cy="716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6" name="Line 22"/>
          <p:cNvSpPr/>
          <p:nvPr/>
        </p:nvSpPr>
        <p:spPr>
          <a:xfrm>
            <a:off x="2655720" y="2786040"/>
            <a:ext cx="1860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7" name="Line 23"/>
          <p:cNvSpPr/>
          <p:nvPr/>
        </p:nvSpPr>
        <p:spPr>
          <a:xfrm flipV="1">
            <a:off x="2197080" y="2782800"/>
            <a:ext cx="46368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8" name="AutoShape 20"/>
          <p:cNvSpPr/>
          <p:nvPr/>
        </p:nvSpPr>
        <p:spPr>
          <a:xfrm>
            <a:off x="2197080" y="2060640"/>
            <a:ext cx="2324160" cy="1185840"/>
          </a:xfrm>
          <a:prstGeom prst="cube">
            <a:avLst>
              <a:gd name="adj" fmla="val 384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9" name="Rectangle 24"/>
          <p:cNvSpPr/>
          <p:nvPr/>
        </p:nvSpPr>
        <p:spPr>
          <a:xfrm>
            <a:off x="3060720" y="2717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底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0" name="AutoShape 26"/>
          <p:cNvSpPr/>
          <p:nvPr/>
        </p:nvSpPr>
        <p:spPr>
          <a:xfrm>
            <a:off x="6031080" y="2878200"/>
            <a:ext cx="1415880" cy="366480"/>
          </a:xfrm>
          <a:prstGeom prst="parallelogram">
            <a:avLst>
              <a:gd name="adj" fmla="val 98518"/>
            </a:avLst>
          </a:prstGeom>
          <a:solidFill>
            <a:srgbClr val="ffb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1" name="Line 28"/>
          <p:cNvSpPr/>
          <p:nvPr/>
        </p:nvSpPr>
        <p:spPr>
          <a:xfrm>
            <a:off x="6389640" y="1828800"/>
            <a:ext cx="0" cy="1006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2" name="Line 29"/>
          <p:cNvSpPr/>
          <p:nvPr/>
        </p:nvSpPr>
        <p:spPr>
          <a:xfrm>
            <a:off x="6384960" y="288432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3" name="Line 30"/>
          <p:cNvSpPr/>
          <p:nvPr/>
        </p:nvSpPr>
        <p:spPr>
          <a:xfrm flipV="1">
            <a:off x="6033960" y="2896920"/>
            <a:ext cx="347760" cy="347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4" name="AutoShape 27"/>
          <p:cNvSpPr/>
          <p:nvPr/>
        </p:nvSpPr>
        <p:spPr>
          <a:xfrm>
            <a:off x="6027840" y="1822320"/>
            <a:ext cx="1423800" cy="14241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5" name="Rectangle 31"/>
          <p:cNvSpPr/>
          <p:nvPr/>
        </p:nvSpPr>
        <p:spPr>
          <a:xfrm>
            <a:off x="6345360" y="27860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底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6" name="Text Box 27"/>
          <p:cNvSpPr/>
          <p:nvPr/>
        </p:nvSpPr>
        <p:spPr>
          <a:xfrm>
            <a:off x="157320" y="6423120"/>
            <a:ext cx="337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1008000" y="2163600"/>
            <a:ext cx="73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以，长方体和正方体的体积也可以这样来计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长方体</a:t>
            </a:r>
            <a:r>
              <a:rPr b="1" lang="en-US" sz="2000" spc="-1" strike="noStrike">
                <a:solidFill>
                  <a:srgbClr val="ff3399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或正方体</a:t>
            </a:r>
            <a:r>
              <a:rPr b="1" lang="en-US" sz="2000" spc="-1" strike="noStrike">
                <a:solidFill>
                  <a:srgbClr val="ff3399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的体积</a:t>
            </a:r>
            <a:r>
              <a:rPr b="1" lang="zh-CN" sz="2000" spc="-1" strike="noStrike">
                <a:solidFill>
                  <a:srgbClr val="ff3399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底面积</a:t>
            </a:r>
            <a:r>
              <a:rPr b="1" lang="en-US" sz="2000" spc="-1" strike="noStrike">
                <a:solidFill>
                  <a:srgbClr val="ff3399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高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用字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底面积，上面的公式可以写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ff3399"/>
                </a:solidFill>
                <a:latin typeface="楷体_GB2312"/>
              </a:rPr>
              <a:t>＝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S h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0" name="TextBox 29"/>
          <p:cNvSpPr/>
          <p:nvPr/>
        </p:nvSpPr>
        <p:spPr>
          <a:xfrm>
            <a:off x="539640" y="18194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块长方体肥皂的尺寸如下图，它的体积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1547640" y="2708280"/>
            <a:ext cx="21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a b h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92360" y="32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5×7×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1692360" y="38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40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1258920" y="4941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答：它的体积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4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55" name="Picture 13" descr="RTX截图未命名"/>
          <p:cNvPicPr/>
          <p:nvPr/>
        </p:nvPicPr>
        <p:blipFill>
          <a:blip r:embed="rId1"/>
          <a:stretch/>
        </p:blipFill>
        <p:spPr>
          <a:xfrm>
            <a:off x="4716360" y="2443320"/>
            <a:ext cx="360072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>幻灯片之家 http:/www.eeppt.com</cp:keywords>
  <dc:language>en-US</dc:language>
  <cp:lastModifiedBy/>
  <dcterms:modified xsi:type="dcterms:W3CDTF">2015-07-20T03:13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