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BE4-6E9F-432D-AD31-038298F8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DA3-86EA-45D7-AA6B-1887B89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B5F-26F1-4034-A5FE-FBBE428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569-0C73-4093-A139-448D8AC3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193-AAD8-4BF2-B2FB-26A2081A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6EBA-4287-4484-9975-60C29A9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299A-5A58-4AF7-BA25-32024166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9581-6A03-4791-AD58-EF99632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AB7C-6E86-487B-8F04-5A312DF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A09-D57D-4234-9EFC-E4DA249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2F1F-753A-4CAB-836C-5EB748D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5AB-E3A4-4E63-B7A5-7012A49D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B620-54E0-4F51-AEC1-283DC0E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CCAD-B7DC-43D0-B8C9-D8F18FF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D72-0DAB-4087-AE29-AC2FDD3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6210-D395-4F0E-94CD-51992132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1B59-0423-4DFE-BC1A-1291203D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31A-60F7-4DB9-AE7B-05E75DE2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394-7067-4F12-8839-1A24359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C4B-D16E-4946-B415-93D8F72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665-3687-40D1-A0B2-46B31FE1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3BB-DA79-4913-BEE6-5F846A6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4A8-1885-4F72-9512-4D8EE54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04E-3B8F-463C-A74D-D896865A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BBC-3116-40FA-85EC-91F8B990610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659-22A3-402E-A735-D4B0DA605B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A83-14E0-4F00-8DB6-482F5A9DCD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Freeform 3"/>
          <p:cNvSpPr/>
          <p:nvPr/>
        </p:nvSpPr>
        <p:spPr>
          <a:xfrm>
            <a:off x="517680" y="2425680"/>
            <a:ext cx="799776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1082520" y="3629160"/>
            <a:ext cx="1133280" cy="1044000"/>
            <a:chOff x="1082520" y="3629160"/>
            <a:chExt cx="1133280" cy="1044000"/>
          </a:xfrm>
        </p:grpSpPr>
        <p:sp>
          <p:nvSpPr>
            <p:cNvPr id="85" name="Freeform 5"/>
            <p:cNvSpPr/>
            <p:nvPr/>
          </p:nvSpPr>
          <p:spPr>
            <a:xfrm>
              <a:off x="1194480" y="443340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1497600" y="435060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811520" y="448596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1082520" y="391104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1367280" y="3629160"/>
              <a:ext cx="371520" cy="93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707120" y="392688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161"/>
          <p:cNvPicPr/>
          <p:nvPr/>
        </p:nvPicPr>
        <p:blipFill>
          <a:blip r:embed="rId3"/>
          <a:stretch/>
        </p:blipFill>
        <p:spPr>
          <a:xfrm>
            <a:off x="7029360" y="15048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232"/>
          <p:cNvPicPr/>
          <p:nvPr/>
        </p:nvPicPr>
        <p:blipFill>
          <a:blip r:embed="rId4"/>
          <a:stretch/>
        </p:blipFill>
        <p:spPr>
          <a:xfrm>
            <a:off x="4976640" y="2143080"/>
            <a:ext cx="106236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133"/>
          <p:cNvPicPr/>
          <p:nvPr/>
        </p:nvPicPr>
        <p:blipFill>
          <a:blip r:embed="rId5"/>
          <a:stretch/>
        </p:blipFill>
        <p:spPr>
          <a:xfrm>
            <a:off x="3070080" y="2779560"/>
            <a:ext cx="1016280" cy="1159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4"/>
          <p:cNvGrpSpPr/>
          <p:nvPr/>
        </p:nvGrpSpPr>
        <p:grpSpPr>
          <a:xfrm>
            <a:off x="446040" y="4994280"/>
            <a:ext cx="1808280" cy="314280"/>
            <a:chOff x="446040" y="4994280"/>
            <a:chExt cx="1808280" cy="314280"/>
          </a:xfrm>
        </p:grpSpPr>
        <p:sp>
          <p:nvSpPr>
            <p:cNvPr id="95" name="AutoShape 15"/>
            <p:cNvSpPr/>
            <p:nvPr/>
          </p:nvSpPr>
          <p:spPr>
            <a:xfrm>
              <a:off x="446040" y="49942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 flipH="1">
              <a:off x="2164320" y="50209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456840" y="502200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8"/>
          <p:cNvSpPr/>
          <p:nvPr/>
        </p:nvSpPr>
        <p:spPr>
          <a:xfrm>
            <a:off x="439560" y="49719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87520" y="1413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517680" y="534816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638440" y="46465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641840" y="381960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6746760" y="2992320"/>
            <a:ext cx="176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2576520" y="4195800"/>
            <a:ext cx="1808280" cy="312840"/>
            <a:chOff x="2576520" y="4195800"/>
            <a:chExt cx="1808280" cy="312840"/>
          </a:xfrm>
        </p:grpSpPr>
        <p:sp>
          <p:nvSpPr>
            <p:cNvPr id="105" name="AutoShape 25"/>
            <p:cNvSpPr/>
            <p:nvPr/>
          </p:nvSpPr>
          <p:spPr>
            <a:xfrm>
              <a:off x="2576520" y="419580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 flipH="1">
              <a:off x="4294800" y="422208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>
              <a:off x="2587320" y="422352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8"/>
          <p:cNvSpPr/>
          <p:nvPr/>
        </p:nvSpPr>
        <p:spPr>
          <a:xfrm>
            <a:off x="2643120" y="41734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9"/>
          <p:cNvGrpSpPr/>
          <p:nvPr/>
        </p:nvGrpSpPr>
        <p:grpSpPr>
          <a:xfrm>
            <a:off x="4606920" y="3382920"/>
            <a:ext cx="1806480" cy="314280"/>
            <a:chOff x="4606920" y="3382920"/>
            <a:chExt cx="1806480" cy="314280"/>
          </a:xfrm>
        </p:grpSpPr>
        <p:sp>
          <p:nvSpPr>
            <p:cNvPr id="110" name="AutoShape 30"/>
            <p:cNvSpPr/>
            <p:nvPr/>
          </p:nvSpPr>
          <p:spPr>
            <a:xfrm>
              <a:off x="4606920" y="3382920"/>
              <a:ext cx="18064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 flipH="1">
              <a:off x="6323400" y="34095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2"/>
            <p:cNvSpPr/>
            <p:nvPr/>
          </p:nvSpPr>
          <p:spPr>
            <a:xfrm>
              <a:off x="4617720" y="341064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8"/>
          <p:cNvSpPr/>
          <p:nvPr/>
        </p:nvSpPr>
        <p:spPr>
          <a:xfrm>
            <a:off x="4646520" y="3360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4"/>
          <p:cNvGrpSpPr/>
          <p:nvPr/>
        </p:nvGrpSpPr>
        <p:grpSpPr>
          <a:xfrm>
            <a:off x="6724800" y="2592360"/>
            <a:ext cx="1806480" cy="314280"/>
            <a:chOff x="6724800" y="2592360"/>
            <a:chExt cx="1806480" cy="314280"/>
          </a:xfrm>
        </p:grpSpPr>
        <p:sp>
          <p:nvSpPr>
            <p:cNvPr id="115" name="AutoShape 35"/>
            <p:cNvSpPr/>
            <p:nvPr/>
          </p:nvSpPr>
          <p:spPr>
            <a:xfrm>
              <a:off x="6724800" y="2592360"/>
              <a:ext cx="18064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6"/>
            <p:cNvSpPr/>
            <p:nvPr/>
          </p:nvSpPr>
          <p:spPr>
            <a:xfrm flipH="1">
              <a:off x="8441280" y="261900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6735600" y="262008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8"/>
          <p:cNvSpPr/>
          <p:nvPr/>
        </p:nvSpPr>
        <p:spPr>
          <a:xfrm>
            <a:off x="6748560" y="25700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765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阶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CFE1-0F71-478B-84E8-AB03CE929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7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