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4360" y="4362120"/>
            <a:ext cx="7772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4362120"/>
            <a:ext cx="7772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0360" y="5157720"/>
            <a:ext cx="64008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77320" y="26028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天文</a:t>
            </a:r>
            <a:r>
              <a:rPr b="0" lang="en-US" sz="40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35Z</dcterms:modified>
  <cp:revision>5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NXTAG2">
    <vt:lpwstr>000800f601000000000001024140</vt:lpwstr>
  </property>
</Properties>
</file>