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7CA-101D-4122-B0A9-BEB7CB02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F36-F83D-41FF-B0C2-5BC45E44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FBB-1856-4654-A20B-A38BCAC0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540-3D68-4450-AFBD-EBCCA64D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CC78-A84C-4628-97BE-8B2DBA3A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06CA-72BD-4696-8A8E-77E31DFB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26E6-3D65-430B-A8D0-E1CA11DA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198-10FD-440F-AACA-C49F6102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BE9B-D735-4760-B3B8-8E7F6B0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BD0A-91DA-45C7-8F8F-2D019444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C4A-2F5B-4D20-A131-F538A72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7CC-9CDF-4EAB-AE58-11B45EB0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BDB0-424A-4E33-9FF5-D8558AA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D3FF-4749-4FAE-B6A7-E268699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140E-20DE-4071-A67F-289C24CE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0044-6980-4519-B23C-6BCCB3EB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F3C3-BF6B-4D04-89D6-F682922D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EDF-F195-49AE-A506-9FD948F5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DDF-9510-4C61-9737-85F0F17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604-B90E-4B03-9075-CCC10D49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AE4-A72C-4A40-8EF7-F396B3C0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383-97B1-468E-96CE-DD63CEF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925-4F6C-4CAF-B69D-F5256F13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AE2-375C-4011-8475-FDCF75F2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E7F2-8F27-481E-A75A-181D4E61263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BAFD-DBAA-4064-A67D-87CBB6AD19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905120" y="400680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25600" y="40068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太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1160" y="6531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96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144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147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150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154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 rot="4260000">
              <a:off x="6290640" y="71460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161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193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98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203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219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37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240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254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971-F0D3-4C50-8176-E305738DCD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79" name="Picture 5" descr="header_bg"/>
            <p:cNvPicPr/>
            <p:nvPr/>
          </p:nvPicPr>
          <p:blipFill>
            <a:blip r:embed="rId16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285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98" name="Picture 24" descr="header_bg"/>
            <p:cNvPicPr/>
            <p:nvPr/>
          </p:nvPicPr>
          <p:blipFill>
            <a:blip r:embed="rId17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en-US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en-US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en-US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en-US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en-US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en-US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en-US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lenovo</cp:lastModifiedBy>
  <dcterms:modified xsi:type="dcterms:W3CDTF">2015-07-21T06:12:0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