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5723-4F4B-483B-BA07-EA32BCCDA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0A6A-BEDE-4603-953A-B2687696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56DE-5040-452A-AE33-AE1E95BB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D943-3414-409C-A702-D4846C6EB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7ABE-0873-4016-B9CD-D48EC38F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220E-AC27-41BF-A42E-AF659183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1F6F-B8BC-4460-9B80-76B2C4C4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270D-AF36-4BC4-A6DC-DC43FD2C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D6B0-7457-4855-B839-1E8BAD2A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0561-FD6F-45AA-A6DD-9B9008A4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03CD-8475-45F2-91DB-3E254ADA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7365-2CDA-44AF-8B3A-31CA2F73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80A0-51DD-4B96-A10C-FFAB1DE9C8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928800" y="107172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000080" y="183528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597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14560" y="442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唯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39978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628380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149760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3711960" y="1285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21200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428508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456912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631044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61408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27835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/>
          <p:cNvSpPr/>
          <p:nvPr/>
        </p:nvSpPr>
        <p:spPr>
          <a:xfrm>
            <a:off x="4354920" y="1428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69267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41407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1711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59266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57837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249768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29977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26CE-BCD8-4027-8DB8-F207BB692F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18547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36406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61408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hong</cp:lastModifiedBy>
  <dcterms:modified xsi:type="dcterms:W3CDTF">2015-07-20T11:50:33Z</dcterms:modified>
  <cp:revision>6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