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47F-3652-4E7E-BED9-6D929DD0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423-0E2B-49AF-BE08-DC0E8C7F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3C9-9071-4264-8C37-B35479F7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028-23C4-43F2-B211-A62054F6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C0C7-292E-4FD5-BDB3-4F89CB57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8352-0031-4AAE-B19E-8E5772C9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7CCF-8D12-4088-97F8-6EF8D467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9542-F3FD-41C5-9B1B-D984E6E6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67D8-1AE8-4B6E-BA2E-EF9DBD96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F065-E74A-416E-82E6-89BFF001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725A-580F-4783-89D4-F8A61D87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C09-3D6E-43BA-8DD1-90129341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D5CE-725C-43CA-905E-0840CA4A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D213-01A2-4195-BC1A-07C24C6D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E068-E1E3-4995-A694-4A92084D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2C9D-3964-4832-86AF-8E3518EB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916B-3EB3-4342-9DC1-CA70E254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5B1-5348-45F1-A9B2-E53A6288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90F-0107-46F6-A072-9A6BADC6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BD5-4B24-4A34-B4DC-C3BC8AD7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892-097A-4C63-BE13-F50EF751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37A-82DC-4C14-894E-43F20ED0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282-120E-4A71-9917-6E81AD0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440-726E-4EBB-AEBF-7D6C1F03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444E-9996-4857-9B37-13DC7AB8E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89E2-EA16-4DA1-A333-7C954058BE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B_2008-10-10-15-02-391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2730600" y="4776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505600" y="105264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木偶的故事完整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11280" y="119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生活中，笑是很重要的，是非常美好的，谁要是不会笑，就无法体验生活的快乐。但生活是复杂的，除了一些高兴的事之外，还有一些伤心的事，不同的事情会引起我们不同的情感态度，要用我们的真情、用不同的方式去体验生活，面对生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684360" y="76500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续编故事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WordArt 3"/>
          <p:cNvSpPr txBox="1"/>
          <p:nvPr/>
        </p:nvSpPr>
        <p:spPr>
          <a:xfrm>
            <a:off x="1116000" y="2852640"/>
            <a:ext cx="68295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拥有了人类所有表情的小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木偶，后来又会发生什么事呢？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838080" y="762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木偶的故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者：吕丽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41360" y="17733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该书包括三个童话故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9280" y="2708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有笑是远远不够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3657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喜欢做我自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04920" y="4648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不是一段普通的木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611280" y="1484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喜欢哪部分，小组分角色朗读，然后再分角色表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611280" y="1773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嘿！小木偶！你的红背包真漂亮，让我背一下好吗？就背一下。我想看看这种红和我的毛色是不是相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7704000" y="5805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好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pic_114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40328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吵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56880" y="1268280"/>
            <a:ext cx="18867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报告警官，他抢我的包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788000" y="148428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那是我的，我的，我的！小木偶尖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50920" y="836640"/>
            <a:ext cx="70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穿警服的熊看看小红狐，小红狐满脸的愤怒；再看看小木偶，小木偶一副笑嘻嘻的表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4572000" y="2565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放开！放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200511140435467725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0" y="292428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兔子温柔地问：“你怎么啦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508720" y="184464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脑袋疼。小木偶抬起头，笑嘻嘻地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0" y="112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嘻嘻。装得一点儿都不像！你瞧，应该像我这样。”小兔子龇牙咧嘴地做了个痛苦的表情，蹦蹦跳跳地走开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755640" y="220500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老婆婆走过来：“小木头人，你病了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211640" y="5516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脑袋很疼。”小木偶还是一副笑嘻嘻的表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900000" y="2133720"/>
            <a:ext cx="44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真不像话，连小木头人都学着撒谎！“老婆婆嘟嘟囔囔地走开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610a46d8db248029b9c31ae6bb59e7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250920" y="1989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小木偶委屈极了！可是有什么办法呢？老木匠只给了他一种表情，那就是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0" y="69228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小木偶的心情怎么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兔子、老婆婆都不相信它，它的心情是怎么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321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伤心、难过，但又哭不出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026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27"/>
          <p:cNvSpPr/>
          <p:nvPr/>
        </p:nvSpPr>
        <p:spPr>
          <a:xfrm>
            <a:off x="662040" y="1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读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39640" y="981000"/>
            <a:ext cx="777744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着脸   笑嘻嘻  亲热  愤怒   委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柔   龇牙咧嘴  痛苦  嘟嘟囔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声大哭  伤心  生气  着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愤怒     伤心    痛苦    难过   高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惭愧     害羞    害怕    骄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0022_j9aBduaJ9Asr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826920" y="5445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头疼，是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39640" y="5157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那是因为你很伤心，却不会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032360" y="1268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是，而且越来越疼了。”小木偶可怜巴巴地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924360" y="1341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哇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——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小木偶放声大哭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250920" y="50846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木偶，我把人类所有的表情都送给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492360" y="112536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现在，小木偶会哭，会笑，会生气，会着急，也会向别人表示同情和关心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6868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现在，小木偶会哭，会笑，会生气，会着急，也会向别人表示同情和关心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95280" y="182232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是我的，我的，我的！”小木偶（        ）地尖叫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脑袋疼。”小木偶抬起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）           地回答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脑袋很疼。”小木偶是一副（          ）  的表情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是，而且越来越疼了。”小木偶    （        ）地说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268360" y="83664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木偶真实的表情或心情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50920" y="0"/>
            <a:ext cx="194472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填一填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95280" y="62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笑是很重要的。谁要是不会笑，谁就没办法过快乐的日子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79280" y="299736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 Black"/>
                <a:ea typeface="黑体"/>
              </a:rPr>
              <a:t>老木匠说得没错，笑是很重要的。不过，要是只会笑，那可是远远不够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628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老木匠说得没错，笑是很重要的。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不过，要是只会笑，那可是远远不够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611280" y="119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生活中，笑是很重要的，是非常美好的，谁要是不会笑，就无法体验生活的快乐。但生活是复杂的，除了一些高兴的事之外，还有一些伤心的事，不同的事情会引起我们不同的情感态度，要用我们的真情、用不同的方式去体验生活，面对生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4360" y="76500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续编故事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1116000" y="2852640"/>
            <a:ext cx="68295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拥有了人类所有表情的小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木偶，后来又会发生什么事呢？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838080" y="762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木偶的故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者：吕丽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41360" y="17733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该书包括三个童话故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79280" y="2708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有笑是远远不够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0" y="3657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喜欢做我自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04920" y="4648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不是一段普通的木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684360" y="76500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续编故事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8" name="WordArt 3"/>
          <p:cNvSpPr txBox="1"/>
          <p:nvPr/>
        </p:nvSpPr>
        <p:spPr>
          <a:xfrm>
            <a:off x="1116000" y="2852640"/>
            <a:ext cx="68295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拥有了人类所有表情的小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木偶，后来又会发生什么事呢？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精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7636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157760" y="1327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学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5892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拽  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492360" y="23493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毛 茸 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156360" y="220500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 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332000" y="3789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 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56400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魔  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724360" y="3645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龇牙咧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900000" y="19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zhua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83528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780000" y="191628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3924360" y="1773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6372360" y="19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709308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1403280" y="33577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76364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3203640" y="328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99564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5435640" y="3213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z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5651640" y="306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6588000" y="3213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6877080" y="31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gifmb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685800" y="533520"/>
            <a:ext cx="69343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人类所有的表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57200" y="1523880"/>
            <a:ext cx="8686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哭、笑、生气、着急、同情、关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愤怒、伤心、痛苦、难过、高兴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惭愧、害羞、害怕、骄傲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79280" y="476280"/>
            <a:ext cx="89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笑是很重要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谁要是不会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谁就没办法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过快乐的日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6600"/>
                </a:solidFill>
                <a:latin typeface="Arial"/>
                <a:ea typeface="黑体"/>
              </a:rPr>
              <a:t>学习任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252720" y="126828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en-US" sz="40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、默读课文，思考：在小木偶身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发生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en-US" sz="40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、小木偶遇到一系列挫折时，心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会想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en-US" sz="4000" spc="-1" strike="noStrike">
                <a:solidFill>
                  <a:srgbClr val="9966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、文章的最后一段话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>
            <a:hlinkClick r:id="" action="ppaction://hlinkshowjump?jump=nextslide"/>
          </p:cNvPr>
          <p:cNvSpPr/>
          <p:nvPr/>
        </p:nvSpPr>
        <p:spPr>
          <a:xfrm>
            <a:off x="6084720" y="2205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>
            <a:hlinkClick r:id="rId1" action="ppaction://hlinksldjump"/>
          </p:cNvPr>
          <p:cNvSpPr/>
          <p:nvPr/>
        </p:nvSpPr>
        <p:spPr>
          <a:xfrm>
            <a:off x="8567640" y="436572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3794"/>
                </a:moveTo>
                <a:lnTo>
                  <a:pt x="24360" y="10800"/>
                </a:lnTo>
                <a:lnTo>
                  <a:pt x="10347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>
            <a:hlinkClick r:id="rId2" action="ppaction://hlinksldjump"/>
          </p:cNvPr>
          <p:cNvSpPr/>
          <p:nvPr/>
        </p:nvSpPr>
        <p:spPr>
          <a:xfrm>
            <a:off x="4572000" y="3645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451640" y="5516640"/>
            <a:ext cx="169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590544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Arial"/>
                <a:ea typeface="黑体"/>
              </a:rPr>
              <a:t>根据课文情节填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课文先写了老木匠做了一个（      ），并在它的脸上添上了（      ）的表情。接着写了小木偶在生活中遇到了一系列（    ），最后在（     ）的帮助下，拥有了所有的（     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826920" y="191628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小木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6920" y="2565360"/>
            <a:ext cx="304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笑嘻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588000" y="350028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26920" y="3933720"/>
            <a:ext cx="15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遭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292720" y="3933720"/>
            <a:ext cx="29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小女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940360" y="465300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表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>
            <a:hlinkClick r:id="" action="ppaction://hlinkshowjump?jump=previousslide"/>
          </p:cNvPr>
          <p:cNvSpPr/>
          <p:nvPr/>
        </p:nvSpPr>
        <p:spPr>
          <a:xfrm>
            <a:off x="8101080" y="6021360"/>
            <a:ext cx="647640" cy="43344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10800"/>
                </a:moveTo>
                <a:lnTo>
                  <a:pt x="23139" y="3794"/>
                </a:lnTo>
                <a:lnTo>
                  <a:pt x="23139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79280" y="981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组合作学习：小木偶身上具体发生了哪些事？用小标题归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2708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小木偶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小红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68360" y="3429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小木偶与小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68360" y="4292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小木偶与老婆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39640" y="5157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小木偶与女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6868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现在，小木偶会哭，会笑，会生气，会着急，也会向别人表示同情和关心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95280" y="182232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是我的，我的，我的！”小木偶（        ）地尖叫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脑袋疼。”小木偶抬起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）           地回答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脑袋很疼。”小木偶是一副（          ）  的表情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是，而且越来越疼了。”小木偶    （        ）地说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68360" y="83664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木偶真实的表情或心情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250920" y="0"/>
            <a:ext cx="194472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填一填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95280" y="62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笑是很重要的。谁要是不会笑，谁就没办法过快乐的日子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79280" y="299736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 Black"/>
                <a:ea typeface="黑体"/>
              </a:rPr>
              <a:t>老木匠说得没错，笑是很重要的。不过，要是只会笑，那可是远远不够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7:45:22Z</dcterms:created>
  <dc:creator/>
  <dc:description/>
  <cp:keywords>幻灯片之家 http:/www.eeppt.com</cp:keywords>
  <dc:language>en-US</dc:language>
  <cp:lastModifiedBy/>
  <dcterms:modified xsi:type="dcterms:W3CDTF">2015-07-20T04:13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