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5CED-9AB7-4AFB-8097-F8A4A1D0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2562-ED0E-48ED-8FB6-35382611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2703-DF18-4793-8ED0-19428E9A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83C5-5932-47DC-8CB3-2D31942F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7E47-E7A2-4D76-8D74-22DA657A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F0A-BF1C-462A-8F3D-E2BCF271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46AA-4107-4574-BC7E-380C3F4B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9DAB-8C0A-48A3-8C05-AD23446A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0719-DC0E-4336-A0AF-0596B7A6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6CA0-A887-4A73-91CC-89D3DF4D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432D-F5C7-4C9F-A318-56734857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167-EC86-4B7A-BA71-C0933C21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3136-2B28-43E9-BC7E-7FAFC194ABA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882440" y="1928880"/>
            <a:ext cx="667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新及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3371400" y="78912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清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洁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7838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18547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4978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4260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8550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59979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6406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6643800" y="2500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12117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711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52837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406908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572000" y="2643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35690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4979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4260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271188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56956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3140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5640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3854880" y="100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64980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22831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428364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cp:keywords/>
  <dc:language>en-US</dc:language>
  <cp:lastModifiedBy>a</cp:lastModifiedBy>
  <dcterms:modified xsi:type="dcterms:W3CDTF">2015-07-21T02:27:53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