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1C5-F6BE-45C4-91C3-1E342214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75E-2EB8-438C-92DB-AE54772D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71F5-0AD1-49CE-B029-B9668DC3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2F0E-3F28-417C-AFC3-3B07A1B5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D133-5190-4FF4-AA79-EA403CD0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DC2E-472C-485A-BCDC-3233B99D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9E46-49B2-4DF3-9C81-B7BC033B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3031-7C5C-45D1-A590-EC662050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345A-4260-4557-9F10-10255B6D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80BE-458F-4C15-9F17-86184F9C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A9F2-2994-4B41-9D20-EE465AB3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CE23-BB9A-461A-A647-B9153C96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EEE1-35D4-4896-B14F-87789B8A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AE63-DB52-43D9-ADE4-F0F4FABA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CF1B-A7C7-465F-A573-CF167D48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5CD4-AF03-4773-87B0-FCB0DDE4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CB88-B932-4039-A174-7C7B0C70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DA4C-7A0F-4180-B2A2-E9AD499C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7AF5-AB6E-42A5-BF9F-463999F7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3D5-25B4-4E88-9382-77E0FB97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100-6865-414F-9EC3-9435D935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DC8-8401-4B9F-8AA1-63874760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F22-E746-4ACF-AF57-1929780D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0586-4C63-4E4C-84E7-4E96FEA9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435F-2EB4-4DBE-B728-CB6535A6368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80EC-1947-40CF-8E00-010F6D5EF28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82640" y="4428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小清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CA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CA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15AF-E0DB-4CCA-A525-9D8CD600BD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6:25:11Z</dcterms:created>
  <dc:creator>keke</dc:creator>
  <dc:description/>
  <dc:language>en-US</dc:language>
  <cp:lastModifiedBy>微软用户</cp:lastModifiedBy>
  <dcterms:modified xsi:type="dcterms:W3CDTF">2015-07-21T01:25:53Z</dcterms:modified>
  <cp:revision>4</cp:revision>
  <dc:subject/>
  <dc:title>站长站素材 SC.china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