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7D2-52FF-4989-A2BB-D8B6A2A6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900-5165-44F8-91A7-D59602AE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794-B7D6-4864-9FB3-76403502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703-B943-45D1-9993-9EAC94BE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2C5F-E19D-476D-8C03-BEBB5E01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D0B6-F0B7-4D3D-B222-770EB50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0243-6939-4B68-9EED-E31A41FB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5C57-721C-49F2-B059-43A4A54B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1CED-7447-4EDA-BD39-096EB0D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761A-482D-4178-9423-DDFB5BA4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834E-B4DF-4640-A124-99DD3740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A6B-FDF2-4428-9604-A6119FB4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CF4E-DD87-4CA8-8F6A-50DF2E4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3155-3777-4166-B806-402FEDC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4381-F809-468D-AAF5-5AA44D58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20F9-477D-48BC-A0FB-9BDE4037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AE05-C42E-4004-BD4D-9C1B6E0A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E66-D5F7-4B86-B8DF-0127F92B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DB7-6748-4723-AB15-D09028AA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4F62-6179-42BC-9EDF-F40D036C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F57-F77C-4166-838C-26D109B6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963-2FFE-460D-B52E-8EA03359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314-70FD-450B-AB96-4E894F3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E9A-58C8-4407-A9F8-800B8289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579A-26A4-4C56-914E-6E0DE8CEA42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1C8E-9A2D-4FFF-AA8D-D47AFC486F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封面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672320" y="620640"/>
            <a:ext cx="118584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777777"/>
                </a:solidFill>
                <a:latin typeface="Arial"/>
                <a:ea typeface="华文仿宋"/>
              </a:rPr>
              <a:t>放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474320" y="1413000"/>
            <a:ext cx="39348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tangCh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523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6400" y="27000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清新唯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目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7537680" y="692280"/>
            <a:ext cx="850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131000" y="1365120"/>
            <a:ext cx="310644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心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幻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自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Arial"/>
                <a:ea typeface="华文仿宋"/>
              </a:rPr>
              <a:t>放飛  那個一直桎梏在籠中的自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过度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5003640" y="38037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200560" y="4438800"/>
            <a:ext cx="248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Baskerville Old Face"/>
              </a:rPr>
              <a:t>please let me fly in the s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840" y="52560"/>
            <a:ext cx="3144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内容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60440" y="333360"/>
            <a:ext cx="238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放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87360" y="1263600"/>
            <a:ext cx="6848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放飛就是遠離城市的喧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擺脫日常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家庭和事業的羈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縱情於山水之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不同的錦繡風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看各地的風俗人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滿足好奇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求知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增加閱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仿宋"/>
              </a:rPr>
              <a:t>賞心悅目而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4365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结束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5280480" y="1974960"/>
            <a:ext cx="164268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  <a:ea typeface="华文仿宋"/>
              </a:rPr>
              <a:t>謝謝觀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2B1-397F-4374-B0F3-8C6BA9D3DF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</cp:lastModifiedBy>
  <dcterms:modified xsi:type="dcterms:W3CDTF">2015-07-21T03:00:4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