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0EF-E19E-4A9F-8EAE-B4C4560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898-2B0C-42F0-946D-B816A51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3338-C423-4BDA-94F4-6BBF6562FD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9E51-BBEF-4AC0-8429-1F333CBEAE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73AF-D130-4B6B-BD0B-9ADB9E7DCF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B267-4511-4D2F-8F12-CA38E29F24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02C2-5878-4403-BFAE-716C3C711B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6C9F9-52F0-4D91-A1A2-2585BCB4B2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3ED1-8FFA-404D-AD21-FD96E55DB9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5A4E-6121-4568-A9C1-0FAFABE092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9B6B6-2496-469F-88BD-80B1B12529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0E2D1-1427-4158-AE00-63BDF47E2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3F3-87D4-4D97-AA49-B83063E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C7322-D929-41B6-A2AD-5EB9B2B6E9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0586E-3005-4D07-83CC-96DDCE628D9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84980-FB69-4CEE-B5FE-E291286BB2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C6824-2769-4CC3-BFE2-85F96B8541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8BA89-4336-4125-BC57-AFD5D4CD79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A52BC-4234-4141-942B-F8933251E6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56A7AD-36F1-4691-82B0-79A740BA3E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DC61F-18CB-4A16-921A-F865006CA4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5CC39-7C28-46BA-9CD7-597AEA08B3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41580-A68F-40AD-B8D2-29F453F05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0EE-C488-4D98-B192-A701D4FE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B67F2-23F4-4D84-A019-502FF4CD54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44684-103D-484D-9F6C-40DB3CFEC0A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2927D3-E2A5-4A5D-BB22-D7DE9580A3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FEC769-2600-4E50-AFF0-57665321E7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E07031-BC93-41CB-94DA-90D6890A3EC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2B96B3-6A07-496B-9FBC-7D693303E3D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2D238-B1C5-4703-AAE1-B0B8334991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9BDF37-2CF1-499A-9F1D-1558B090E5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4C00B-4B51-4277-AD4E-3AD1A132EB3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85F4BB-4EBB-46E9-9919-9D0BCBE4B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7C63B-9E8C-4867-AC95-B3E1ECABF48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E0C08-152D-4651-9239-354E2BC1377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EC334-E2F5-4643-8A01-75D955BE06E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057F7A-E604-428E-8FD9-693480A41D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A7E9-C670-431C-A78B-106331FC2A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0DA4E-713D-4030-B782-37297CF23F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1602-CB6A-4B55-85FD-3D47B910755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08890-19CE-41F4-86B7-913636D3A4D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CE8F-E443-4D09-A975-3E48FCE212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A6A3-679C-4532-94F6-077E1295C9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B0DD-0023-4E76-B933-394DCA92D4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7B08-E927-48BD-BCD4-2C2D64AFD61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7070-0210-4345-9BB6-01C0E31CF1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542B-2467-4A4F-AD36-321D3ACDB6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558B9-44E2-425F-A08E-7467F4D663F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6967-D3EB-4003-B260-FC941AF14B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0884-FDD8-442F-BB33-135CCD3952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893BA-3918-4255-AA2F-C09CDB30E3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122B7-9DBB-418B-AA0A-D24DE3405EC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9832E-6520-43AC-9BF4-E5850F1EA97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A6359-F3D2-476B-B58F-D984E773091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D67E-F238-465E-A11A-2A5A3A41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233F-6D64-4363-B45D-F4F9679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76CA9-4CDB-4113-BA6B-7C11358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E7EE3-78CE-432D-B669-711E1786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38FF-DAF4-4B30-849D-C9CF019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78B2-C1DF-456C-B91E-70E9433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05D64-7E0C-42EB-849C-FE57EC2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0C6D5-CA64-494C-BC0C-13884EA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1B712-ABC7-48F2-915C-DC54B7F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742C2-1218-445B-B355-BAAF2A85BFD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07D0D-024C-4CE9-8FE6-00B527D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B543B-853E-4646-9ABB-CDA5A2C3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23D5-1A2A-4A97-9966-462C5D6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0F0-3780-40EE-A3E6-708EF4F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CDA32-D215-41B9-9AF0-A6E262F09B1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3888C-BB07-41BE-9F19-4F2F74116DA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11A5A-3E8C-40C6-B731-EEB3AFDD594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ACEB6-2A7B-4C3A-9F24-2B1B7C7028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CA233-C297-49F3-8868-B97782D2A38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BD45A-563F-4D67-AFBF-F076C1E03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7F4A-B4FB-4207-9AAB-9075F4E19D9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25FCC7-7DE7-45BD-A37C-7E2BA02F416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CD03D-4FFB-4C0A-B0CB-A3676A33108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08A04-61E1-4125-82BE-8997A65FC42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0DFB4D-CAC2-4452-9998-6B6491AE704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7596E-F2C6-43BF-81D0-ED92C3D8BB5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E451A-2924-4EE9-BFD5-72C4C21983F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C271B-33C5-40AD-98F3-93BB7969E6D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6CDAD-95C4-457B-9DAC-370AE0BAEDB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049CC-B12C-49AA-8A50-05E8F9E8B9C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B430A-6B37-4284-B8E3-880C8A29AA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C5594-FBC1-462C-8D4A-D9B25BB3AFD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B81C1-73D7-49BF-BC45-3A05637B4D8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7BFF5-925C-4D8D-BD4D-8809885ABEB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F7B08-4389-441F-B6EB-8684C2796A6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CA63D-FCB1-4E6A-86C8-F38C377E7AF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0E9E4-04C5-4815-938A-FDA0AAF4F0A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1CBBA-F0C2-4C6D-99A3-9586F3C27E7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9AC79-5173-463A-9DF9-FA96458AA44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928E6-0AC8-42EE-87F5-8AD1F373ED4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38B1B-0C34-44C4-BF67-9972532DCD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C6E7C-802D-42D3-A705-E89771B970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EC926-4FAB-4EAD-B51E-CEB9181D166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CCF0-5933-4843-A80C-CD96E1A3B99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52DD6-2510-4E3E-962B-F79C20CABCA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45C94-22E3-4D6C-BF2A-C1D5B78FAB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B729E-D52E-411D-A055-3FB73B0D931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AE79B-3885-43AF-BE67-8B3064D4C2C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983C6-192D-447B-B5B1-F37B313C4C0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28E0C-F97D-4225-8C49-5A809C4A5DB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60602-8CE1-4150-A2D1-E9FB404352F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CF56E-6481-4296-9C75-004A7A42CF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FA11A-9668-42D1-AFB9-E1BF35687F5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ABFBC-4C74-4B1F-8849-7F041800F3A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BBF96-BF06-48C2-BD9C-EC3EBD3948F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08155-8B77-4954-9946-262BF0A3E45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9375DF-1019-4BB0-8680-B65FA6933A2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90C464-78D0-474D-82EB-752746D10B6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29B1A0-D5E1-4943-A282-7EE95DD424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EEE717-4C49-40FE-BAEE-C0828A4FCDF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064D51-1717-4CD8-A981-28D24A1120F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DB25C3-1354-47EA-AEA6-A5C012CD604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F02CF9-4387-430B-971F-FFF6C8B8C4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EB2F0B-38FC-4251-84F6-BEF129AC40E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369F6E-E96F-4090-A39B-4788F1C6CF2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DFE98-FAAD-4D4E-8E9F-0446209B0B8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EB4C60-8F89-49D9-9814-FA7BB8C8EA3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CA524-6EA0-4A75-A144-727A34DD539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2A504E-035B-4B07-8F16-537945AE847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C4E0C-0BDA-4C61-9448-BF3CC401C9D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F751A-B8EC-48BB-8378-3619D5A141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E9A10-349E-4AC7-B933-55984E19B50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D96EC-57EC-4C8E-A329-DE3ED4B2AE7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548C8-4A1D-45F6-878E-85BC0D3856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0FD9D-9A21-46B8-838D-37ED4D502E5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5668E-1C59-43FF-A213-6182A6310D4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FE2DD-86F7-4BBC-AD17-A8B222C12F5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0DCEB-031F-47D4-B088-F24F045C112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0228A-595C-422F-83EB-79B6045D097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BEDEA-82F2-4554-B3B3-80B0B21979D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7245C-5B1E-4FCE-84C8-5D033509B9E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E843F-3537-4B75-BE95-0715C60C8FA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49AA3-D72F-4BCD-B3D5-B8834474092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123A9-E9DC-4661-817D-42CF8151488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A516-C2D6-497E-9A6C-7C5FA40CAF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8D28B-DFBA-442A-9C4E-C60E647282C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0A35D-C03D-4729-93A9-657981183F9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E3F4F-AC1F-4C35-976A-948C5CDEE7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29CDE-F900-4D91-B68A-B69C75B18FF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D6D22-4734-4FBE-90B2-F716BF34A59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37732-0E80-4ED0-9BA7-44E4BB165C4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E50A3-69BB-41D0-8CCE-B337A9903FF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9BA55-D844-4FEC-A1D4-1E4B15FBEE2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55632-C58D-436C-99D8-A4B2DFE8C1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5447-CE11-41BA-BA10-B25A606C835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EA0696-579F-4A5F-8C34-7D445D30D4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1B024-0EF5-45AD-BB01-B86BA4E70E2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52A711-B357-4AF4-A8D8-A567E948357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156CAA-506C-43BB-B540-0628E05A3D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081012-3DC9-4D70-817C-D9158568355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CD5F5F-1487-4818-BDAA-C262D4EF15C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3FAD7D-3796-4798-81DD-71FF6E86CB2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015CC7-54ED-4797-B8EC-8183D1BC745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B17218-F002-4059-BD87-0533EB63D54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37EC9D-1E67-4977-B931-9E7823C0FB2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EBB4D6-B8E1-49B5-842A-38509876157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CEE16F-59D6-4BF5-9E7F-784ABEE5E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84D-1F58-477A-9A01-D2F4A16E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AF27DD-343A-45CC-AFDB-28C67954E65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B068FD-F435-4AFE-B9AC-02B68891F41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29139-0CCC-4B50-AC7C-74AE77ADE1E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5F17B-508F-4915-9522-60CF79F72C62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B11A7-1365-4AC8-B295-01EC9CCB4B6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849052-C08D-45BD-B50D-096A8A55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BD219D-A52F-4CAD-9BBA-57579CF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DD9E2C-3885-468C-AA93-193EA2FF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08270-60FE-4227-9E4A-98A1FC29939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7556C8-5BAD-462B-ABA0-2CE53D7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6E96DF-E76A-49FA-9183-AD58398C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2E76C0-4F1C-44A0-B4F7-3C3215D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9C1060-91C3-4845-B181-5E0EDB0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5E846A-D2B1-4DE7-B78C-A6A2FD5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E8F025-E02D-4536-B553-CE2BE8C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248508-380E-45D7-A99D-782AB31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536E44-718E-4AE7-B4B4-EAF7BE89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51B0A1-E8A3-4982-9B0B-4C180D51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5BEDE3-3D59-475D-AF79-0DF8039C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FA5E3-D3FA-465A-8821-1774F6B1CA37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8D90E0-9018-4034-BEA7-99B9E75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C13040-C543-47BF-A74A-9364A41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79EA64-C171-4970-9C30-789D9A72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481592-493A-4573-8D15-B679885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0107E0-19EC-4E52-B421-DCD9E4DF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93367A-BECA-47BD-9059-90FA8BD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5012FF-0911-473C-A519-BB9D5D7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E16041-952B-441B-BC3B-8528BC1E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9C167D-15B7-4895-A8E6-FD99F3B4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C23799-A742-423B-8523-A9D2B98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F12CF-496B-4D46-ACF5-4297BA326FB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523131-ADEE-4CB7-8960-D0FF942C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85290A-C6B6-425C-8579-76C211D7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785C57-0157-45EE-B5F5-23538F07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5B878F-18F5-40DD-B4E5-1D8420E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8881C6-B7C4-427C-B6C8-F31EB815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AC08AF-25B8-4644-AEA1-E9E62A7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04B9D6-C544-4EC3-95AE-A11A165D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67600F-F868-4E61-8C22-C08BFBE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8D23FE-3A0B-4E28-B2A0-3255737F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A8649C-4153-4D94-ACC9-E55C527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F6C100-F2C4-4A47-8851-2468D4E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7AA7B9E-C66F-4601-ABC7-4384AFD7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4BC130-AFDB-4027-B43C-5F95FE0E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7FAB4D-9CB6-4189-8CE6-B400E24C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600046-9A0A-4744-9CB9-184E4687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0729A2-B351-49A3-BB9A-FEBFA007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4C3BAA-6CBE-4D41-9192-0487CE4E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6179C5-E949-437E-B5E7-46F23C2F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4718B4-6C72-41E2-913C-D5DA7B7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E8B636F-2230-4930-A767-461EDA2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000AC0-AECC-45D4-AB3D-F75A9D9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FC3615-6488-4141-A4BC-9B1C2A5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85C917-1B03-4346-9030-1D9A91B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394871-1682-40AE-A87C-55E3025D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3F0A1D-AD02-4154-BB3A-40F7AA90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17816E-0C52-4B04-BB5F-DE44964E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D4E9EB-273C-4BAE-BEF2-D526151A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E4AE34-758D-4600-A82F-9228FCE6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AEA8D3-2373-4489-9DB0-35CC34EF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E5E423-5B00-40CD-9BC9-32D28515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F4E507-156B-4BA1-BD0B-9F2A3FA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F62ABD-B014-4410-A7E2-C1B0539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DDB5E6-47BC-405F-8B7A-43B6560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C540760-7C0C-41ED-B261-1F2E297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F73579-EFEE-45D4-9A8B-6C9DE30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8571D4-B4B0-45B6-A17E-5CE7689D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911B98-F380-4140-8B8D-7B37505C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21BC1C-0381-4AF4-88B0-346C6C78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DD50E0-0D29-4AA6-8AEC-2489D7B8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71C3DA-B854-4AB2-8D73-10323CEE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BC0-E4EB-4AC6-BDEF-C3B8C35A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E5171E-4E72-4352-9981-DBC24B6A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9BDA55-3A83-4D79-B41F-CBAFF43F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4888C9-A999-46AC-BB59-A30E51A8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8C6FAD-6727-4825-801C-EEEA2B0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DC26BB-AC72-4A90-89A0-52586A3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172F86-C33D-41AB-A430-63D7AE1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4C4507-B816-453F-BB41-141F6F53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AC66D4-69D5-464B-B0FC-75667BE8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534F5C-E090-4154-974F-986D66E9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AEDD32-5A35-4C6F-927C-D71B16F4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825EAD4-6320-40D8-A542-5287B57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45701C-0F23-4F9C-98ED-DB68416F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DC6222-A4FB-44FB-A0BE-7FD644F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3FA1A5-F2AF-42F9-8910-DE6B0E94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F85816-90B0-4442-8FFC-5EEB39C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84F507-A051-44F0-95D9-0CE4AF47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B47462-CB13-41DA-BCDA-EF8AC4A3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9142D1-A088-4AF5-9EA9-1BF0700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D4D7D2-F8E9-4972-BAEE-53935B5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6AB0B1-20F9-4674-9717-D5FF034C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686C75-A5A4-48B7-BE35-557EA210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8E80BE-19C7-4093-91C8-E5D3447D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411C66-398D-4085-8632-6E7287F5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84600B-87D8-4418-8DA3-FE5A98A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93F58E4-4B44-4654-8551-3D801E5D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B5A3D2-3457-43D6-8697-292158D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709159-D5E8-499D-B8AE-474A05BD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2817E6-028A-411F-A1AB-5B569246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A9595C-8FC6-4E72-8470-1E20650D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F38CF9-342B-4FFC-86D3-969C3C4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3090F8-5004-432B-BF44-A1638F3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93F3E9-D33C-4BD4-A966-2A4BAE37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532A1A-3382-49EE-BA76-59180AF5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A3677A-F754-482E-8E84-0146BA32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BB30D1C-AABE-44C1-BBBB-7A86B66F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9D0B6C-FA9F-4946-92A2-69E81CD7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A6C9C2-3FB7-4DEA-8947-21A1917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96F92F-56AE-4766-916B-4130B5E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A1DCB07-5C1A-4025-8CE8-02C923AA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8A881D-90A4-4E66-A610-C3B43BA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ACA185-D155-438E-8374-8FFBA0B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CC3F92A-AA4C-4053-83FE-29386B9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4047C4-D551-4DC1-8B3D-2D03F94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C4CA9DF-A2B1-45CC-A4F1-A85B7763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80A13AC-BE9C-4573-9C85-5C150BE5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33ED11D-CB12-4B23-B689-0191CABE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8FD2C3-B73B-4C1E-8A3F-E3112ED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B13D60-5863-4BD6-8E08-5DD3BBF4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2835156-720E-44F6-963D-AEE00E92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397C83-028C-4D6F-A2EC-7DFDD4A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C807F8-D667-4867-B606-560EBF20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584F29-425E-4D3D-B8EA-241D3D9F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31DF08-D3D1-4F46-B4D2-928E8EB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23D62A6-F675-4E13-8E73-04D9D61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8D64AF-75C3-4E9C-A160-870A342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348592-0305-4FA8-99FD-5203045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9979C9-45B1-4265-B4F8-45654FD3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778205-D003-49AB-AAEF-6464006F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213734-B78B-4FFB-A069-4908CFB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38F26E-EA91-4FE3-86F6-FA68D98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1308D1-0C2D-4D67-A8D5-AD9603FA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03A4F3-7B95-4225-9B40-C819F56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52BA45-EE4D-434D-A3DD-62E7003B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212814-4FC1-459D-A480-302C950F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14F4C0-7F3F-4D9D-ACFD-2CD2065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55B5E1-66A6-4643-AA49-6AB885F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CB596B-557B-435E-B6FC-9BE9A36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244CF0-ADAC-4974-BC19-EEC77C21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FC4823-1285-4695-983A-AF029818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B06627-0DD9-4479-92A1-B4CD43DD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D03E5C5-E159-45A1-B51C-1231620B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BA5F648-89A1-4AC7-B0BC-A8AF208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6DE6D1-295C-4EA2-A604-54DD3233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93A25F1-01B0-4ED9-A777-288ECA37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2B6B06-329F-453D-9591-0EF22124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FABA26-8D7D-4910-825B-E0AC42B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614BBE-0C9C-4714-B62C-449C4D8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2F8966-1C2E-4ED9-8B2E-F267E68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4E6CE9-9946-4CDA-8347-B00BB58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D90863-047B-4F8B-8587-C3DFBF35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D024EA-8808-41E5-A9C5-014EA014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4B7F6DD-0CA6-4894-BCC8-91186044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37A4CD-43B3-426F-99C9-48CF1C3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1DFD61-9D00-49FF-A15F-6C07F26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860AF3C-CF80-45E8-AE05-CB3B759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759E20A-E833-484B-A95A-BF4D3BB4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25B6C3-F1FF-48EC-BF84-D7F56F2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AA726A-1266-4142-AA26-A12A33F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23DF34-1941-48EA-BFD6-6661CB9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5E159D7-C050-4989-B0FF-52C3307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265D-C679-44D8-837B-73B7390AAE9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F70F59-0C05-42E5-8C64-A5D18DF4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7C4899-E870-49C3-8E33-7F99AD1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9255BDA-44C5-49AF-81A1-D956CFDA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D08-A62F-4D00-BA6E-4950EE6D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3645-DE62-4BC0-995D-1CCBBA42FB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E614-922C-4FD4-8CAF-29292E786C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0DE8-4FED-472C-AF2E-0A566C649F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AB73-E246-455A-94B0-1B6F2FC27D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85A8-3751-4D7E-87B1-54A49DFE353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994E-FB02-42F6-975D-923441A4F6D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9B87-C4A0-46EE-A129-A3B7389DD0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0E85-C053-4BA6-B951-1F22E13821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1B78-46AF-44D8-8F64-C5773E62F5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07B4-481E-4CA4-A478-FBF26BD96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C47-8942-4ACF-832C-7726782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EDE62-13B1-4042-A63C-5EDBF39C42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92725-417E-4B21-8F26-EF543BFB64B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ED87C-CE3A-431C-9A5E-2FEB34FE69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A7394-9C37-4D02-9ED7-92858D3892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CA00B-B8D7-451D-A0A7-F77CFB7732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E4410-43F1-4F5C-BCB1-E1DBA2CD66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B665D-0477-4D54-A000-04C3A27E59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59ADA-45FE-42B9-9666-2D04FB3338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2B72B-A150-4A6A-823D-D6A7017265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418B9-52D0-43D3-8CB2-EA20B5551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D03-C3CF-46DE-86C6-03E97A9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E5C08-1FD2-43F7-B4D5-5AADFD7D60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390C1-DD86-43E8-B06F-E4BF5A0367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12236-6235-45D1-8999-3A9CDFFE27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337-3FBC-4846-9C26-DF4234E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5506D2-433F-48D8-9F77-96EE45CA5E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1480B-0395-40DF-B169-EC886C4A00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71B50-DD8C-4E7D-96CD-8AC293502E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4AE509-6462-45AC-B3BC-D045A562E0F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66152-E0D0-4805-96CB-131C3DE25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8A0-DE60-4949-9CFE-92B9CD0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68822-CBA6-4202-B924-3A5EAC678A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7F2A8-94DF-4B62-87C1-2F560904DC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4625BB-6073-481D-AD91-962800A402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4F4FD-D6DE-4A67-8DF0-48CBA61B92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21F2A1-3B53-40C1-9362-F3238AE395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0C25C-BAB1-42A4-8D65-05A180BEF3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014EA-A303-4B29-8B95-161B67949E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4A78-59DE-45C8-976D-EDFB8E56A2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E9D5-2CF3-4C97-8A6F-B64611FEDE5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8C490-20AC-4A2B-81C5-6652E669F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7D3-7749-4340-8FC5-1DEE0D262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936D-1232-4C5D-8E51-0616A461F61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8A0-C0E2-4715-AAFC-D391397CF1C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0F3-4992-4AFD-A73B-AC5810CB7C3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CCC-B22B-4C0F-B55D-6E0FA2E5AEE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0A1-D823-4886-88DE-E4DA7CE5FC1E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E49-4661-4DE3-A2D9-F29A294BB5A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55C6-E1EF-4F08-8F32-732A235B81C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31CD-BF70-4A74-9006-4F92198468C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6DAC-1E02-4DCC-8E73-6AE53651FE8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D3B0-0EAC-444E-85B7-D60E5DD2106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A8FC-DE21-4D61-9860-891EEDDE1BA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728-C888-4ABD-9D92-C0F557FB7B7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E992-671D-4BDE-B893-3CA3D07221B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4CF5-2AE1-419A-9B38-841859870E4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E9C3-33A9-4B8C-A4E8-C5F75AB71A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891-5FFA-4848-8ECA-CC913D9A97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71D-0F1B-4322-8E73-703D0FC9D0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6162-8BE0-4F7C-B672-B7E98BC4CB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52E-8A01-451E-B411-26D3AD4853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036C-BF44-4AE2-A741-E5339B4AD1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7CA0-0F0B-41E4-A9A2-326C65378A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4F60-67AB-4558-8DA9-F61D1E256C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9138-D999-4E3C-8B18-AD6CF73DEA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F389-F020-4BCA-B0E1-13F4DDD320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7B1-5711-481E-93DF-90E1DBD627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B93-4928-41C8-B666-7550391410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B4C-F90C-49B3-AF4B-D323F5695D2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8CE1-406C-4403-984C-4A1A5155F65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E0B5-D915-4444-8ECB-94A9BBBCC97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679-B0DF-4AB8-94C1-9A4B4FBA3D4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12"/>
          <p:cNvSpPr/>
          <p:nvPr/>
        </p:nvSpPr>
        <p:spPr>
          <a:xfrm>
            <a:off x="4143240" y="1785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有解决的方案啦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矩形 1"/>
          <p:cNvSpPr/>
          <p:nvPr/>
        </p:nvSpPr>
        <p:spPr>
          <a:xfrm>
            <a:off x="2547720" y="-334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生交通安全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Box 4"/>
          <p:cNvSpPr/>
          <p:nvPr/>
        </p:nvSpPr>
        <p:spPr>
          <a:xfrm>
            <a:off x="855000" y="224316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TextBox 2"/>
          <p:cNvSpPr/>
          <p:nvPr/>
        </p:nvSpPr>
        <p:spPr>
          <a:xfrm>
            <a:off x="1510200" y="160956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 action="ppaction://hlinksldjump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Box 3"/>
          <p:cNvSpPr/>
          <p:nvPr/>
        </p:nvSpPr>
        <p:spPr>
          <a:xfrm>
            <a:off x="3311640" y="2395440"/>
            <a:ext cx="32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 action="ppaction://hlinksldjump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4"/>
          <p:cNvSpPr/>
          <p:nvPr/>
        </p:nvSpPr>
        <p:spPr>
          <a:xfrm>
            <a:off x="1071720" y="3214800"/>
            <a:ext cx="428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 action="ppaction://hlinksldjump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7"/>
          <p:cNvSpPr/>
          <p:nvPr/>
        </p:nvSpPr>
        <p:spPr>
          <a:xfrm>
            <a:off x="1073160" y="4029120"/>
            <a:ext cx="32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 action="ppaction://hlinksldjump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0"/>
          <p:cNvSpPr/>
          <p:nvPr/>
        </p:nvSpPr>
        <p:spPr>
          <a:xfrm>
            <a:off x="285840" y="-651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7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