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BDC-6F37-4353-A693-FC8AEF61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60E-4A82-4ABB-9720-DDB605C1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B1B-8164-4B98-BEB8-95823B4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E12-2256-4FC4-87A3-55272BDD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D29-A607-46C3-BDA1-7BD64814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C8D-F1ED-464A-831D-CF5CB48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792-0F08-4044-BBF1-BE81587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830-5857-4E73-947E-44477FD5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435-6FA0-4B48-8F79-8B52D98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D02-B679-410D-ABFA-8BBFA81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54B-4C5F-44F2-8281-5D1AA0D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D1B-3AAC-4552-B66A-7F40E0D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-17640" y="2130480"/>
            <a:ext cx="9161640" cy="2336760"/>
          </a:xfrm>
          <a:custGeom>
            <a:avLst/>
            <a:gdLst/>
            <a:ahLst/>
            <a:rect l="l" t="t" r="r" b="b"/>
            <a:pathLst>
              <a:path w="9162662" h="2337173">
                <a:moveTo>
                  <a:pt x="0" y="0"/>
                </a:moveTo>
                <a:cubicBezTo>
                  <a:pt x="1050212" y="68285"/>
                  <a:pt x="2728873" y="112239"/>
                  <a:pt x="4620479" y="112239"/>
                </a:cubicBezTo>
                <a:cubicBezTo>
                  <a:pt x="6465741" y="112239"/>
                  <a:pt x="8108362" y="70412"/>
                  <a:pt x="9162662" y="5283"/>
                </a:cubicBezTo>
                <a:lnTo>
                  <a:pt x="9162662" y="2328598"/>
                </a:lnTo>
                <a:cubicBezTo>
                  <a:pt x="8107458" y="2264244"/>
                  <a:pt x="6476977" y="2223119"/>
                  <a:pt x="4647254" y="2223119"/>
                </a:cubicBezTo>
                <a:cubicBezTo>
                  <a:pt x="2739485" y="2223119"/>
                  <a:pt x="1048316" y="2267827"/>
                  <a:pt x="0" y="2337173"/>
                </a:cubicBezTo>
                <a:close/>
              </a:path>
            </a:pathLst>
          </a:custGeom>
          <a:gradFill rotWithShape="0">
            <a:gsLst>
              <a:gs pos="0">
                <a:srgbClr val="8205ff"/>
              </a:gs>
              <a:gs pos="100000">
                <a:srgbClr val="a568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81E-C5EC-4D92-B31E-A9FC7363384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[动画大师]_Freeform 9"/>
          <p:cNvSpPr/>
          <p:nvPr/>
        </p:nvSpPr>
        <p:spPr>
          <a:xfrm>
            <a:off x="1440" y="5732640"/>
            <a:ext cx="9144000" cy="30780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[动画大师]_Freeform 16"/>
          <p:cNvSpPr/>
          <p:nvPr/>
        </p:nvSpPr>
        <p:spPr>
          <a:xfrm>
            <a:off x="1440" y="5732640"/>
            <a:ext cx="9144000" cy="30780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228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[动画大师]_Freeform 9"/>
          <p:cNvSpPr/>
          <p:nvPr/>
        </p:nvSpPr>
        <p:spPr>
          <a:xfrm>
            <a:off x="0" y="5084640"/>
            <a:ext cx="9144000" cy="1684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[动画大师]_Freeform 16"/>
          <p:cNvSpPr/>
          <p:nvPr/>
        </p:nvSpPr>
        <p:spPr>
          <a:xfrm>
            <a:off x="0" y="5084640"/>
            <a:ext cx="9144000" cy="1684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228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[动画大师]_Straight Connector 20"/>
          <p:cNvSpPr/>
          <p:nvPr/>
        </p:nvSpPr>
        <p:spPr>
          <a:xfrm flipH="1">
            <a:off x="-457092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21"/>
          <p:cNvSpPr/>
          <p:nvPr/>
        </p:nvSpPr>
        <p:spPr>
          <a:xfrm flipH="1">
            <a:off x="-271296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2"/>
          <p:cNvSpPr/>
          <p:nvPr/>
        </p:nvSpPr>
        <p:spPr>
          <a:xfrm flipH="1">
            <a:off x="-85608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3"/>
          <p:cNvSpPr/>
          <p:nvPr/>
        </p:nvSpPr>
        <p:spPr>
          <a:xfrm flipH="1">
            <a:off x="107172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24"/>
          <p:cNvSpPr/>
          <p:nvPr/>
        </p:nvSpPr>
        <p:spPr>
          <a:xfrm flipH="1">
            <a:off x="299988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25"/>
          <p:cNvSpPr/>
          <p:nvPr/>
        </p:nvSpPr>
        <p:spPr>
          <a:xfrm flipH="1">
            <a:off x="507204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26"/>
          <p:cNvSpPr/>
          <p:nvPr/>
        </p:nvSpPr>
        <p:spPr>
          <a:xfrm flipH="1">
            <a:off x="714384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[动画大师]_Oval 3"/>
          <p:cNvSpPr/>
          <p:nvPr/>
        </p:nvSpPr>
        <p:spPr>
          <a:xfrm>
            <a:off x="-5356080" y="3222720"/>
            <a:ext cx="12642840" cy="357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12a8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ff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[动画大师]_Moon 2"/>
          <p:cNvSpPr/>
          <p:nvPr/>
        </p:nvSpPr>
        <p:spPr>
          <a:xfrm rot="16388400">
            <a:off x="-1128600" y="-1609560"/>
            <a:ext cx="109440" cy="684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37" y="3099"/>
                  <a:pt x="17274" y="5080"/>
                  <a:pt x="17274" y="10800"/>
                </a:cubicBezTo>
                <a:cubicBezTo>
                  <a:pt x="17274" y="16520"/>
                  <a:pt x="19437" y="18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6600cc">
                  <a:alpha val="0"/>
                </a:srgbClr>
              </a:gs>
              <a:gs pos="100000">
                <a:srgbClr val="ffffff"/>
              </a:gs>
            </a:gsLst>
            <a:lin ang="16014000"/>
          </a:gradFill>
          <a:ln w="0">
            <a:noFill/>
          </a:ln>
          <a:effectLst>
            <a:outerShdw dist="153753" dir="2700000" blurRad="0" rotWithShape="0">
              <a:srgbClr val="ff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[动画大师]_Moon 4"/>
          <p:cNvSpPr/>
          <p:nvPr/>
        </p:nvSpPr>
        <p:spPr>
          <a:xfrm rot="5200200">
            <a:off x="-879840" y="1951920"/>
            <a:ext cx="47520" cy="4776480"/>
          </a:xfrm>
          <a:custGeom>
            <a:avLst/>
            <a:gdLst/>
            <a:ahLst/>
            <a:rect l="l" t="t" r="r" b="b"/>
            <a:pathLst>
              <a:path w="47098" h="4777831">
                <a:moveTo>
                  <a:pt x="47098" y="4777831"/>
                </a:moveTo>
                <a:cubicBezTo>
                  <a:pt x="21848" y="4777831"/>
                  <a:pt x="5030" y="3185857"/>
                  <a:pt x="1379" y="2389552"/>
                </a:cubicBezTo>
                <a:cubicBezTo>
                  <a:pt x="-2272" y="1593247"/>
                  <a:pt x="-60" y="0"/>
                  <a:pt x="25190" y="0"/>
                </a:cubicBezTo>
                <a:cubicBezTo>
                  <a:pt x="19145" y="756639"/>
                  <a:pt x="37941" y="1569661"/>
                  <a:pt x="37941" y="2389550"/>
                </a:cubicBezTo>
                <a:cubicBezTo>
                  <a:pt x="37941" y="3209439"/>
                  <a:pt x="41054" y="4021189"/>
                  <a:pt x="47098" y="4777827"/>
                </a:cubicBezTo>
                <a:lnTo>
                  <a:pt x="47098" y="4777831"/>
                </a:lnTo>
                <a:close/>
              </a:path>
            </a:pathLst>
          </a:custGeom>
          <a:gradFill rotWithShape="0">
            <a:gsLst>
              <a:gs pos="0">
                <a:srgbClr val="6600cc">
                  <a:alpha val="0"/>
                </a:srgbClr>
              </a:gs>
              <a:gs pos="100000">
                <a:srgbClr val="ffffff"/>
              </a:gs>
            </a:gsLst>
            <a:lin ang="5598000"/>
          </a:gradFill>
          <a:ln w="0">
            <a:noFill/>
          </a:ln>
          <a:effectLst>
            <a:outerShdw dist="153753" dir="2700000" blurRad="0" rotWithShape="0">
              <a:srgbClr val="ff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[动画大师]_Freeform 8"/>
          <p:cNvSpPr/>
          <p:nvPr/>
        </p:nvSpPr>
        <p:spPr>
          <a:xfrm rot="10800000">
            <a:off x="0" y="713520"/>
            <a:ext cx="9144000" cy="30636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[动画大师]_Freeform 10"/>
          <p:cNvSpPr/>
          <p:nvPr/>
        </p:nvSpPr>
        <p:spPr>
          <a:xfrm rot="10800000">
            <a:off x="-54000" y="2781000"/>
            <a:ext cx="9142560" cy="460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[动画大师]_Freeform 14"/>
          <p:cNvSpPr/>
          <p:nvPr/>
        </p:nvSpPr>
        <p:spPr>
          <a:xfrm>
            <a:off x="-54000" y="6418440"/>
            <a:ext cx="9142560" cy="30636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3000">
            <a:solidFill>
              <a:srgbClr val="612a8a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[动画大师]_Arc 6"/>
          <p:cNvSpPr/>
          <p:nvPr/>
        </p:nvSpPr>
        <p:spPr>
          <a:xfrm rot="10800000">
            <a:off x="-540000" y="1915920"/>
            <a:ext cx="10007640" cy="442800"/>
          </a:xfrm>
          <a:custGeom>
            <a:avLst/>
            <a:gdLst>
              <a:gd name="textAreaLeft" fmla="*/ 66240 w 10007640"/>
              <a:gd name="textAreaRight" fmla="*/ 9917640 w 10007640"/>
              <a:gd name="textAreaTop" fmla="*/ 0 h 442800"/>
              <a:gd name="textAreaBottom" fmla="*/ 185400 h 442800"/>
            </a:gdLst>
            <a:ahLst/>
            <a:rect l="textAreaLeft" t="textAreaTop" r="textAreaRight" b="textAreaBottom"/>
            <a:pathLst>
              <a:path stroke="0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  <a:lnTo>
                  <a:pt x="5004556" y="220917"/>
                </a:lnTo>
                <a:close/>
              </a:path>
              <a:path fill="none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</a:path>
            </a:pathLst>
          </a:custGeom>
          <a:noFill/>
          <a:ln w="38160">
            <a:solidFill>
              <a:srgbClr val="ffff00">
                <a:alpha val="2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[动画大师]_Arc 19" hidden="1"/>
          <p:cNvSpPr/>
          <p:nvPr/>
        </p:nvSpPr>
        <p:spPr>
          <a:xfrm>
            <a:off x="-430200" y="4281480"/>
            <a:ext cx="10005840" cy="441360"/>
          </a:xfrm>
          <a:custGeom>
            <a:avLst/>
            <a:gdLst>
              <a:gd name="textAreaLeft" fmla="*/ 66240 w 10005840"/>
              <a:gd name="textAreaRight" fmla="*/ 9915840 w 10005840"/>
              <a:gd name="textAreaTop" fmla="*/ 0 h 441360"/>
              <a:gd name="textAreaBottom" fmla="*/ 184680 h 441360"/>
            </a:gdLst>
            <a:ahLst/>
            <a:rect l="textAreaLeft" t="textAreaTop" r="textAreaRight" b="textAreaBottom"/>
            <a:pathLst>
              <a:path stroke="0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  <a:lnTo>
                  <a:pt x="5004556" y="220917"/>
                </a:lnTo>
                <a:close/>
              </a:path>
              <a:path fill="none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</a:path>
            </a:pathLst>
          </a:custGeom>
          <a:noFill/>
          <a:ln w="38160">
            <a:solidFill>
              <a:srgbClr val="ffffff">
                <a:alpha val="29000"/>
              </a:srgbClr>
            </a:solidFill>
            <a:round/>
          </a:ln>
          <a:effectLst>
            <a:outerShdw dist="153753" dir="2700000" blurRad="0" rotWithShape="0">
              <a:srgbClr val="ffffff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521000" y="162864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下载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7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4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Motion origin="layout" path="M -1.94444E-006 4.07407E-006 L 1.75695 -0.00533 E">
                                      <p:cBhvr>
                                        <p:cTn id="15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16" dur="10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20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2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5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Rot by="21600000" from="0" to="-599760">
                                      <p:cBhvr>
                                        <p:cTn id="26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-9.99600028991699"/>
                                      </p:to>
                                    </p:animRot>
                                    <p:animMotion origin="layout" path="M 1.11111E-006 -1.85185E-006 L 0.51163 0.02662 C 0.61892 0.03264 0.7809 0.02084 0.94792 0.02084 C 1.14792 0.01713 1.37569 -0.00139 1.47014 -0.0125 L 1.92847 -0.07916 E">
                                      <p:cBhvr>
                                        <p:cTn id="27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28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1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Rot by="0" from="0" to="540000">
                                      <p:cBhvr>
                                        <p:cTn id="32" dur="2000" restart="never" fill="hold">
                                          <p:stCondLst>
                                            <p:cond delay="2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9"/>
                                      </p:to>
                                    </p:animRot>
                                    <p:animMotion origin="layout" path="M -2.77556E-017 2.48959E-006 L 0.37622 -0.02476 C 0.4559 -0.02869 0.58003 -0.02545 0.70434 -0.02545 C 0.84635 -0.02545 0.9599 -0.01712 1.03958 -0.01319 L 1.42622 0.0155 E">
                                      <p:cBhvr>
                                        <p:cTn id="33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34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38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40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45" dur="7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8" dur="2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0" dur="7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base">
                                        <p:cTn id="52" dur="10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restart="never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57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9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63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restart="never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65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68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70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72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75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77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79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82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84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86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89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1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93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96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8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0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03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105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7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restart="never" fill="hold">
                                          <p:stCondLst>
                                            <p:cond delay="23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2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restart="never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5" dur="1200" restart="never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restart="never" fill="hold">
                                          <p:stCondLst>
                                            <p:cond delay="2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7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DEB-9271-4274-9CA1-1D7E945A4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1:01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1:52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