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7EF-A170-49B6-A64E-BB029A29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F3F-F6CA-4E05-BAC0-AC98BA23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B5C-77C1-45D7-B431-065AEAC8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19FB-8446-4E19-8098-1E1EE3E7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A7B2-31F4-456D-89E4-C4202CCE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9D4B-8455-4898-980E-1906E4D3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1AEF-69D6-457D-AF76-AAE4FAF7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FDEF-4B16-494C-BF40-915066E2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8DD6-35AD-4489-8684-BED75211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CE86-41A9-4635-B44F-8C1BA099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88E3-00F0-4A4B-8501-6131B53C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47E5-6E15-470A-B34C-D7BF1CD5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9FB6-C00E-4F30-9FEA-80D15514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EC66-4B9C-4847-A4C9-C6F936B7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3639-ADBA-4943-BEE7-E74CE0F1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97D5-CEFC-4706-8A05-BF454506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651A-45C6-4419-9655-3FD06733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7A0-8BBE-4986-8DA8-BDA7AE33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EBA-5858-4091-B3B6-F309A5AC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BED7-EED6-4CFD-B37D-97959852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FD3B-9246-44A1-A11E-DD1E3FAD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72AF-AAEE-4F7D-A0F7-8AC86536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CA85-C390-4DD4-86FB-B0DEBC53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4E2F-79AC-46A4-91A5-46BFDDEA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0E33-0171-4C92-B5B4-1F5DF86EB39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66DE-0E78-4910-A2F0-4B9F36E064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SzPct val="25000"/>
              <a:buFont typeface="Comic Sans M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25000"/>
              <a:buFont typeface="Comic Sans MS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SzPct val="25000"/>
              <a:buFont typeface="Comic Sans M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SzPct val="25000"/>
              <a:buFont typeface="Comic Sans MS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SzPct val="25000"/>
              <a:buFont typeface="Comic Sans MS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SzPct val="25000"/>
              <a:buFont typeface="Comic Sans MS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SzPct val="25000"/>
              <a:buFont typeface="Comic Sans MS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44EA-71F0-496E-863B-36ACBC31D4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77880" y="113040"/>
                  <a:ext cx="243360" cy="198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08560" y="524160"/>
                  <a:ext cx="427680" cy="69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06880" y="286200"/>
                  <a:ext cx="80316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4200" y="1423080"/>
                  <a:ext cx="268560" cy="193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4360" y="1277280"/>
                  <a:ext cx="287640" cy="22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07760" y="328680"/>
                  <a:ext cx="288000" cy="233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0160" y="221400"/>
                  <a:ext cx="284760" cy="21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1" name=""/>
            <p:cNvGrpSpPr/>
            <p:nvPr/>
          </p:nvGrpSpPr>
          <p:grpSpPr>
            <a:xfrm>
              <a:off x="7731000" y="133200"/>
              <a:ext cx="66240" cy="152280"/>
              <a:chOff x="7731000" y="133200"/>
              <a:chExt cx="66240" cy="152280"/>
            </a:xfrm>
          </p:grpSpPr>
          <p:sp>
            <p:nvSpPr>
              <p:cNvPr id="92" name="Line 52"/>
              <p:cNvSpPr/>
              <p:nvPr/>
            </p:nvSpPr>
            <p:spPr>
              <a:xfrm>
                <a:off x="7731000" y="133200"/>
                <a:ext cx="66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7731000" y="133200"/>
                <a:ext cx="6624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3"/>
          <p:cNvSpPr/>
          <p:nvPr/>
        </p:nvSpPr>
        <p:spPr>
          <a:xfrm>
            <a:off x="4219560" y="1917720"/>
            <a:ext cx="31104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10840" y="1173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忆读书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2101680" y="476280"/>
            <a:ext cx="432612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到得我十一岁时，回到故乡的福州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我祖父的书桌上看到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林琴南老先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送给他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茶花女遗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使我对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黑体"/>
              </a:rPr>
              <a:t>林译外国小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产生了广泛的兴趣。那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只要我手里有几角钱，就请人去买林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说来看，这又使我知道了许多外国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人情世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280" y="1125360"/>
            <a:ext cx="7272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此顺便说一句，我酷爱古典诗词，但能从头背到底的，只有岳武穆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满江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怒发冲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那一首，还有就是李易安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声声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满江红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岳飞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7912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Comic Sans MS"/>
              <a:buChar char="•"/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怒发冲冠，凭阑处、潇潇雨歇。抬望眼，仰天长啸，壮怀激烈。三十功名尘与土，八千里路云和月。莫等闲、白了少年头，空悲切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靖康耻，犹未雪；臣子恨，何时灭？驾长车、踏破贺兰山缺。壮志饥餐胡虏肉，笑谈渴饮匈奴血。待从头、收拾旧山河，朝天阙。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今译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】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倚在栏杆旁，我不由得怒发冲冠，一场潇潇秋雨刚刚停歇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举目远望，仰天长啸，万千思绪，奔涌激烈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为祖国奋斗，三十年的功名，自当视若尘土；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与敌人周旋，八千里的征程，何惧披星戴月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千万不要随便虚掷了少年时光，等到头发白了才徒自悲切！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靖康年间的国耻啊，还没洗雪；臣子的复仇之恨啊，何时能    灭？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驾起远征的战车吧，直把那贺兰山踏裂！壮志凌云，饿了就饱餐敌人肉；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Comic Sans MS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笑风声，渴了就痛饮敌人血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期待着这一天吧，让我们从头收拾好旧日的山河，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向祖国献捷！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声声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寻寻觅觅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李清照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Comic Sans MS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寻寻觅觅，冷冷清清，凄凄惨惨戚戚。乍暖还寒时候，最难将息。三杯两盏淡酒，怎敌他晚来风急？雁过也，正伤心，却是旧时相识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满地黄花堆积，憔悴损，如今有谁堪摘？守著窗儿，独自怎生得黑！梧桐更兼细雨，到黄昏、点点滴滴。这次第，怎一个愁字了得！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UA007"/>
          <p:cNvPicPr/>
          <p:nvPr/>
        </p:nvPicPr>
        <p:blipFill>
          <a:blip r:embed="rId2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684360" y="981000"/>
            <a:ext cx="381636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谢 谢 </a:t>
            </a:r>
            <a:r>
              <a:rPr b="0" lang="en-US" sz="110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!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83CB-ABC9-47A4-9922-6D6AFF34D3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411280" y="1917360"/>
            <a:ext cx="4392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整体感知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重点感悟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整体回顾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462120" y="333360"/>
            <a:ext cx="230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  <a:ea typeface="黑体"/>
              </a:rPr>
              <a:t>七 岁 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1600200"/>
            <a:ext cx="60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三国演义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36280" y="1679400"/>
            <a:ext cx="294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聊斋志异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143360" y="2975040"/>
            <a:ext cx="24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水浒传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499720" y="2975040"/>
            <a:ext cx="24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荡寇志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916560" y="4270320"/>
            <a:ext cx="294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精忠说岳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5499720" y="4346640"/>
            <a:ext cx="24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满江红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534120" y="5589720"/>
            <a:ext cx="24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声声慢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412440" y="228600"/>
            <a:ext cx="266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  <a:ea typeface="黑体"/>
              </a:rPr>
              <a:t>十一 岁 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523880" y="16002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茶花女遗事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625920" y="3048120"/>
            <a:ext cx="285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  <a:ea typeface="黑体"/>
              </a:rPr>
              <a:t>十二三 岁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362320" y="4495680"/>
            <a:ext cx="57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红楼梦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60360" y="595008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Comic Sans MS"/>
                <a:ea typeface="黑体"/>
              </a:rPr>
              <a:t>中心句：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仿宋_GB2312"/>
                <a:ea typeface="仿宋_GB2312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华文仿宋"/>
                <a:ea typeface="华文仿宋"/>
              </a:rPr>
              <a:t>读书好、多读书、读好书</a:t>
            </a:r>
            <a:r>
              <a:rPr b="0" lang="en-US" sz="3600" spc="-1" strike="noStrike">
                <a:solidFill>
                  <a:srgbClr val="cc00cc"/>
                </a:solidFill>
                <a:latin typeface="仿宋_GB2312"/>
                <a:ea typeface="仿宋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-360" y="1844280"/>
            <a:ext cx="169236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读书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多读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读好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508720" y="1125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冰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419640" y="404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宋体"/>
              </a:rPr>
              <a:t>忆读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547640" y="213372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Comic Sans MS"/>
                <a:ea typeface="宋体"/>
              </a:rPr>
              <a:t>激发情感 帮助作文 增长知识 得到道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547640" y="29574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Comic Sans MS"/>
                <a:ea typeface="宋体"/>
              </a:rPr>
              <a:t>古今中外 七岁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1619280" y="3716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Comic Sans MS"/>
                <a:ea typeface="宋体"/>
              </a:rPr>
              <a:t>精彩的   人物如生 真情实感 质朴浅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334880" y="1844640"/>
            <a:ext cx="42444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7920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这时我同时还看了母亲针线笸箩里常放着的那几本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聊斋志异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。聊斋故事是短篇的，可以随时拿起放下，又是文言的，这对于我的作文课很有帮助，因为老师曾在我的作文本上批着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cc00cc"/>
                </a:solidFill>
                <a:latin typeface="Comic Sans MS"/>
                <a:ea typeface="黑体"/>
              </a:rPr>
              <a:t>柳州风骨，长吉清才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的句子，其实我那时还没有读过柳宗元和李贺的文章，只因那时的作文，都是用文言写的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7920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这时我同时还看了母亲针线笸箩里常放着的那几本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聊斋志异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。聊斋故事是短篇的，可以随时拿起放下，又是文言的，这对于我的作文课很有帮助，因为老师曾在我的作文本上批着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cc00cc"/>
                </a:solidFill>
                <a:latin typeface="Comic Sans MS"/>
                <a:ea typeface="黑体"/>
              </a:rPr>
              <a:t>柳州风骨，长吉清才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的句子，其实我那时还没有读过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柳宗元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李贺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的文章，只因那时的作文，都是用文言写的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2101680" y="476280"/>
            <a:ext cx="432612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到得我十一岁时，回到故乡的福州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我祖父的书桌上看到了林琴南老先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送给他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茶花女遗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使我对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黑体"/>
              </a:rPr>
              <a:t>林译外国小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产生了广泛的兴趣。那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只要我手里有几角钱，就请人去买林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说来看，这又使我知道了许多外国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人情世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7T01:33:00Z</dcterms:created>
  <dc:creator>幻灯片之家 http://www.eeppt.com</dc:creator>
  <dc:description/>
  <cp:keywords>幻灯片之家 http:/www.eeppt.com; 第一PPT模板网-WWW.1PPT.COM</cp:keywords>
  <dc:language>en-US</dc:language>
  <cp:lastModifiedBy/>
  <dcterms:modified xsi:type="dcterms:W3CDTF">2015-07-16T02:30:1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