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4A96-A2D9-4B40-8C68-FF1BF4703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CE59-239D-49D5-9B32-3EAFE4EC0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B045-E5CE-4AEA-B1B3-0E74D5B83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0379-B1DC-40A7-9A41-01231200E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9AA2-6013-4334-8D12-26DD1EAEF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B0AE-F658-47C3-A7D4-2B039DF94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1884-F7C6-4935-90D8-279349C1D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6277-76EF-45BC-9445-7A31F720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3E65-7D0D-44A5-8A25-5E15657EB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15E8-8E86-4DCF-B318-9A7EE1B4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D046-A1A7-4C36-BF65-C0660D6D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D2EE-627D-4DA5-833B-546FEB3D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4115E-E14A-49E6-9EC7-E7FCB24C47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beijing/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9"/>
          <p:cNvSpPr/>
          <p:nvPr/>
        </p:nvSpPr>
        <p:spPr>
          <a:xfrm>
            <a:off x="2146320" y="12938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ee92fe0a1ac05b0f94ca6b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64771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52560" y="457200"/>
            <a:ext cx="35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忆江南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026" descr="ee92fe0a1ac05b0f94ca6b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027"/>
          <p:cNvSpPr/>
          <p:nvPr/>
        </p:nvSpPr>
        <p:spPr>
          <a:xfrm>
            <a:off x="6770520" y="990720"/>
            <a:ext cx="1643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忆江南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白居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028"/>
          <p:cNvSpPr/>
          <p:nvPr/>
        </p:nvSpPr>
        <p:spPr>
          <a:xfrm>
            <a:off x="3809880" y="685800"/>
            <a:ext cx="3962520" cy="39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江南好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风景旧曾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日出江花红胜火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春来江水绿如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能不忆江南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914400" y="10666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白居易曾在江南做官十年，为人民做了很多好事，当地百姓和他的感情很深。后来，他生病了，不得不谢任苏州刺史一职，在他离任回洛阳时，苏州的人们不舍得他走，都哭着为他送别。他的好友刘禹锡曾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白太守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中写道：“苏州十万户，尽作婴儿啼”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3641760" y="479520"/>
            <a:ext cx="2454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26" descr="ee92fe0a1ac05b0f94ca6b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27"/>
          <p:cNvSpPr/>
          <p:nvPr/>
        </p:nvSpPr>
        <p:spPr>
          <a:xfrm>
            <a:off x="2286000" y="2514600"/>
            <a:ext cx="5334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能不忆江南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609480" y="1219320"/>
            <a:ext cx="38862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江南忆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最忆是杭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山寺月中寻桂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郡亭枕上看潮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何日更重游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4724280" y="1219320"/>
            <a:ext cx="39625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江南忆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其次忆吴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吴酒一杯春竹叶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吴娃双舞醉芙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早晚复相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mhsn-guzheng.mp3" descr=""/>
          <p:cNvPicPr/>
          <p:nvPr/>
        </p:nvPicPr>
        <p:blipFill>
          <a:blip r:embed="rId1"/>
          <a:stretch/>
        </p:blipFill>
        <p:spPr>
          <a:xfrm>
            <a:off x="8153280" y="58672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311119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26"/>
          <p:cNvSpPr/>
          <p:nvPr/>
        </p:nvSpPr>
        <p:spPr>
          <a:xfrm>
            <a:off x="762120" y="1219320"/>
            <a:ext cx="39621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江南忆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最忆是杭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山寺月中寻桂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郡亭枕上看潮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何日更重游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27"/>
          <p:cNvSpPr/>
          <p:nvPr/>
        </p:nvSpPr>
        <p:spPr>
          <a:xfrm>
            <a:off x="4648320" y="1219320"/>
            <a:ext cx="38862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江南忆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其次忆吴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吴酒一杯春竹叶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吴娃双舞醉芙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早晚复相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mhsn-guzheng.mp3" descr=""/>
          <p:cNvPicPr/>
          <p:nvPr/>
        </p:nvPicPr>
        <p:blipFill>
          <a:blip r:embed="rId1"/>
          <a:stretch/>
        </p:blipFill>
        <p:spPr>
          <a:xfrm>
            <a:off x="8153280" y="58672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311119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ee92fe0a1ac05b0f94ca6b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2286000" y="2514600"/>
            <a:ext cx="5334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能不忆江南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6095880"/>
            <a:ext cx="5661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好看的ppt背景图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ee92fe0a1ac05b0f94ca6b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6770520" y="990720"/>
            <a:ext cx="1643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忆江南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白居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3809880" y="685800"/>
            <a:ext cx="3962520" cy="39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江南好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风景旧曾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日出江花红胜火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春来江水绿如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能不忆江南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mhsn-guzheng.mp3" descr=""/>
          <p:cNvPicPr/>
          <p:nvPr/>
        </p:nvPicPr>
        <p:blipFill>
          <a:blip r:embed="rId2"/>
          <a:stretch/>
        </p:blipFill>
        <p:spPr>
          <a:xfrm>
            <a:off x="8077320" y="586728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311119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0F37-A723-4782-A71C-C7D9A759DDE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2.MP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5608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ee92fe0a1ac05b0f94ca6b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6770520" y="990720"/>
            <a:ext cx="1643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忆江南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白居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3809880" y="685800"/>
            <a:ext cx="3962520" cy="39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江南好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风景旧曾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日出江花红胜火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春来江水绿如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能不忆江南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mhsn-guzheng.mp3" descr=""/>
          <p:cNvPicPr/>
          <p:nvPr/>
        </p:nvPicPr>
        <p:blipFill>
          <a:blip r:embed="rId2"/>
          <a:stretch/>
        </p:blipFill>
        <p:spPr>
          <a:xfrm>
            <a:off x="8153280" y="609588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311119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ee92fe0a1ac05b0f94ca6b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6770520" y="990720"/>
            <a:ext cx="1643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忆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江南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白居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3809880" y="685800"/>
            <a:ext cx="3962520" cy="39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江南好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风景旧曾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日出江花红胜火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春来江水绿如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能不忆江南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ee92fe0a1ac05b0f94ca6b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6770520" y="990720"/>
            <a:ext cx="1643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忆江南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白居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3809880" y="685800"/>
            <a:ext cx="3962520" cy="39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江南好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风景旧曾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日出江花红胜火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春来江水绿如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能不忆江南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ee92fe0a1ac05b0f94ca6b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6770520" y="990720"/>
            <a:ext cx="1643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忆江南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白居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3809880" y="685800"/>
            <a:ext cx="3962520" cy="39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江南好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风景旧曾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日出江花红胜火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春来江水绿如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能不忆江南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ee92fe0a1ac05b0f94ca6b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6770520" y="990720"/>
            <a:ext cx="1643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忆江南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白居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3809880" y="685800"/>
            <a:ext cx="3962520" cy="39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江南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好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风景旧曾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日出江花红胜火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春来江水绿如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能不忆江南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ee92fe0a1ac05b0f94ca6b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6770520" y="990720"/>
            <a:ext cx="1643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忆江南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白居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3809880" y="685800"/>
            <a:ext cx="3962520" cy="39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江南好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风景旧曾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日出江花红胜火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春来江水绿如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能不忆江南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ee92fe0a1ac05b0f94ca6b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6770520" y="990720"/>
            <a:ext cx="1643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忆江南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白居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3809880" y="685800"/>
            <a:ext cx="3962520" cy="39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江南好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风景旧曾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日出江花红胜火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春来江水绿如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能不忆江南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0T10:14:20Z</dcterms:created>
  <dc:creator>幻灯片之家 http://www.eeppt.com</dc:creator>
  <dc:description/>
  <cp:keywords>幻灯片之家 http:/www.eeppt.com; 第一PPT模板网-WWW.1PPT.COM</cp:keywords>
  <dc:language>en-US</dc:language>
  <cp:lastModifiedBy/>
  <dcterms:modified xsi:type="dcterms:W3CDTF">2015-07-16T02:31:32Z</dcterms:modified>
  <cp:revision>2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