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FAC-4988-4260-A24B-375EC167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312-47D4-462D-9107-693837D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E78-821A-4A92-9480-776614EE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04F-DBF5-4FFE-8512-6B82E45F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D21-B7ED-4D90-894B-8622CB9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FAA-9164-4083-B3E3-3321F6DA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8DA-8548-4FEC-ADD9-EE233467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632-555C-4C68-9837-71627FD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0CF-4043-4B9A-9515-1F9F6354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586-FBAB-4904-9832-4409F6B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48F-A82F-41A5-937D-EC23191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AA6-4FE2-427A-952B-0A7E2BC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1CB-5DC1-4D1D-AFC1-ED82BF602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arge_4197i63"/>
          <p:cNvPicPr/>
          <p:nvPr/>
        </p:nvPicPr>
        <p:blipFill>
          <a:blip r:embed="rId1">
            <a:grayscl/>
          </a:blip>
          <a:stretch/>
        </p:blipFill>
        <p:spPr>
          <a:xfrm>
            <a:off x="4211640" y="4365720"/>
            <a:ext cx="4968720" cy="2520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untitled"/>
          <p:cNvPicPr/>
          <p:nvPr/>
        </p:nvPicPr>
        <p:blipFill>
          <a:blip r:embed="rId2">
            <a:grayscl/>
          </a:blip>
          <a:stretch/>
        </p:blipFill>
        <p:spPr>
          <a:xfrm>
            <a:off x="-34920" y="-98280"/>
            <a:ext cx="5037120" cy="568476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4643280" y="4149720"/>
            <a:ext cx="136872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932360" y="5734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bac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35480" y="62064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烟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动态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large_4197i63"/>
          <p:cNvPicPr/>
          <p:nvPr/>
        </p:nvPicPr>
        <p:blipFill>
          <a:blip r:embed="rId1"/>
          <a:stretch/>
        </p:blipFill>
        <p:spPr>
          <a:xfrm>
            <a:off x="4211640" y="4365720"/>
            <a:ext cx="4968720" cy="2520720"/>
          </a:xfrm>
          <a:prstGeom prst="rect">
            <a:avLst/>
          </a:prstGeom>
          <a:ln w="0">
            <a:noFill/>
          </a:ln>
        </p:spPr>
      </p:pic>
      <p:sp>
        <p:nvSpPr>
          <p:cNvPr id="48" name="Freeform 8"/>
          <p:cNvSpPr/>
          <p:nvPr/>
        </p:nvSpPr>
        <p:spPr>
          <a:xfrm>
            <a:off x="-79200" y="-36360"/>
            <a:ext cx="9404280" cy="5049720"/>
          </a:xfrm>
          <a:prstGeom prst="pie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68360" y="1916280"/>
            <a:ext cx="7848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喜欢抽烟来平静自己的心情，喜和忧的时候；我喜欢在抽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时候思索问题，那时我会最清醒；我喜欢抽烟度过寂寞的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间，仿佛能从黑暗中走出。烟已成为我的唯一知己，只有我会抛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它，它绝不会抛弃我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7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arge_4197i63"/>
          <p:cNvPicPr/>
          <p:nvPr/>
        </p:nvPicPr>
        <p:blipFill>
          <a:blip r:embed="rId1">
            <a:grayscl/>
          </a:blip>
          <a:stretch/>
        </p:blipFill>
        <p:spPr>
          <a:xfrm>
            <a:off x="4211640" y="4365720"/>
            <a:ext cx="4968720" cy="2520720"/>
          </a:xfrm>
          <a:prstGeom prst="rect">
            <a:avLst/>
          </a:prstGeom>
          <a:ln w="0">
            <a:noFill/>
          </a:ln>
        </p:spPr>
      </p:pic>
      <p:sp>
        <p:nvSpPr>
          <p:cNvPr id="51" name="Freeform 6"/>
          <p:cNvSpPr/>
          <p:nvPr/>
        </p:nvSpPr>
        <p:spPr>
          <a:xfrm>
            <a:off x="-322200" y="115920"/>
            <a:ext cx="9709200" cy="4557600"/>
          </a:xfrm>
          <a:prstGeom prst="pi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39640" y="1916280"/>
            <a:ext cx="7921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有时只是喜欢烟，而不是抽，喜欢那种把东西吐出的感觉，如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同解下身上所有的包袱，放出心中所有不快。喜欢在夜里不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地抽，一支接一支，生命永无休止，那点点火光，照亮黑夜，照亮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心田。让短暂的晕眩变成永恒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7720" y="452772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7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AEA-786A-4EC9-AC0F-5744277AD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arge_4197i63"/>
          <p:cNvPicPr/>
          <p:nvPr/>
        </p:nvPicPr>
        <p:blipFill>
          <a:blip r:embed="rId1"/>
          <a:stretch/>
        </p:blipFill>
        <p:spPr>
          <a:xfrm>
            <a:off x="4211640" y="4365720"/>
            <a:ext cx="4968720" cy="2520720"/>
          </a:xfrm>
          <a:prstGeom prst="rect">
            <a:avLst/>
          </a:prstGeom>
          <a:ln w="0">
            <a:noFill/>
          </a:ln>
        </p:spPr>
      </p:pic>
      <p:sp>
        <p:nvSpPr>
          <p:cNvPr id="58" name="Freeform 5"/>
          <p:cNvSpPr/>
          <p:nvPr/>
        </p:nvSpPr>
        <p:spPr>
          <a:xfrm>
            <a:off x="-106200" y="189000"/>
            <a:ext cx="9531360" cy="4373640"/>
          </a:xfrm>
          <a:prstGeom prst="pie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780000" y="765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再次点起烟的刹那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276720" y="1268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我清楚地知道，自己不再期盼别人的关心或者心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187280" y="2349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只是，爱上了有烟陪伴的感觉，让自己解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971640" y="32846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让自己发泄，让自己找到陷入快乐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11280" y="184464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其实没什么，不是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24000" y="2781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让自己轻松，让自己飞翔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large_4197i63"/>
          <p:cNvPicPr/>
          <p:nvPr/>
        </p:nvPicPr>
        <p:blipFill>
          <a:blip r:embed="rId1">
            <a:grayscl/>
          </a:blip>
          <a:stretch/>
        </p:blipFill>
        <p:spPr>
          <a:xfrm>
            <a:off x="4211640" y="4365720"/>
            <a:ext cx="4968720" cy="25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untitled"/>
          <p:cNvPicPr/>
          <p:nvPr/>
        </p:nvPicPr>
        <p:blipFill>
          <a:blip r:embed="rId2">
            <a:grayscl/>
          </a:blip>
          <a:stretch/>
        </p:blipFill>
        <p:spPr>
          <a:xfrm>
            <a:off x="34920" y="-25560"/>
            <a:ext cx="5038560" cy="5685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4643280" y="4149720"/>
            <a:ext cx="136872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932360" y="5734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bac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780000" y="3357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mon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419640" y="2565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ever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19653E-006 C -0.04201 -0.08578 -0.08402 -0.17133 -0.10243 -0.20971 C -0.12083 -0.24809 -0.11562 -0.23953 -0.11024 -0.23075 E">
                                      <p:cBhvr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37:37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3:0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