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AC3-8B84-40C6-BA2E-2DC4D7CE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C82-02BE-4107-9CE3-26C57973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2E1-E40C-4531-BBD9-313B2B4F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2C8-F095-4C2E-8A81-707C3BF2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205-0254-4C47-8FA2-5EDD1A3F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6A0-0AF6-42CD-9D69-CF369DD8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B0CD-29BC-41B0-A810-BF8CBB18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4BC-DD0B-4EBB-8D52-47308F3F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E283-CE42-4CD9-A2D9-FD387D58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A61D-AB16-44D5-B139-3FD1FF51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486-50A9-4E2B-AD5B-47230E0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50A-65C9-4061-8EBF-7F8E65D4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8AAE-86C7-4E68-988F-6F4E517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3F0E-12DB-46DD-A636-4D6661F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BB4-08B0-476F-9D25-94DDAAFF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A307-EBEB-47B2-9BB5-8874DBCC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01C3-B826-4801-8DEC-C6536878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CC0-90C3-4A35-80B9-72A1F29E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5B0-9AE4-47B2-A817-E7E5532B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433-95DD-46B6-8E30-DBAEF39E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933-8357-4682-9F5A-E709066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E77-4432-4AF3-90EB-1976539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621-9ABD-42D0-83EC-AFF81C0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733-A781-4CA7-A384-4170F68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B0E5-DFC8-49F8-B9D2-078717349D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EDC5-9014-492A-8F43-D37D172B6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背景" descr="背景"/>
          <p:cNvPicPr/>
          <p:nvPr/>
        </p:nvPicPr>
        <p:blipFill>
          <a:blip r:embed="rId1"/>
          <a:stretch/>
        </p:blipFill>
        <p:spPr>
          <a:xfrm>
            <a:off x="0" y="-171360"/>
            <a:ext cx="9180360" cy="7118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-1614600" y="-1821240"/>
            <a:ext cx="18207000" cy="13279320"/>
            <a:chOff x="-1614600" y="-1821240"/>
            <a:chExt cx="18207000" cy="13279320"/>
          </a:xfrm>
        </p:grpSpPr>
        <p:sp>
          <p:nvSpPr>
            <p:cNvPr id="84" name="加号 6"/>
            <p:cNvSpPr/>
            <p:nvPr/>
          </p:nvSpPr>
          <p:spPr>
            <a:xfrm>
              <a:off x="7238880" y="4389840"/>
              <a:ext cx="428400" cy="999360"/>
            </a:xfrm>
            <a:custGeom>
              <a:avLst/>
              <a:gdLst>
                <a:gd name="textAreaLeft" fmla="*/ 56520 w 428400"/>
                <a:gd name="textAreaRight" fmla="*/ 371880 w 428400"/>
                <a:gd name="textAreaTop" fmla="*/ 461160 h 999360"/>
                <a:gd name="textAreaBottom" fmla="*/ 538200 h 999360"/>
              </a:gdLst>
              <a:ahLst/>
              <a:rect l="textAreaLeft" t="textAreaTop" r="textAreaRight" b="textAreaBottom"/>
              <a:pathLst>
                <a:path w="428628" h="1000132">
                  <a:moveTo>
                    <a:pt x="56815" y="461547"/>
                  </a:moveTo>
                  <a:lnTo>
                    <a:pt x="175795" y="461547"/>
                  </a:lnTo>
                  <a:lnTo>
                    <a:pt x="175795" y="132567"/>
                  </a:lnTo>
                  <a:lnTo>
                    <a:pt x="252833" y="132567"/>
                  </a:lnTo>
                  <a:lnTo>
                    <a:pt x="252833" y="461547"/>
                  </a:lnTo>
                  <a:lnTo>
                    <a:pt x="371813" y="461547"/>
                  </a:lnTo>
                  <a:lnTo>
                    <a:pt x="371813" y="538585"/>
                  </a:lnTo>
                  <a:lnTo>
                    <a:pt x="252833" y="538585"/>
                  </a:lnTo>
                  <a:lnTo>
                    <a:pt x="252833" y="867565"/>
                  </a:lnTo>
                  <a:lnTo>
                    <a:pt x="175795" y="867565"/>
                  </a:lnTo>
                  <a:lnTo>
                    <a:pt x="175795" y="538585"/>
                  </a:lnTo>
                  <a:lnTo>
                    <a:pt x="56815" y="538585"/>
                  </a:lnTo>
                  <a:lnTo>
                    <a:pt x="56815" y="4615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24"/>
            <p:cNvSpPr/>
            <p:nvPr/>
          </p:nvSpPr>
          <p:spPr>
            <a:xfrm>
              <a:off x="-1614600" y="4889880"/>
              <a:ext cx="18207000" cy="144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5"/>
            <p:cNvSpPr/>
            <p:nvPr/>
          </p:nvSpPr>
          <p:spPr>
            <a:xfrm flipV="1">
              <a:off x="7452360" y="-1821240"/>
              <a:ext cx="720" cy="1327932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-1614600" y="-1821240"/>
            <a:ext cx="18207000" cy="13279320"/>
            <a:chOff x="-1614600" y="-1821240"/>
            <a:chExt cx="18207000" cy="13279320"/>
          </a:xfrm>
        </p:grpSpPr>
        <p:sp>
          <p:nvSpPr>
            <p:cNvPr id="88" name="加号 6"/>
            <p:cNvSpPr/>
            <p:nvPr/>
          </p:nvSpPr>
          <p:spPr>
            <a:xfrm>
              <a:off x="7238880" y="4389840"/>
              <a:ext cx="428400" cy="999360"/>
            </a:xfrm>
            <a:custGeom>
              <a:avLst/>
              <a:gdLst>
                <a:gd name="textAreaLeft" fmla="*/ 56520 w 428400"/>
                <a:gd name="textAreaRight" fmla="*/ 371880 w 428400"/>
                <a:gd name="textAreaTop" fmla="*/ 461160 h 999360"/>
                <a:gd name="textAreaBottom" fmla="*/ 538200 h 999360"/>
              </a:gdLst>
              <a:ahLst/>
              <a:rect l="textAreaLeft" t="textAreaTop" r="textAreaRight" b="textAreaBottom"/>
              <a:pathLst>
                <a:path w="428628" h="1000132">
                  <a:moveTo>
                    <a:pt x="56815" y="461547"/>
                  </a:moveTo>
                  <a:lnTo>
                    <a:pt x="175795" y="461547"/>
                  </a:lnTo>
                  <a:lnTo>
                    <a:pt x="175795" y="132567"/>
                  </a:lnTo>
                  <a:lnTo>
                    <a:pt x="252833" y="132567"/>
                  </a:lnTo>
                  <a:lnTo>
                    <a:pt x="252833" y="461547"/>
                  </a:lnTo>
                  <a:lnTo>
                    <a:pt x="371813" y="461547"/>
                  </a:lnTo>
                  <a:lnTo>
                    <a:pt x="371813" y="538585"/>
                  </a:lnTo>
                  <a:lnTo>
                    <a:pt x="252833" y="538585"/>
                  </a:lnTo>
                  <a:lnTo>
                    <a:pt x="252833" y="867565"/>
                  </a:lnTo>
                  <a:lnTo>
                    <a:pt x="175795" y="867565"/>
                  </a:lnTo>
                  <a:lnTo>
                    <a:pt x="175795" y="538585"/>
                  </a:lnTo>
                  <a:lnTo>
                    <a:pt x="56815" y="538585"/>
                  </a:lnTo>
                  <a:lnTo>
                    <a:pt x="56815" y="4615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4"/>
            <p:cNvSpPr/>
            <p:nvPr/>
          </p:nvSpPr>
          <p:spPr>
            <a:xfrm>
              <a:off x="-1614600" y="4889880"/>
              <a:ext cx="18207000" cy="144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5"/>
            <p:cNvSpPr/>
            <p:nvPr/>
          </p:nvSpPr>
          <p:spPr>
            <a:xfrm flipV="1">
              <a:off x="7452360" y="-1821240"/>
              <a:ext cx="720" cy="1327932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图片1" descr="图片1"/>
          <p:cNvPicPr/>
          <p:nvPr/>
        </p:nvPicPr>
        <p:blipFill>
          <a:blip r:embed="rId2"/>
          <a:stretch/>
        </p:blipFill>
        <p:spPr>
          <a:xfrm>
            <a:off x="4689360" y="2781360"/>
            <a:ext cx="2476440" cy="180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图片2" descr="图片4"/>
          <p:cNvPicPr/>
          <p:nvPr/>
        </p:nvPicPr>
        <p:blipFill>
          <a:blip r:embed="rId3"/>
          <a:stretch/>
        </p:blipFill>
        <p:spPr>
          <a:xfrm>
            <a:off x="4645080" y="2781360"/>
            <a:ext cx="2520720" cy="183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3" name="图片3" descr="图片3"/>
          <p:cNvPicPr/>
          <p:nvPr/>
        </p:nvPicPr>
        <p:blipFill>
          <a:blip r:embed="rId4"/>
          <a:stretch/>
        </p:blipFill>
        <p:spPr>
          <a:xfrm>
            <a:off x="3276720" y="1846440"/>
            <a:ext cx="2411280" cy="361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图片2"/>
          <p:cNvPicPr/>
          <p:nvPr/>
        </p:nvPicPr>
        <p:blipFill>
          <a:blip r:embed="rId5"/>
          <a:stretch/>
        </p:blipFill>
        <p:spPr>
          <a:xfrm>
            <a:off x="1403280" y="1773360"/>
            <a:ext cx="4068720" cy="406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5" name="Text Box 15"/>
          <p:cNvSpPr/>
          <p:nvPr/>
        </p:nvSpPr>
        <p:spPr>
          <a:xfrm>
            <a:off x="1547640" y="3429000"/>
            <a:ext cx="33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BY:   </a:t>
            </a:r>
            <a:r>
              <a:rPr b="1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看球听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44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相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350208 -0.338796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350208 -0.338796 L 0.013819 -0.350648 E">
                                      <p:cBhvr>
                                        <p:cTn id="1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-0.350208 -0.002778 E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11806 -0.35037 L -0.476458 0.132686 E">
                                      <p:cBhvr>
                                        <p:cTn id="2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350486 0 L -0.176944 -0.475278 E">
                                      <p:cBhvr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3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-0.476389 0.122037 L -0.200764 -0.507963 E">
                                      <p:cBhvr>
                                        <p:cTn id="3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-0.20875 -0.497407 L -0.7125 0.217685 E">
                                      <p:cBhvr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1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-0.208681 -0.50787 L -0.208681 -0.148333 E">
                                      <p:cBhvr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-0.704861 0.200741 L -0.704583 -0.147222 E">
                                      <p:cBhvr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6" presetSubtype="26">
                                  <p:stCondLst>
                                    <p:cond delay="138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208681 -0.140463 L -0.437084 -0.140463 E">
                                      <p:cBhvr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704792 -0.140463 L -0.437084 -0.140463 E">
                                      <p:cBhvr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-0.436875 -0.147222 L -0.704722 -0.227037 E">
                                      <p:cBhvr>
                                        <p:cTn id="5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-0.441042 -0.150926 L -0.2425 -0.08 E">
                                      <p:cBhvr>
                                        <p:cTn id="5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9DC-FCB0-417B-8262-DB172572A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YANGS</cp:lastModifiedBy>
  <dcterms:modified xsi:type="dcterms:W3CDTF">2015-07-21T06:33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