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002F-F6C5-4C85-8A12-D70105E0D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372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123720" y="1752120"/>
            <a:ext cx="57913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123720" y="4037040"/>
            <a:ext cx="57913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AA34-2A96-4977-AD05-797B0480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12372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123720" y="1752120"/>
            <a:ext cx="2826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1560" y="1752120"/>
            <a:ext cx="2826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123720" y="4037040"/>
            <a:ext cx="2826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91560" y="4037040"/>
            <a:ext cx="2826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2873-7468-4078-AC60-CF50C88E7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12372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123720" y="1752120"/>
            <a:ext cx="1864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81760" y="1752120"/>
            <a:ext cx="1864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039800" y="1752120"/>
            <a:ext cx="1864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123720" y="4037040"/>
            <a:ext cx="1864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081760" y="4037040"/>
            <a:ext cx="1864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039800" y="4037040"/>
            <a:ext cx="1864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5A77-2079-480D-986D-EB5F9378A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2372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123720" y="1752120"/>
            <a:ext cx="57913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2372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123720" y="1752120"/>
            <a:ext cx="57913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2372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23720" y="1752120"/>
            <a:ext cx="28260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091560" y="1752120"/>
            <a:ext cx="28260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2372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123720" y="274320"/>
            <a:ext cx="57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2372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123720" y="1752120"/>
            <a:ext cx="2826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091560" y="1752120"/>
            <a:ext cx="28260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123720" y="4037040"/>
            <a:ext cx="2826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2372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123720" y="1752120"/>
            <a:ext cx="57913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3E6B-8BF4-4ADE-B855-F2C05260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2372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123720" y="1752120"/>
            <a:ext cx="28260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091560" y="1752120"/>
            <a:ext cx="2826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1560" y="4037040"/>
            <a:ext cx="2826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2372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123720" y="1752120"/>
            <a:ext cx="2826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1560" y="1752120"/>
            <a:ext cx="2826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123720" y="4037040"/>
            <a:ext cx="57913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372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123720" y="1752120"/>
            <a:ext cx="57913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123720" y="4037040"/>
            <a:ext cx="57913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2372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23720" y="1752120"/>
            <a:ext cx="2826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91560" y="1752120"/>
            <a:ext cx="2826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123720" y="4037040"/>
            <a:ext cx="2826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091560" y="4037040"/>
            <a:ext cx="2826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2372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123720" y="1752120"/>
            <a:ext cx="1864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81760" y="1752120"/>
            <a:ext cx="1864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039800" y="1752120"/>
            <a:ext cx="1864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123720" y="4037040"/>
            <a:ext cx="1864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081760" y="4037040"/>
            <a:ext cx="1864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039800" y="4037040"/>
            <a:ext cx="1864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372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23720" y="1752120"/>
            <a:ext cx="57913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4B46-226C-48DB-AC74-71D4A6A3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372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123720" y="1752120"/>
            <a:ext cx="28260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091560" y="1752120"/>
            <a:ext cx="28260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10C5-9F83-41E8-A038-800C5191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2372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B755-4390-402F-B462-C2A9CD50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123720" y="274320"/>
            <a:ext cx="57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445F-2CE1-4ABB-A092-6C2F1090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2372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23720" y="1752120"/>
            <a:ext cx="2826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91560" y="1752120"/>
            <a:ext cx="28260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123720" y="4037040"/>
            <a:ext cx="2826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7B8D-4E93-4719-9C3F-6A126951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2372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123720" y="1752120"/>
            <a:ext cx="28260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091560" y="1752120"/>
            <a:ext cx="2826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1560" y="4037040"/>
            <a:ext cx="2826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81AF-97A2-427E-9215-D79901B9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2372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23720" y="1752120"/>
            <a:ext cx="2826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1560" y="1752120"/>
            <a:ext cx="2826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123720" y="4037040"/>
            <a:ext cx="57913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48B7-38C7-4ED4-9672-3C7B88D8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71800" cy="6477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467400"/>
            <a:ext cx="9144000" cy="390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2372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123720" y="1752120"/>
            <a:ext cx="57913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-36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437920" y="6629040"/>
            <a:ext cx="4419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099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CAB9-02B8-4A40-B825-26C13392D0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4191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724280" y="380880"/>
            <a:ext cx="3942000" cy="5943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4191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Healthcare Professional 3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880" y="4572000"/>
            <a:ext cx="4191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rial Font 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63817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77240" y="457200"/>
            <a:ext cx="284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医学类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2372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123720" y="1752120"/>
            <a:ext cx="57913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4BD4-FC74-4CB7-BFC4-29323610B4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1T01:56:5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45:3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