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7.png" ContentType="image/png"/>
  <Override PartName="/ppt/media/image8.jpeg" ContentType="image/jpeg"/>
  <Override PartName="/ppt/media/image19.jpeg" ContentType="image/jpeg"/>
  <Override PartName="/ppt/media/image4.png" ContentType="image/png"/>
  <Override PartName="/ppt/media/image12.jpeg" ContentType="image/jpeg"/>
  <Override PartName="/ppt/media/image10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26.png" ContentType="image/png"/>
  <Override PartName="/ppt/media/image5.jpeg" ContentType="image/jpeg"/>
  <Override PartName="/ppt/media/arrow.wav" ContentType="audio/x-wav"/>
  <Override PartName="/ppt/media/image13.jpeg" ContentType="image/jpeg"/>
  <Override PartName="/ppt/media/image20.gif" ContentType="image/gif"/>
  <Override PartName="/ppt/media/CHIMES.WAV" ContentType="audio/x-wav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hammer.wav" ContentType="audio/x-wav"/>
  <Override PartName="/ppt/media/image2.jpeg" ContentType="image/jpeg"/>
  <Override PartName="/ppt/media/image23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14.jpeg" ContentType="image/jpeg"/>
  <Override PartName="/ppt/media/image16.png" ContentType="image/png"/>
  <Override PartName="/ppt/media/image17.png" ContentType="image/pn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F9A-5721-4B28-911F-F9D8EB2D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DA4E-2A5B-42BB-84FC-CD5009DB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EAC-A9B8-402F-8D18-884E8EA1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4BF-9DF9-40EA-A8AD-98866DB7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78E4-FED1-4C07-85DF-479C97B6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F343-2BE4-479F-81AB-0C848E4E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6F16-EDDD-4080-9837-C6700D68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6D67-FBA1-4E27-B6CC-E61BC9E2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8836-BE70-4CD6-952E-B3EAEE24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5282-8E15-4846-BE46-6C2C6441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4D89-DA30-400A-9FBC-25525264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4189-9669-494F-ABD1-95397A5D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D0C4-C75F-4FB7-89D3-1F4D6D85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241F-604E-48DD-93C9-6399FDC0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6F47-F161-4324-B1EC-FC4F16C5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D715-1EDE-45B1-B599-68711884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A18A-2D91-4F80-8F05-5A675BBA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627-6794-47E1-BD5E-94FF5727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DB4-6D07-45AB-BCDA-BBE07571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07B-435A-460D-BD2B-1977C341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312-F413-4C7D-AB2E-0EF0E2D1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FD1-3790-46CB-BE60-49B64885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A20-774D-483F-A7A9-7E18F41C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24F3-90BF-42E0-8E50-B796393B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5F53-CC1C-4A59-AF20-7D5097906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4ADF-AD40-4110-83F0-10CD62F503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2256840" y="620640"/>
            <a:ext cx="41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要下雨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d0724f5bdb82beef2d385d6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058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395280" y="907920"/>
            <a:ext cx="891540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闷   伸   喊   搬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阵   哗   虫   潮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   坡   割   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W020070709405027066546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63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iecool"/>
          <p:cNvPicPr/>
          <p:nvPr/>
        </p:nvPicPr>
        <p:blipFill>
          <a:blip r:embed="rId2"/>
          <a:stretch/>
        </p:blipFill>
        <p:spPr>
          <a:xfrm>
            <a:off x="-36360" y="0"/>
            <a:ext cx="9432720" cy="767700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30"/>
          <p:cNvGrpSpPr/>
          <p:nvPr/>
        </p:nvGrpSpPr>
        <p:grpSpPr>
          <a:xfrm>
            <a:off x="2629080" y="404640"/>
            <a:ext cx="1221840" cy="1465560"/>
            <a:chOff x="2629080" y="404640"/>
            <a:chExt cx="1221840" cy="1465560"/>
          </a:xfrm>
        </p:grpSpPr>
        <p:pic>
          <p:nvPicPr>
            <p:cNvPr id="117" name="Picture 5" descr="未标题-1 拷贝"/>
            <p:cNvPicPr/>
            <p:nvPr/>
          </p:nvPicPr>
          <p:blipFill>
            <a:blip r:embed="rId3"/>
            <a:stretch/>
          </p:blipFill>
          <p:spPr>
            <a:xfrm>
              <a:off x="2637360" y="404640"/>
              <a:ext cx="1213560" cy="13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6"/>
            <p:cNvSpPr/>
            <p:nvPr/>
          </p:nvSpPr>
          <p:spPr>
            <a:xfrm>
              <a:off x="2629080" y="404640"/>
              <a:ext cx="1162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坡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31"/>
          <p:cNvGrpSpPr/>
          <p:nvPr/>
        </p:nvGrpSpPr>
        <p:grpSpPr>
          <a:xfrm>
            <a:off x="3995640" y="333360"/>
            <a:ext cx="1361880" cy="1465560"/>
            <a:chOff x="3995640" y="333360"/>
            <a:chExt cx="1361880" cy="1465560"/>
          </a:xfrm>
        </p:grpSpPr>
        <p:pic>
          <p:nvPicPr>
            <p:cNvPr id="120" name="Picture 32" descr="未标题-1 拷贝"/>
            <p:cNvPicPr/>
            <p:nvPr/>
          </p:nvPicPr>
          <p:blipFill>
            <a:blip r:embed="rId4"/>
            <a:stretch/>
          </p:blipFill>
          <p:spPr>
            <a:xfrm>
              <a:off x="4004640" y="333360"/>
              <a:ext cx="135288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33"/>
            <p:cNvSpPr/>
            <p:nvPr/>
          </p:nvSpPr>
          <p:spPr>
            <a:xfrm>
              <a:off x="3995640" y="333360"/>
              <a:ext cx="1297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割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4"/>
          <p:cNvGrpSpPr/>
          <p:nvPr/>
        </p:nvGrpSpPr>
        <p:grpSpPr>
          <a:xfrm>
            <a:off x="5508720" y="476280"/>
            <a:ext cx="1371600" cy="1465560"/>
            <a:chOff x="5508720" y="476280"/>
            <a:chExt cx="1371600" cy="1465560"/>
          </a:xfrm>
        </p:grpSpPr>
        <p:pic>
          <p:nvPicPr>
            <p:cNvPr id="123" name="Picture 35" descr="未标题-1 拷贝"/>
            <p:cNvPicPr/>
            <p:nvPr/>
          </p:nvPicPr>
          <p:blipFill>
            <a:blip r:embed="rId5"/>
            <a:stretch/>
          </p:blipFill>
          <p:spPr>
            <a:xfrm>
              <a:off x="5518080" y="476280"/>
              <a:ext cx="1362240" cy="130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36"/>
            <p:cNvSpPr/>
            <p:nvPr/>
          </p:nvSpPr>
          <p:spPr>
            <a:xfrm>
              <a:off x="5508720" y="476280"/>
              <a:ext cx="1306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伸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7"/>
          <p:cNvGrpSpPr/>
          <p:nvPr/>
        </p:nvGrpSpPr>
        <p:grpSpPr>
          <a:xfrm>
            <a:off x="1187280" y="1700280"/>
            <a:ext cx="1312560" cy="1465560"/>
            <a:chOff x="1187280" y="1700280"/>
            <a:chExt cx="1312560" cy="1465560"/>
          </a:xfrm>
        </p:grpSpPr>
        <p:pic>
          <p:nvPicPr>
            <p:cNvPr id="126" name="Picture 38" descr="未标题-1 拷贝"/>
            <p:cNvPicPr/>
            <p:nvPr/>
          </p:nvPicPr>
          <p:blipFill>
            <a:blip r:embed="rId6"/>
            <a:stretch/>
          </p:blipFill>
          <p:spPr>
            <a:xfrm>
              <a:off x="1195920" y="1700280"/>
              <a:ext cx="1303920" cy="13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39"/>
            <p:cNvSpPr/>
            <p:nvPr/>
          </p:nvSpPr>
          <p:spPr>
            <a:xfrm>
              <a:off x="1187280" y="1700280"/>
              <a:ext cx="1250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闷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40"/>
          <p:cNvGrpSpPr/>
          <p:nvPr/>
        </p:nvGrpSpPr>
        <p:grpSpPr>
          <a:xfrm>
            <a:off x="2916360" y="1844640"/>
            <a:ext cx="1296360" cy="1465560"/>
            <a:chOff x="2916360" y="1844640"/>
            <a:chExt cx="1296360" cy="1465560"/>
          </a:xfrm>
        </p:grpSpPr>
        <p:pic>
          <p:nvPicPr>
            <p:cNvPr id="129" name="Picture 41" descr="未标题-1 拷贝"/>
            <p:cNvPicPr/>
            <p:nvPr/>
          </p:nvPicPr>
          <p:blipFill>
            <a:blip r:embed="rId7"/>
            <a:stretch/>
          </p:blipFill>
          <p:spPr>
            <a:xfrm>
              <a:off x="2925000" y="1844640"/>
              <a:ext cx="1287720" cy="136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42"/>
            <p:cNvSpPr/>
            <p:nvPr/>
          </p:nvSpPr>
          <p:spPr>
            <a:xfrm>
              <a:off x="2916360" y="1844640"/>
              <a:ext cx="1234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虫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43"/>
          <p:cNvGrpSpPr/>
          <p:nvPr/>
        </p:nvGrpSpPr>
        <p:grpSpPr>
          <a:xfrm>
            <a:off x="4500720" y="1773360"/>
            <a:ext cx="1287000" cy="1465560"/>
            <a:chOff x="4500720" y="1773360"/>
            <a:chExt cx="1287000" cy="1465560"/>
          </a:xfrm>
        </p:grpSpPr>
        <p:pic>
          <p:nvPicPr>
            <p:cNvPr id="132" name="Picture 44" descr="未标题-1 拷贝"/>
            <p:cNvPicPr/>
            <p:nvPr/>
          </p:nvPicPr>
          <p:blipFill>
            <a:blip r:embed="rId8"/>
            <a:stretch/>
          </p:blipFill>
          <p:spPr>
            <a:xfrm>
              <a:off x="4509360" y="1773360"/>
              <a:ext cx="1278360" cy="13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45"/>
            <p:cNvSpPr/>
            <p:nvPr/>
          </p:nvSpPr>
          <p:spPr>
            <a:xfrm>
              <a:off x="4500720" y="1773360"/>
              <a:ext cx="1226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搬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46"/>
          <p:cNvGrpSpPr/>
          <p:nvPr/>
        </p:nvGrpSpPr>
        <p:grpSpPr>
          <a:xfrm>
            <a:off x="6588000" y="1700280"/>
            <a:ext cx="1299960" cy="1465560"/>
            <a:chOff x="6588000" y="1700280"/>
            <a:chExt cx="1299960" cy="1465560"/>
          </a:xfrm>
        </p:grpSpPr>
        <p:pic>
          <p:nvPicPr>
            <p:cNvPr id="135" name="Picture 47" descr="未标题-1 拷贝"/>
            <p:cNvPicPr/>
            <p:nvPr/>
          </p:nvPicPr>
          <p:blipFill>
            <a:blip r:embed="rId9"/>
            <a:stretch/>
          </p:blipFill>
          <p:spPr>
            <a:xfrm>
              <a:off x="6596640" y="1700280"/>
              <a:ext cx="1291320" cy="14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Rectangle 48"/>
            <p:cNvSpPr/>
            <p:nvPr/>
          </p:nvSpPr>
          <p:spPr>
            <a:xfrm>
              <a:off x="6588000" y="1700280"/>
              <a:ext cx="1238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喊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49"/>
          <p:cNvGrpSpPr/>
          <p:nvPr/>
        </p:nvGrpSpPr>
        <p:grpSpPr>
          <a:xfrm>
            <a:off x="539640" y="3068640"/>
            <a:ext cx="1223640" cy="1465560"/>
            <a:chOff x="539640" y="3068640"/>
            <a:chExt cx="1223640" cy="1465560"/>
          </a:xfrm>
        </p:grpSpPr>
        <p:pic>
          <p:nvPicPr>
            <p:cNvPr id="138" name="Picture 50" descr="未标题-1 拷贝"/>
            <p:cNvPicPr/>
            <p:nvPr/>
          </p:nvPicPr>
          <p:blipFill>
            <a:blip r:embed="rId10"/>
            <a:stretch/>
          </p:blipFill>
          <p:spPr>
            <a:xfrm>
              <a:off x="547920" y="3068640"/>
              <a:ext cx="1215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51"/>
            <p:cNvSpPr/>
            <p:nvPr/>
          </p:nvSpPr>
          <p:spPr>
            <a:xfrm>
              <a:off x="539640" y="3068640"/>
              <a:ext cx="1165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潮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52"/>
          <p:cNvGrpSpPr/>
          <p:nvPr/>
        </p:nvGrpSpPr>
        <p:grpSpPr>
          <a:xfrm>
            <a:off x="2050920" y="3141720"/>
            <a:ext cx="1295280" cy="1465560"/>
            <a:chOff x="2050920" y="3141720"/>
            <a:chExt cx="1295280" cy="1465560"/>
          </a:xfrm>
        </p:grpSpPr>
        <p:pic>
          <p:nvPicPr>
            <p:cNvPr id="141" name="Picture 53" descr="未标题-1 拷贝"/>
            <p:cNvPicPr/>
            <p:nvPr/>
          </p:nvPicPr>
          <p:blipFill>
            <a:blip r:embed="rId11"/>
            <a:stretch/>
          </p:blipFill>
          <p:spPr>
            <a:xfrm>
              <a:off x="2059560" y="3141720"/>
              <a:ext cx="1286640" cy="132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54"/>
            <p:cNvSpPr/>
            <p:nvPr/>
          </p:nvSpPr>
          <p:spPr>
            <a:xfrm>
              <a:off x="2050920" y="3141720"/>
              <a:ext cx="12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湿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55"/>
          <p:cNvGrpSpPr/>
          <p:nvPr/>
        </p:nvGrpSpPr>
        <p:grpSpPr>
          <a:xfrm>
            <a:off x="3635280" y="3141720"/>
            <a:ext cx="1368000" cy="1465560"/>
            <a:chOff x="3635280" y="3141720"/>
            <a:chExt cx="1368000" cy="1465560"/>
          </a:xfrm>
        </p:grpSpPr>
        <p:pic>
          <p:nvPicPr>
            <p:cNvPr id="144" name="Picture 56" descr="未标题-1 拷贝"/>
            <p:cNvPicPr/>
            <p:nvPr/>
          </p:nvPicPr>
          <p:blipFill>
            <a:blip r:embed="rId12"/>
            <a:stretch/>
          </p:blipFill>
          <p:spPr>
            <a:xfrm>
              <a:off x="3644280" y="3141720"/>
              <a:ext cx="1359000" cy="13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57"/>
            <p:cNvSpPr/>
            <p:nvPr/>
          </p:nvSpPr>
          <p:spPr>
            <a:xfrm>
              <a:off x="3635280" y="3141720"/>
              <a:ext cx="1303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哗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61"/>
          <p:cNvGrpSpPr/>
          <p:nvPr/>
        </p:nvGrpSpPr>
        <p:grpSpPr>
          <a:xfrm>
            <a:off x="5435640" y="2924280"/>
            <a:ext cx="1228320" cy="1465560"/>
            <a:chOff x="5435640" y="2924280"/>
            <a:chExt cx="1228320" cy="1465560"/>
          </a:xfrm>
        </p:grpSpPr>
        <p:pic>
          <p:nvPicPr>
            <p:cNvPr id="147" name="Picture 62" descr="未标题-1 拷贝"/>
            <p:cNvPicPr/>
            <p:nvPr/>
          </p:nvPicPr>
          <p:blipFill>
            <a:blip r:embed="rId13"/>
            <a:stretch/>
          </p:blipFill>
          <p:spPr>
            <a:xfrm>
              <a:off x="5443920" y="2924280"/>
              <a:ext cx="122004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63"/>
            <p:cNvSpPr/>
            <p:nvPr/>
          </p:nvSpPr>
          <p:spPr>
            <a:xfrm>
              <a:off x="5435640" y="2924280"/>
              <a:ext cx="1170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阵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64"/>
          <p:cNvGrpSpPr/>
          <p:nvPr/>
        </p:nvGrpSpPr>
        <p:grpSpPr>
          <a:xfrm>
            <a:off x="6877080" y="3213000"/>
            <a:ext cx="1352160" cy="1465560"/>
            <a:chOff x="6877080" y="3213000"/>
            <a:chExt cx="1352160" cy="1465560"/>
          </a:xfrm>
        </p:grpSpPr>
        <p:pic>
          <p:nvPicPr>
            <p:cNvPr id="150" name="Picture 65" descr="未标题-1 拷贝"/>
            <p:cNvPicPr/>
            <p:nvPr/>
          </p:nvPicPr>
          <p:blipFill>
            <a:blip r:embed="rId14"/>
            <a:stretch/>
          </p:blipFill>
          <p:spPr>
            <a:xfrm>
              <a:off x="6886080" y="3213000"/>
              <a:ext cx="1343160" cy="14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66"/>
            <p:cNvSpPr/>
            <p:nvPr/>
          </p:nvSpPr>
          <p:spPr>
            <a:xfrm>
              <a:off x="6877080" y="3213000"/>
              <a:ext cx="1288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消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8094E-006 L -0.00399 0.75347 E">
                                      <p:cBhvr>
                                        <p:cTn id="6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8529E-007 L -0.00365 0.74306 E">
                                      <p:cBhvr>
                                        <p:cTn id="11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04046E-006 L 0.00365 0.70821 E">
                                      <p:cBhvr>
                                        <p:cTn id="16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02312E-006 L -0.01198 0.54035 E">
                                      <p:cBhvr>
                                        <p:cTn id="21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3526E-006 L -0.01198 0.47768 E">
                                      <p:cBhvr>
                                        <p:cTn id="26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89017E-007 L -0.01163 0.46636 E">
                                      <p:cBhvr>
                                        <p:cTn id="31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48555E-006 L -0.004 0.46705 E">
                                      <p:cBhvr>
                                        <p:cTn id="36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1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6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1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6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1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42920" y="1052640"/>
            <a:ext cx="597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一比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比比谁读得课文最流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84360" y="404640"/>
            <a:ext cx="77770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下雨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白兔弯着腰在山坡上割草。天气很闷，小白兔直起身子，伸了伸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燕子从他头上飞过。小白兔大声喊：“燕子，燕子，你为什么飞得这么低呀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燕子边飞边说：“要下雨了。空气很潮湿，虫子的翅膀沾了小水珠，飞不高，我正忙着捉虫子呢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要下雨了吗？小白兔往前边池子里一看，小鱼都游到水面上来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白兔跑过去问：“小鱼，小鱼，今天怎么有空出来呀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鱼说：“要下雨了。水里闷得很，我们到水面上来透透气。小白兔，你快回家吧，小心淋着雨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白兔连忙挎起篮子往家跑。他看见路边有一大群蚂蚁，就把要下雨的消息告诉了蚂蚁。一只大蚂蚁说：“是要下雨了，我们正忙着搬东西呢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白兔加快步子往家跑。他一边跑一边喊：“妈妈，妈妈，要下雨了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轰隆隆，天空响起了一阵雷声。哗，哗，哗，大雨真的下起来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"/>
          <p:cNvSpPr/>
          <p:nvPr/>
        </p:nvSpPr>
        <p:spPr>
          <a:xfrm>
            <a:off x="1258920" y="1484280"/>
            <a:ext cx="865080" cy="360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6156360" y="4149720"/>
            <a:ext cx="1224000" cy="43164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6012000" y="2708280"/>
            <a:ext cx="720720" cy="360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图片16"/>
          <p:cNvPicPr/>
          <p:nvPr/>
        </p:nvPicPr>
        <p:blipFill>
          <a:blip r:embed="rId1"/>
          <a:stretch/>
        </p:blipFill>
        <p:spPr>
          <a:xfrm>
            <a:off x="0" y="0"/>
            <a:ext cx="513864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"/>
          <p:cNvSpPr/>
          <p:nvPr/>
        </p:nvSpPr>
        <p:spPr>
          <a:xfrm>
            <a:off x="5364000" y="549360"/>
            <a:ext cx="352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白兔弯着腰在山坡上割草。天气很闷，小白兔直起身子，伸了伸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82710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826920" y="765000"/>
            <a:ext cx="5473800" cy="1440000"/>
          </a:xfrm>
          <a:prstGeom prst="wedgeRoundRectCallout">
            <a:avLst>
              <a:gd name="adj1" fmla="val -2814"/>
              <a:gd name="adj2" fmla="val 19277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16000" y="76500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燕子从他头上飞过。小白兔大声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燕子，燕子，你为什么飞得这么低呀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W020070709404109875081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96490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826920" y="4762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燕子边飞边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下雨了。空气很潮湿，虫子的翅膀沾了小水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飞不高，我正忙着捉虫子呢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W020070709404109875081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9649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826920" y="4762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燕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飞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下雨了。空气很潮湿，虫子的翅膀沾了小水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飞不高，我正忙着捉虫子呢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边框2"/>
          <p:cNvPicPr/>
          <p:nvPr/>
        </p:nvPicPr>
        <p:blipFill>
          <a:blip r:embed="rId1"/>
          <a:stretch/>
        </p:blipFill>
        <p:spPr>
          <a:xfrm>
            <a:off x="0" y="0"/>
            <a:ext cx="9144000" cy="6686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971640" y="263700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燕子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楷体_GB2312"/>
              </a:rPr>
              <a:t>边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飞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楷体_GB2312"/>
              </a:rPr>
              <a:t>边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说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971640" y="422100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楷体_GB2312"/>
              </a:rPr>
              <a:t>边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楷体_GB2312"/>
              </a:rPr>
              <a:t>边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7093080" y="57340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020070709404109875081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9649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826920" y="4762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燕子边飞边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下雨了。空气很潮湿，虫子的翅膀沾了小水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飞不高，我正忙着捉虫子呢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-173880" y="1700280"/>
            <a:ext cx="2009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学习目标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268360" y="1197000"/>
            <a:ext cx="4680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</a:t>
            </a:r>
            <a:r>
              <a:rPr b="1" lang="en-US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、正确、流利地朗读课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</a:t>
            </a:r>
            <a:r>
              <a:rPr b="1" lang="en-US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、会认</a:t>
            </a:r>
            <a:r>
              <a:rPr b="1" lang="en-US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3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个生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</a:t>
            </a:r>
            <a:r>
              <a:rPr b="1" lang="en-US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、会写六个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020070709404109875081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9649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826920" y="4762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燕子边飞边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下雨了。空气很潮湿，虫子的翅膀沾了小水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飞不高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我正忙着捉虫子呢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b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930600" y="1557360"/>
            <a:ext cx="7124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我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正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忙着捉虫子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李老师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正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忙着改作业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宋体"/>
              </a:rPr>
              <a:t>______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正</a:t>
            </a:r>
            <a:r>
              <a:rPr b="1" lang="en-US" sz="6000" spc="-1" strike="noStrike">
                <a:solidFill>
                  <a:srgbClr val="3333cc"/>
                </a:solidFill>
                <a:latin typeface="宋体"/>
              </a:rPr>
              <a:t>__________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7885080" y="6093000"/>
            <a:ext cx="936720" cy="475920"/>
          </a:xfrm>
          <a:prstGeom prst="ellipse">
            <a:avLst/>
          </a:prstGeom>
          <a:solidFill>
            <a:srgbClr val="ffff00">
              <a:alpha val="4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上一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W020070709404405664767"/>
          <p:cNvPicPr/>
          <p:nvPr/>
        </p:nvPicPr>
        <p:blipFill>
          <a:blip r:embed="rId1"/>
          <a:stretch/>
        </p:blipFill>
        <p:spPr>
          <a:xfrm>
            <a:off x="-324000" y="0"/>
            <a:ext cx="9685440" cy="84978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468360" y="620640"/>
            <a:ext cx="80661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要下雨了吗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白兔往前边池子里一看，小鱼都游到水面上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1763640" y="458136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W020070709404405664767"/>
          <p:cNvPicPr/>
          <p:nvPr/>
        </p:nvPicPr>
        <p:blipFill>
          <a:blip r:embed="rId1"/>
          <a:stretch/>
        </p:blipFill>
        <p:spPr>
          <a:xfrm>
            <a:off x="-324000" y="0"/>
            <a:ext cx="9685440" cy="8497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68360" y="620640"/>
            <a:ext cx="80661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是要下雨了吗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白兔往前边池子里一看，小鱼都游到水面上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1763640" y="458136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边框2"/>
          <p:cNvPicPr/>
          <p:nvPr/>
        </p:nvPicPr>
        <p:blipFill>
          <a:blip r:embed="rId1"/>
          <a:stretch/>
        </p:blipFill>
        <p:spPr>
          <a:xfrm>
            <a:off x="0" y="0"/>
            <a:ext cx="9144000" cy="66866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1871640" y="2852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是要下雨了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979640" y="422100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是要下雨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1619280" y="3141720"/>
            <a:ext cx="144360" cy="1727280"/>
          </a:xfrm>
          <a:custGeom>
            <a:avLst/>
            <a:gdLst>
              <a:gd name="textAreaLeft" fmla="*/ 92160 w 144360"/>
              <a:gd name="textAreaRight" fmla="*/ 144360 w 1443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边框2"/>
          <p:cNvPicPr/>
          <p:nvPr/>
        </p:nvPicPr>
        <p:blipFill>
          <a:blip r:embed="rId1"/>
          <a:stretch/>
        </p:blipFill>
        <p:spPr>
          <a:xfrm>
            <a:off x="0" y="0"/>
            <a:ext cx="9144000" cy="6686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1871640" y="2852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是要下雨了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楷体_GB2312"/>
              </a:rPr>
              <a:t>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050920" y="422100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是要下雨了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1619280" y="3141720"/>
            <a:ext cx="144360" cy="1727280"/>
          </a:xfrm>
          <a:custGeom>
            <a:avLst/>
            <a:gdLst>
              <a:gd name="textAreaLeft" fmla="*/ 92160 w 144360"/>
              <a:gd name="textAreaRight" fmla="*/ 144360 w 1443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W020070709404405664767"/>
          <p:cNvPicPr/>
          <p:nvPr/>
        </p:nvPicPr>
        <p:blipFill>
          <a:blip r:embed="rId1"/>
          <a:stretch/>
        </p:blipFill>
        <p:spPr>
          <a:xfrm>
            <a:off x="-324000" y="-603360"/>
            <a:ext cx="9685440" cy="84981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611280" y="549360"/>
            <a:ext cx="439236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白兔跑过去，问：“小鱼，小鱼，今天怎么有空出来呀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059280" y="4149720"/>
            <a:ext cx="496872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雨说：“要下雨了。水里闷得很，我们到水面上来透透气。小白兔，你快回家吧，小心淋着雨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W020070709404689728669"/>
          <p:cNvPicPr/>
          <p:nvPr/>
        </p:nvPicPr>
        <p:blipFill>
          <a:blip r:embed="rId1"/>
          <a:stretch/>
        </p:blipFill>
        <p:spPr>
          <a:xfrm>
            <a:off x="-900000" y="-171360"/>
            <a:ext cx="10260000" cy="74055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0" y="0"/>
            <a:ext cx="8748720" cy="642600"/>
          </a:xfrm>
          <a:prstGeom prst="rect">
            <a:avLst/>
          </a:prstGeom>
          <a:solidFill>
            <a:srgbClr val="ccffcc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白兔连忙挎起篮子往家跑。他看见路边有一大群蚂蚁，就把要下雨的消息告诉了蚂蚁。一只大蚂蚁说：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是要下雨了，我们正忙着搬东西呢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W020070709405027066546"/>
          <p:cNvPicPr/>
          <p:nvPr/>
        </p:nvPicPr>
        <p:blipFill>
          <a:blip r:embed="rId1"/>
          <a:stretch/>
        </p:blipFill>
        <p:spPr>
          <a:xfrm>
            <a:off x="-684360" y="0"/>
            <a:ext cx="9828360" cy="7101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50920" y="40464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白兔加快步子往家跑。他一边跑一边喊：“妈妈，妈妈，要下雨了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轰隆隆，天空响起了一阵雷声。哗，哗，哗，大雨真的下起来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W020070709405027066546"/>
          <p:cNvPicPr/>
          <p:nvPr/>
        </p:nvPicPr>
        <p:blipFill>
          <a:blip r:embed="rId1"/>
          <a:stretch/>
        </p:blipFill>
        <p:spPr>
          <a:xfrm>
            <a:off x="-684360" y="0"/>
            <a:ext cx="9828360" cy="7101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250920" y="26028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白兔加快步子往家跑。他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喊：“妈妈，妈妈，要下雨了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轰隆隆，天空响起了一阵雷声。哗，哗，哗，大雨真的下起来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042920" y="1197000"/>
            <a:ext cx="597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一比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比比谁读得音最准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684360" y="404640"/>
            <a:ext cx="77770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下雨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白兔弯着腰在山坡上割草。天气很闷，小白兔直起身子，伸了伸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燕子从他头上飞过。小白兔大声喊：“燕子，燕子，你为什么飞得这么低呀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燕子边飞边说：“要下雨了。空气很潮湿，虫子的翅膀沾了小水珠，飞不高，我正忙着捉虫子呢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要下雨了吗？小白兔往前边池子里一看，小鱼都游到水面上来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白兔跑过去问：“小鱼，小鱼，今天怎么有空出来呀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鱼说：“要下雨了。水里闷得很，我们到水面上来透透气。小白兔，你快回家吧，小心淋着雨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白兔连忙挎起篮子往家跑。他看见路边有一大群蚂蚁，就把要下雨的消息告诉了蚂蚁。一只大蚂蚁说：“是要下雨了，我们正忙着搬东西呢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白兔加快步子往家跑。他一边跑一边喊：“妈妈，妈妈，要下雨了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轰隆隆，天空响起了一阵雷声。哗，哗，哗，大雨真的下起来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1187280" y="2997360"/>
            <a:ext cx="172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1332000" y="4508640"/>
            <a:ext cx="30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826920" y="486900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7885080" y="450864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"/>
          <p:cNvSpPr/>
          <p:nvPr/>
        </p:nvSpPr>
        <p:spPr>
          <a:xfrm>
            <a:off x="1332000" y="5445000"/>
            <a:ext cx="25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4140360" y="5445000"/>
            <a:ext cx="41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755640" y="573408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WordArt 10" descr=""/>
          <p:cNvPicPr/>
          <p:nvPr/>
        </p:nvPicPr>
        <p:blipFill>
          <a:blip r:embed="rId1"/>
          <a:stretch/>
        </p:blipFill>
        <p:spPr>
          <a:xfrm>
            <a:off x="5437080" y="2066760"/>
            <a:ext cx="1451160" cy="925560"/>
          </a:xfrm>
          <a:prstGeom prst="rect">
            <a:avLst/>
          </a:prstGeom>
          <a:ln w="0">
            <a:noFill/>
          </a:ln>
        </p:spPr>
      </p:pic>
      <p:pic>
        <p:nvPicPr>
          <p:cNvPr id="229" name="WordArt 11" descr=""/>
          <p:cNvPicPr/>
          <p:nvPr/>
        </p:nvPicPr>
        <p:blipFill>
          <a:blip r:embed="rId2"/>
          <a:stretch/>
        </p:blipFill>
        <p:spPr>
          <a:xfrm>
            <a:off x="5078520" y="3481560"/>
            <a:ext cx="1931760" cy="974520"/>
          </a:xfrm>
          <a:prstGeom prst="rect">
            <a:avLst/>
          </a:prstGeom>
          <a:ln w="0">
            <a:noFill/>
          </a:ln>
        </p:spPr>
      </p:pic>
      <p:pic>
        <p:nvPicPr>
          <p:cNvPr id="230" name="WordArt 12" descr=""/>
          <p:cNvPicPr/>
          <p:nvPr/>
        </p:nvPicPr>
        <p:blipFill>
          <a:blip r:embed="rId3"/>
          <a:stretch/>
        </p:blipFill>
        <p:spPr>
          <a:xfrm>
            <a:off x="3419640" y="5353200"/>
            <a:ext cx="193356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dc42646604e67ac0f63654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5"/>
          <p:cNvSpPr/>
          <p:nvPr/>
        </p:nvSpPr>
        <p:spPr>
          <a:xfrm>
            <a:off x="1763640" y="1700280"/>
            <a:ext cx="65534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小白兔回到家里，会对妈妈说些什么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?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兔妈妈会说什么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dc42646604e67ac0f63654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1116000" y="476280"/>
            <a:ext cx="842472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口头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下雨了，燕子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下雨了，小鱼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下雨了，蚂蚁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 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下雨了，天气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08000" y="765000"/>
          <a:ext cx="8839080" cy="5513400"/>
        </p:xfrm>
        <a:graphic>
          <a:graphicData uri="http://schemas.openxmlformats.org/drawingml/2006/table">
            <a:tbl>
              <a:tblPr/>
              <a:tblGrid>
                <a:gridCol w="1066680"/>
                <a:gridCol w="3276720"/>
                <a:gridCol w="1143000"/>
                <a:gridCol w="3352680"/>
              </a:tblGrid>
              <a:tr h="5374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因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所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 Box 38"/>
          <p:cNvSpPr/>
          <p:nvPr/>
        </p:nvSpPr>
        <p:spPr>
          <a:xfrm>
            <a:off x="1763640" y="836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下雨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9"/>
          <p:cNvSpPr/>
          <p:nvPr/>
        </p:nvSpPr>
        <p:spPr>
          <a:xfrm>
            <a:off x="6019920" y="3049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0"/>
          <p:cNvSpPr/>
          <p:nvPr/>
        </p:nvSpPr>
        <p:spPr>
          <a:xfrm>
            <a:off x="1692360" y="1341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里很闷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5759280" y="126828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鱼要到水面上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2"/>
          <p:cNvSpPr/>
          <p:nvPr/>
        </p:nvSpPr>
        <p:spPr>
          <a:xfrm>
            <a:off x="6443640" y="765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里很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3"/>
          <p:cNvSpPr/>
          <p:nvPr/>
        </p:nvSpPr>
        <p:spPr>
          <a:xfrm>
            <a:off x="1763640" y="184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下雨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4"/>
          <p:cNvSpPr/>
          <p:nvPr/>
        </p:nvSpPr>
        <p:spPr>
          <a:xfrm>
            <a:off x="6372360" y="1844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空气很潮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5"/>
          <p:cNvSpPr/>
          <p:nvPr/>
        </p:nvSpPr>
        <p:spPr>
          <a:xfrm>
            <a:off x="1692360" y="256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空气很潮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6"/>
          <p:cNvSpPr/>
          <p:nvPr/>
        </p:nvSpPr>
        <p:spPr>
          <a:xfrm>
            <a:off x="5940360" y="2421000"/>
            <a:ext cx="32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虫的翅膀上沾了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小水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7"/>
          <p:cNvSpPr/>
          <p:nvPr/>
        </p:nvSpPr>
        <p:spPr>
          <a:xfrm>
            <a:off x="1476360" y="350028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虫的翅膀上沾了许多小水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8"/>
          <p:cNvSpPr/>
          <p:nvPr/>
        </p:nvSpPr>
        <p:spPr>
          <a:xfrm>
            <a:off x="6732720" y="3716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飞不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9"/>
          <p:cNvSpPr/>
          <p:nvPr/>
        </p:nvSpPr>
        <p:spPr>
          <a:xfrm>
            <a:off x="1692360" y="4653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虫飞不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0"/>
          <p:cNvSpPr/>
          <p:nvPr/>
        </p:nvSpPr>
        <p:spPr>
          <a:xfrm>
            <a:off x="6372360" y="465300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燕子飞得很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1"/>
          <p:cNvSpPr/>
          <p:nvPr/>
        </p:nvSpPr>
        <p:spPr>
          <a:xfrm>
            <a:off x="1692360" y="5516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燕子飞得很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2"/>
          <p:cNvSpPr/>
          <p:nvPr/>
        </p:nvSpPr>
        <p:spPr>
          <a:xfrm>
            <a:off x="6516720" y="551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捉到虫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dc42646604e67ac0f63654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2411280" y="1628640"/>
            <a:ext cx="4896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为什么飞得这么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正忙着捉虫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要下雨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天怎么有空出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快回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正忙着搬东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2411280" y="620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读句子，注意语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026" descr="dc42646604e67ac0f63654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027"/>
          <p:cNvSpPr/>
          <p:nvPr/>
        </p:nvSpPr>
        <p:spPr>
          <a:xfrm>
            <a:off x="1908000" y="2276640"/>
            <a:ext cx="6193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正忙着搬东西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李老师正忙着改作业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28"/>
          <p:cNvSpPr/>
          <p:nvPr/>
        </p:nvSpPr>
        <p:spPr>
          <a:xfrm>
            <a:off x="2124000" y="4724280"/>
            <a:ext cx="16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29"/>
          <p:cNvSpPr/>
          <p:nvPr/>
        </p:nvSpPr>
        <p:spPr>
          <a:xfrm>
            <a:off x="3780000" y="414972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30"/>
          <p:cNvSpPr/>
          <p:nvPr/>
        </p:nvSpPr>
        <p:spPr>
          <a:xfrm>
            <a:off x="7093080" y="4076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31"/>
          <p:cNvSpPr/>
          <p:nvPr/>
        </p:nvSpPr>
        <p:spPr>
          <a:xfrm>
            <a:off x="4427640" y="4724280"/>
            <a:ext cx="2633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1032"/>
          <p:cNvSpPr txBox="1"/>
          <p:nvPr/>
        </p:nvSpPr>
        <p:spPr>
          <a:xfrm>
            <a:off x="2987640" y="765000"/>
            <a:ext cx="2448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句式练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背景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tu6"/>
          <p:cNvPicPr/>
          <p:nvPr/>
        </p:nvPicPr>
        <p:blipFill>
          <a:blip r:embed="rId2"/>
          <a:stretch/>
        </p:blipFill>
        <p:spPr>
          <a:xfrm>
            <a:off x="304920" y="0"/>
            <a:ext cx="1066680" cy="1905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tu6"/>
          <p:cNvPicPr/>
          <p:nvPr/>
        </p:nvPicPr>
        <p:blipFill>
          <a:blip r:embed="rId3"/>
          <a:stretch/>
        </p:blipFill>
        <p:spPr>
          <a:xfrm>
            <a:off x="7010280" y="2362320"/>
            <a:ext cx="1646280" cy="403848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5"/>
          <p:cNvSpPr/>
          <p:nvPr/>
        </p:nvSpPr>
        <p:spPr>
          <a:xfrm>
            <a:off x="1066680" y="2590920"/>
            <a:ext cx="3505320" cy="2361960"/>
          </a:xfrm>
          <a:prstGeom prst="wedgeRoundRectCallout">
            <a:avLst>
              <a:gd name="adj1" fmla="val -40037"/>
              <a:gd name="adj2" fmla="val -10120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妈妈，还有哪些自然现象，可以告诉我们要下雨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5029200" y="990720"/>
            <a:ext cx="2514600" cy="2057400"/>
          </a:xfrm>
          <a:prstGeom prst="wedgeRoundRectCallout">
            <a:avLst>
              <a:gd name="adj1" fmla="val 48611"/>
              <a:gd name="adj2" fmla="val 110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蚯蚓出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蚊子成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猫洗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dc42646604e67ac0f63654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2124000" y="333360"/>
            <a:ext cx="61200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动物预报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小蜜蜂说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: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我晚出早归，就表示要下雨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乌龟说：“只要我背上出汗，不久就要下雨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青蛙说：“夏天下雨之前，我呱呱叫个不停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小蜜蜂"/>
          <p:cNvPicPr/>
          <p:nvPr/>
        </p:nvPicPr>
        <p:blipFill>
          <a:blip r:embed="rId2"/>
          <a:stretch/>
        </p:blipFill>
        <p:spPr>
          <a:xfrm>
            <a:off x="971640" y="981000"/>
            <a:ext cx="1033200" cy="1074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青蛙"/>
          <p:cNvPicPr/>
          <p:nvPr/>
        </p:nvPicPr>
        <p:blipFill>
          <a:blip r:embed="rId3"/>
          <a:stretch/>
        </p:blipFill>
        <p:spPr>
          <a:xfrm>
            <a:off x="1116000" y="3645000"/>
            <a:ext cx="1093680" cy="12747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乌龟"/>
          <p:cNvPicPr/>
          <p:nvPr/>
        </p:nvPicPr>
        <p:blipFill>
          <a:blip r:embed="rId4"/>
          <a:stretch/>
        </p:blipFill>
        <p:spPr>
          <a:xfrm>
            <a:off x="1042920" y="2205000"/>
            <a:ext cx="101916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77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77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0" y="0"/>
            <a:ext cx="9144000" cy="7128000"/>
          </a:xfrm>
          <a:prstGeom prst="rect">
            <a:avLst/>
          </a:prstGeom>
          <a:ln w="0">
            <a:noFill/>
          </a:ln>
        </p:spPr>
      </p:pic>
    </p:spTree>
  </p:cSld>
  <p:transition advTm="6000">
    <p:randomBar dir="horz"/>
    <p:sndAc>
      <p:stSnd>
        <p:snd r:embed="rId2" name="cashreg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蜻蜓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314280" y="316080"/>
            <a:ext cx="6418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0" y="260280"/>
            <a:ext cx="408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ffcc"/>
                </a:solidFill>
                <a:latin typeface="Times New Roman"/>
                <a:ea typeface="楷体_GB2312"/>
              </a:rPr>
              <a:t>蜻蜓低飞</a:t>
            </a:r>
            <a:r>
              <a:rPr b="0" lang="zh-CN" sz="4400" spc="-1" strike="noStrike">
                <a:solidFill>
                  <a:srgbClr val="ccffcc"/>
                </a:solidFill>
                <a:latin typeface="Times New Roman"/>
                <a:ea typeface="华文中宋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076720" y="1125360"/>
            <a:ext cx="378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cc"/>
                </a:solidFill>
                <a:latin typeface="Times New Roman"/>
              </a:rPr>
              <a:t> </a:t>
            </a:r>
            <a:r>
              <a:rPr b="0" lang="zh-CN" sz="6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要下雨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自读指导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数数课文有几个自然段，标上序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正确、流利地朗读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用铅笔画出不认识的生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-57960" y="1600200"/>
            <a:ext cx="1826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了停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7165800" y="1295280"/>
            <a:ext cx="1003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要下雨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strips dir="rd"/>
    <p:sndAc>
      <p:stSnd>
        <p:snd r:embed="rId2" name="type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PM_001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533520" y="871560"/>
            <a:ext cx="69339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中宋"/>
              </a:rPr>
              <a:t>大自然的语言啊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中宋"/>
              </a:rPr>
              <a:t>真是妙不可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中宋"/>
              </a:rPr>
              <a:t>不爱学习的人总也看不懂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中宋"/>
              </a:rPr>
              <a:t>粗心大意的人永远看不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WordArt 4"/>
          <p:cNvSpPr txBox="1"/>
          <p:nvPr/>
        </p:nvSpPr>
        <p:spPr>
          <a:xfrm>
            <a:off x="609480" y="4800600"/>
            <a:ext cx="5867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做个爱学习的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1447920" y="304920"/>
            <a:ext cx="6400800" cy="5790960"/>
          </a:xfrm>
          <a:custGeom>
            <a:avLst/>
            <a:gdLst>
              <a:gd name="textAreaLeft" fmla="*/ 375120 w 6400800"/>
              <a:gd name="textAreaRight" fmla="*/ 6025680 w 6400800"/>
              <a:gd name="textAreaTop" fmla="*/ 375120 h 5790960"/>
              <a:gd name="textAreaBottom" fmla="*/ 5415840 h 5790960"/>
            </a:gdLst>
            <a:ahLst/>
            <a:rect l="textAreaLeft" t="textAreaTop" r="textAreaRight" b="textAreaBottom"/>
            <a:pathLst>
              <a:path w="23875" h="21600">
                <a:moveTo>
                  <a:pt x="0" y="0"/>
                </a:moveTo>
                <a:lnTo>
                  <a:pt x="23875" y="0"/>
                </a:lnTo>
                <a:lnTo>
                  <a:pt x="23875" y="21600"/>
                </a:lnTo>
                <a:lnTo>
                  <a:pt x="0" y="21600"/>
                </a:lnTo>
                <a:close/>
              </a:path>
              <a:path fill="lightenLess" w="23875" h="21600">
                <a:moveTo>
                  <a:pt x="0" y="0"/>
                </a:moveTo>
                <a:lnTo>
                  <a:pt x="23875" y="0"/>
                </a:lnTo>
                <a:lnTo>
                  <a:pt x="22475" y="1400"/>
                </a:lnTo>
                <a:lnTo>
                  <a:pt x="1400" y="1400"/>
                </a:lnTo>
                <a:close/>
              </a:path>
              <a:path fill="darken" w="23875" h="21600">
                <a:moveTo>
                  <a:pt x="23875" y="0"/>
                </a:moveTo>
                <a:lnTo>
                  <a:pt x="23875" y="21600"/>
                </a:lnTo>
                <a:lnTo>
                  <a:pt x="22475" y="20200"/>
                </a:lnTo>
                <a:lnTo>
                  <a:pt x="22475" y="1400"/>
                </a:lnTo>
                <a:close/>
              </a:path>
              <a:path fill="darkenLess" w="23875" h="21600">
                <a:moveTo>
                  <a:pt x="23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5" y="20200"/>
                </a:lnTo>
                <a:close/>
              </a:path>
              <a:path fill="lighten" w="23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dc42646604e67ac0f63654ee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2050920" y="981000"/>
            <a:ext cx="583272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东虹日头西虹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蜘蛛结网天放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上钩钩云，地上雨淋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久晴鹊噪雨，久雨鹊噪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久晴大雾必阴，久雨大雾必晴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缸出汗蛤蟆叫，不久将有大雨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燕子低飞蛇过道，蚂蚁搬家山戴帽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4"/>
          <p:cNvSpPr txBox="1"/>
          <p:nvPr/>
        </p:nvSpPr>
        <p:spPr>
          <a:xfrm>
            <a:off x="6156360" y="260280"/>
            <a:ext cx="244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天气谚语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dc42646604e67ac0f63654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5"/>
          <p:cNvSpPr/>
          <p:nvPr/>
        </p:nvSpPr>
        <p:spPr>
          <a:xfrm>
            <a:off x="1476360" y="1413000"/>
            <a:ext cx="69343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中宋"/>
              </a:rPr>
              <a:t>大自然的语言啊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中宋"/>
              </a:rPr>
              <a:t>真是妙不可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中宋"/>
              </a:rPr>
              <a:t>不爱学习的人总也看不懂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中宋"/>
              </a:rPr>
              <a:t>粗心大意的人永远看不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1042920" y="1268280"/>
            <a:ext cx="6121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一比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比比谁写得字最美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1187280" y="1484280"/>
            <a:ext cx="1944720" cy="1944720"/>
            <a:chOff x="1187280" y="1484280"/>
            <a:chExt cx="1944720" cy="1944720"/>
          </a:xfrm>
        </p:grpSpPr>
        <p:sp>
          <p:nvSpPr>
            <p:cNvPr id="298" name="Line 3"/>
            <p:cNvSpPr/>
            <p:nvPr/>
          </p:nvSpPr>
          <p:spPr>
            <a:xfrm>
              <a:off x="1187280" y="2442960"/>
              <a:ext cx="19447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"/>
            <p:cNvSpPr/>
            <p:nvPr/>
          </p:nvSpPr>
          <p:spPr>
            <a:xfrm>
              <a:off x="2159640" y="148428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1187280" y="148428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6"/>
          <p:cNvGrpSpPr/>
          <p:nvPr/>
        </p:nvGrpSpPr>
        <p:grpSpPr>
          <a:xfrm>
            <a:off x="3132000" y="1484280"/>
            <a:ext cx="1944720" cy="1944720"/>
            <a:chOff x="3132000" y="1484280"/>
            <a:chExt cx="1944720" cy="1944720"/>
          </a:xfrm>
        </p:grpSpPr>
        <p:sp>
          <p:nvSpPr>
            <p:cNvPr id="302" name="Line 7"/>
            <p:cNvSpPr/>
            <p:nvPr/>
          </p:nvSpPr>
          <p:spPr>
            <a:xfrm>
              <a:off x="3132000" y="2442960"/>
              <a:ext cx="19447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8"/>
            <p:cNvSpPr/>
            <p:nvPr/>
          </p:nvSpPr>
          <p:spPr>
            <a:xfrm>
              <a:off x="4104360" y="148428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9"/>
            <p:cNvSpPr/>
            <p:nvPr/>
          </p:nvSpPr>
          <p:spPr>
            <a:xfrm>
              <a:off x="3132000" y="148428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0"/>
          <p:cNvGrpSpPr/>
          <p:nvPr/>
        </p:nvGrpSpPr>
        <p:grpSpPr>
          <a:xfrm>
            <a:off x="5076720" y="1484280"/>
            <a:ext cx="1944720" cy="1944720"/>
            <a:chOff x="5076720" y="1484280"/>
            <a:chExt cx="1944720" cy="1944720"/>
          </a:xfrm>
        </p:grpSpPr>
        <p:sp>
          <p:nvSpPr>
            <p:cNvPr id="306" name="Line 11"/>
            <p:cNvSpPr/>
            <p:nvPr/>
          </p:nvSpPr>
          <p:spPr>
            <a:xfrm>
              <a:off x="5076720" y="2442960"/>
              <a:ext cx="19447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2"/>
            <p:cNvSpPr/>
            <p:nvPr/>
          </p:nvSpPr>
          <p:spPr>
            <a:xfrm>
              <a:off x="6049080" y="148428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3"/>
            <p:cNvSpPr/>
            <p:nvPr/>
          </p:nvSpPr>
          <p:spPr>
            <a:xfrm>
              <a:off x="5076720" y="148428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4"/>
          <p:cNvGrpSpPr/>
          <p:nvPr/>
        </p:nvGrpSpPr>
        <p:grpSpPr>
          <a:xfrm>
            <a:off x="1187280" y="3573360"/>
            <a:ext cx="1944720" cy="1944720"/>
            <a:chOff x="1187280" y="3573360"/>
            <a:chExt cx="1944720" cy="1944720"/>
          </a:xfrm>
        </p:grpSpPr>
        <p:sp>
          <p:nvSpPr>
            <p:cNvPr id="310" name="Line 15"/>
            <p:cNvSpPr/>
            <p:nvPr/>
          </p:nvSpPr>
          <p:spPr>
            <a:xfrm>
              <a:off x="1187280" y="4532040"/>
              <a:ext cx="19447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>
              <a:off x="2159640" y="357336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7"/>
            <p:cNvSpPr/>
            <p:nvPr/>
          </p:nvSpPr>
          <p:spPr>
            <a:xfrm>
              <a:off x="1187280" y="357336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8"/>
          <p:cNvGrpSpPr/>
          <p:nvPr/>
        </p:nvGrpSpPr>
        <p:grpSpPr>
          <a:xfrm>
            <a:off x="3132000" y="3573360"/>
            <a:ext cx="1944720" cy="1944720"/>
            <a:chOff x="3132000" y="3573360"/>
            <a:chExt cx="1944720" cy="1944720"/>
          </a:xfrm>
        </p:grpSpPr>
        <p:sp>
          <p:nvSpPr>
            <p:cNvPr id="314" name="Line 19"/>
            <p:cNvSpPr/>
            <p:nvPr/>
          </p:nvSpPr>
          <p:spPr>
            <a:xfrm>
              <a:off x="3132000" y="4532040"/>
              <a:ext cx="19447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0"/>
            <p:cNvSpPr/>
            <p:nvPr/>
          </p:nvSpPr>
          <p:spPr>
            <a:xfrm>
              <a:off x="4104360" y="357336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1"/>
            <p:cNvSpPr/>
            <p:nvPr/>
          </p:nvSpPr>
          <p:spPr>
            <a:xfrm>
              <a:off x="3132000" y="357336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22"/>
          <p:cNvGrpSpPr/>
          <p:nvPr/>
        </p:nvGrpSpPr>
        <p:grpSpPr>
          <a:xfrm>
            <a:off x="5076720" y="3573360"/>
            <a:ext cx="1944720" cy="1944720"/>
            <a:chOff x="5076720" y="3573360"/>
            <a:chExt cx="1944720" cy="1944720"/>
          </a:xfrm>
        </p:grpSpPr>
        <p:sp>
          <p:nvSpPr>
            <p:cNvPr id="318" name="Line 23"/>
            <p:cNvSpPr/>
            <p:nvPr/>
          </p:nvSpPr>
          <p:spPr>
            <a:xfrm>
              <a:off x="5076720" y="4532040"/>
              <a:ext cx="19447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4"/>
            <p:cNvSpPr/>
            <p:nvPr/>
          </p:nvSpPr>
          <p:spPr>
            <a:xfrm>
              <a:off x="6049080" y="3573360"/>
              <a:ext cx="0" cy="19447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5"/>
            <p:cNvSpPr/>
            <p:nvPr/>
          </p:nvSpPr>
          <p:spPr>
            <a:xfrm>
              <a:off x="5076720" y="3573360"/>
              <a:ext cx="1944720" cy="1917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26"/>
          <p:cNvSpPr/>
          <p:nvPr/>
        </p:nvSpPr>
        <p:spPr>
          <a:xfrm>
            <a:off x="468360" y="3333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我会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7"/>
          <p:cNvSpPr/>
          <p:nvPr/>
        </p:nvSpPr>
        <p:spPr>
          <a:xfrm>
            <a:off x="1258920" y="1341360"/>
            <a:ext cx="21589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吗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8"/>
          <p:cNvSpPr/>
          <p:nvPr/>
        </p:nvSpPr>
        <p:spPr>
          <a:xfrm>
            <a:off x="3348000" y="1341360"/>
            <a:ext cx="1728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吧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9"/>
          <p:cNvSpPr/>
          <p:nvPr/>
        </p:nvSpPr>
        <p:spPr>
          <a:xfrm>
            <a:off x="5148360" y="1341360"/>
            <a:ext cx="16556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虫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0"/>
          <p:cNvSpPr/>
          <p:nvPr/>
        </p:nvSpPr>
        <p:spPr>
          <a:xfrm>
            <a:off x="1258920" y="3429000"/>
            <a:ext cx="16556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往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1"/>
          <p:cNvSpPr/>
          <p:nvPr/>
        </p:nvSpPr>
        <p:spPr>
          <a:xfrm>
            <a:off x="3203640" y="3429000"/>
            <a:ext cx="16556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得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2"/>
          <p:cNvSpPr/>
          <p:nvPr/>
        </p:nvSpPr>
        <p:spPr>
          <a:xfrm>
            <a:off x="5219640" y="3357720"/>
            <a:ext cx="18716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  <a:ea typeface="楷体_GB2312"/>
              </a:rPr>
              <a:t>很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3"/>
          <p:cNvSpPr/>
          <p:nvPr/>
        </p:nvSpPr>
        <p:spPr>
          <a:xfrm>
            <a:off x="1106640" y="583092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187280" y="1341360"/>
            <a:ext cx="5905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一比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比比谁认得字最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755640" y="593640"/>
            <a:ext cx="86756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ō      gē         mēn      cháo sh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山坡      割 草    闷得很    潮   湿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ēn                   hǎn    chó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伸  腰         大 声 喊      虫 子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iāo      bān         zhèn     huā hu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消 息    搬 家      一  阵     哗  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646200" y="1197000"/>
            <a:ext cx="84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山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坡    割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草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闷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得很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潮湿    虫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子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喊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消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息    一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阵   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伸伸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腰    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搬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东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755640" y="2492280"/>
            <a:ext cx="180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227640" y="1413000"/>
            <a:ext cx="180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835280" y="1887480"/>
            <a:ext cx="180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d0724f5bdb82beef2d385d6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058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0" y="669960"/>
            <a:ext cx="8915400" cy="9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闷     伸     喊     搬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阵     哗     虫     潮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湿     坡     割     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-63720" y="-30240"/>
            <a:ext cx="154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mē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25520" y="0"/>
            <a:ext cx="164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宋体"/>
              </a:rPr>
              <a:t>sh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ē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755600" y="-30240"/>
            <a:ext cx="135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hǎ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7194960" y="0"/>
            <a:ext cx="133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bā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-219240" y="2565360"/>
            <a:ext cx="16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宋体"/>
              </a:rPr>
              <a:t>zh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è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363040" y="2492280"/>
            <a:ext cx="135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hu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404240" y="2421000"/>
            <a:ext cx="205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宋体"/>
              </a:rPr>
              <a:t>ch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ó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7122960" y="2492280"/>
            <a:ext cx="164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宋体"/>
              </a:rPr>
              <a:t>ch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8720" y="494172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宋体"/>
              </a:rPr>
              <a:t>sh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2555280" y="4869000"/>
            <a:ext cx="94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p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5014080" y="4797360"/>
            <a:ext cx="9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g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236000" y="4869000"/>
            <a:ext cx="16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xiā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2:08:27Z</dcterms:created>
  <dc:creator/>
  <dc:description/>
  <cp:keywords>幻灯片之家 http:/www.eeppt.com</cp:keywords>
  <dc:language>en-US</dc:language>
  <cp:lastModifiedBy/>
  <dcterms:modified xsi:type="dcterms:W3CDTF">2015-07-20T04:26:0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