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rack02-2.26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7C2-C76C-4C59-AC8A-3B3E3D8F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B2C-2CC4-4005-BC23-F861EA65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907-3AFF-4C8B-9E3E-9B345A22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617-CB97-4932-B572-DFA9CC54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CB6DB-BBD3-4676-B34A-F3AF4D01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F5994-2082-4CF2-9771-5F8BCEAF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126C3-F785-49A4-B8B9-C746644C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88BC5-BB00-4A97-909D-1889BDE4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FD4E9-0000-4D97-B809-ADF52007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5ACA6-38E0-4F44-B627-94DD0F48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F7DFB-5609-4868-86ED-A13ED56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CEC-B890-459B-9590-83111F32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42E41-0D85-45BD-B2E8-C2915FCB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701F2-55B1-4133-AFB6-4B96DF6C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B3B82-EF5C-4A0C-9AD8-557E6441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F5136-563A-4E4E-AC47-FC752C5F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A4952-CFF5-458D-935E-5AA346B2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389-31BA-42C6-A49E-289028DC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C38-68C8-468A-89C9-AB099C31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3C5-48C4-458B-8E0A-6D4119C0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CF0-5037-4860-BB93-E4DEAFE7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CB0-93E4-447F-913B-E8A40552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C0D-00DE-4CD7-B1E5-B44E4A90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8AF-30C6-4D54-B783-03C5C7E4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27F-01C9-44DB-B92E-216101C39302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1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71A9-A5AA-49B8-A88E-E802334829FC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429240" y="6214680"/>
            <a:ext cx="24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9E35-ACBE-4FB1-AD96-6F42749302D4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1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892D-B025-4E40-9D0F-3BE45BF4B453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02-2.2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2306605-lg"/>
          <p:cNvPicPr/>
          <p:nvPr/>
        </p:nvPicPr>
        <p:blipFill>
          <a:blip r:embed="rId1"/>
          <a:stretch/>
        </p:blipFill>
        <p:spPr>
          <a:xfrm>
            <a:off x="-231840" y="0"/>
            <a:ext cx="96076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240c"/>
                </a:solidFill>
                <a:latin typeface="DFKai-SB"/>
                <a:ea typeface="DFKai-SB"/>
              </a:rPr>
              <a:t>友谊长存</a:t>
            </a:r>
            <a:r>
              <a:rPr b="0" lang="en-US" sz="4000" spc="-1" strike="noStrike">
                <a:solidFill>
                  <a:srgbClr val="69240c"/>
                </a:solidFill>
                <a:latin typeface="DFKai-SB"/>
                <a:ea typeface="DFKai-SB"/>
              </a:rPr>
              <a:t>PPT</a:t>
            </a:r>
            <a:r>
              <a:rPr b="0" lang="zh-CN" sz="4000" spc="-1" strike="noStrike">
                <a:solidFill>
                  <a:srgbClr val="69240c"/>
                </a:solidFill>
                <a:latin typeface="DFKai-SB"/>
                <a:ea typeface="DFKai-SB"/>
              </a:rPr>
              <a:t>模板免费下载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" name="灯片编号占位符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F43D-ECEF-43C4-A31D-F7DEF638C4A1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7017120" y="6215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自动或手动播放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53" name="Picture 14" descr="2568684-lg"/>
          <p:cNvPicPr/>
          <p:nvPr/>
        </p:nvPicPr>
        <p:blipFill>
          <a:blip r:embed="rId1"/>
          <a:stretch/>
        </p:blipFill>
        <p:spPr>
          <a:xfrm>
            <a:off x="0" y="-7920"/>
            <a:ext cx="9396360" cy="6865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685800" y="685800"/>
            <a:ext cx="4724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在乎的是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看到誰寄</a:t>
            </a:r>
            <a:r>
              <a:rPr b="1" lang="en-US" sz="3600" spc="-1" strike="noStrike">
                <a:solidFill>
                  <a:srgbClr val="ffff00"/>
                </a:solidFill>
                <a:latin typeface="DFKai-SB"/>
                <a:ea typeface="DFKai-SB"/>
              </a:rPr>
              <a:t>E-mail</a:t>
            </a: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來了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DFKai-SB"/>
                <a:ea typeface="DFKai-SB"/>
              </a:rPr>
              <a:t>感覺真好</a:t>
            </a:r>
            <a:r>
              <a:rPr b="1" lang="en-US" sz="3600" spc="-1" strike="noStrike">
                <a:solidFill>
                  <a:srgbClr val="ff0000"/>
                </a:solidFill>
                <a:latin typeface="DFKai-SB"/>
                <a:ea typeface="DFKai-SB"/>
              </a:rPr>
              <a:t>......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5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2E43-4A2E-4498-A5E8-E971BB94E316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感觉真好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内容占位符 3" descr="咖啡.jpg"/>
          <p:cNvPicPr/>
          <p:nvPr/>
        </p:nvPicPr>
        <p:blipFill>
          <a:blip r:embed="rId1"/>
          <a:stretch/>
        </p:blipFill>
        <p:spPr>
          <a:xfrm>
            <a:off x="355680" y="266760"/>
            <a:ext cx="8432640" cy="6324480"/>
          </a:xfrm>
          <a:prstGeom prst="rect">
            <a:avLst/>
          </a:prstGeom>
          <a:ln w="0">
            <a:noFill/>
          </a:ln>
        </p:spPr>
      </p:pic>
      <p:sp>
        <p:nvSpPr>
          <p:cNvPr id="92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9C44-4467-44B6-A48E-7FBD0F410340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0040" y="1356840"/>
            <a:ext cx="5214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喝杯咖啡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聽起來讓人很温馨且令人感動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聊一聊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說說話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些無聊的東東給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42960" y="1357200"/>
            <a:ext cx="5562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文字方塊 6"/>
          <p:cNvSpPr/>
          <p:nvPr/>
        </p:nvSpPr>
        <p:spPr>
          <a:xfrm>
            <a:off x="1214280" y="857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DFKai-SB"/>
                <a:ea typeface="DFKai-SB"/>
              </a:rPr>
              <a:t>很特別的一句廣告詞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0" name="Picture 10" descr="2281147-lg"/>
          <p:cNvPicPr/>
          <p:nvPr/>
        </p:nvPicPr>
        <p:blipFill>
          <a:blip r:embed="rId1"/>
          <a:stretch/>
        </p:blipFill>
        <p:spPr>
          <a:xfrm>
            <a:off x="0" y="0"/>
            <a:ext cx="9325080" cy="6935760"/>
          </a:xfrm>
          <a:prstGeom prst="rect">
            <a:avLst/>
          </a:prstGeom>
          <a:ln w="0">
            <a:noFill/>
          </a:ln>
        </p:spPr>
      </p:pic>
      <p:sp>
        <p:nvSpPr>
          <p:cNvPr id="101" name="內容版面配置區 11"/>
          <p:cNvSpPr/>
          <p:nvPr/>
        </p:nvSpPr>
        <p:spPr>
          <a:xfrm>
            <a:off x="928800" y="928800"/>
            <a:ext cx="7500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我們常怕打擾別人，而忽略要打個電話問候對方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久而久之，漸漸疏遠、漸漸陌生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直到有一天，連方的電話號碼都忘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或者，怕對方早忘了你，而沒有勇氣再打電話給他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灯片编号占位符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08CD-AF2D-4499-BA16-C9A217700501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打电话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276720" y="4572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9" name="Picture 10" descr="1750131-l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1"/>
          <p:cNvSpPr/>
          <p:nvPr/>
        </p:nvSpPr>
        <p:spPr>
          <a:xfrm>
            <a:off x="755640" y="857160"/>
            <a:ext cx="488808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想現代人應該都是寂寞的吧？因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總覺得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寂寞，與有沒有人陪在身邊，無關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那是一種心靈上的空虛，總在最脆弱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時分竄上心頭，引發出內心深層的孤寂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其實不很懂，為什麼我會覺得寂寞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大多時候，是忙得心力交瘁的，而不管如何地繁忙，我總是知道身邊至少還有個他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4DDD-A2AC-472B-AB3C-7CF9F40474D1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664000" y="6273720"/>
            <a:ext cx="46447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9900"/>
                </a:solidFill>
                <a:uFillTx/>
                <a:latin typeface="黑体"/>
                <a:hlinkClick r:id="rId2"/>
              </a:rPr>
              <a:t>ppt素材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http://www.eeppt.com/sucai/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advTm="22000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18" name="Picture 11" descr="2930017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1447920" y="2666880"/>
            <a:ext cx="6553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但為什麼還是會寂寞？我想或許是我太重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“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”不單單是愛情，還有親情和友情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甚至還有一些無法定義的感情，都是情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我常捫心自問：「有這麼忙嗎？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廣告詞中的：「再忙，也要和你喝杯咖啡。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說得多好啊！若有心，應該是這種境界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有時候，抓起話筒想和他說說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卻又顧忌到他是否有時間與我說話呢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最後，還是放下了電話。只是，偶爾我會感到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0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ABF7-0D06-494A-BE14-443682ED7E1B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为什么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20000">
    <p:pull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26" name="Picture 8" descr="2486586-lg"/>
          <p:cNvPicPr/>
          <p:nvPr/>
        </p:nvPicPr>
        <p:blipFill>
          <a:blip r:embed="rId1"/>
          <a:stretch/>
        </p:blipFill>
        <p:spPr>
          <a:xfrm>
            <a:off x="0" y="-71280"/>
            <a:ext cx="9325080" cy="6929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1143000" y="3143160"/>
            <a:ext cx="5823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每當想起其他的好朋友時，心頭總是悵然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曾經和我走過生命中某一段過程的朋友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都很想念，不知道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現在好嗎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是否偶爾也會想起我呢？或許將會永遠斷了聯絡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但我永遠都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過得好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能夠幸福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8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A7BB-774D-400E-B5FB-124728017E7D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想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trips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34" name="Picture 8" descr="1903531-lg"/>
          <p:cNvPicPr/>
          <p:nvPr/>
        </p:nvPicPr>
        <p:blipFill>
          <a:blip r:embed="rId1"/>
          <a:stretch/>
        </p:blipFill>
        <p:spPr>
          <a:xfrm>
            <a:off x="-108000" y="-27000"/>
            <a:ext cx="9325080" cy="6932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428760" y="3714840"/>
            <a:ext cx="5603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看完這篇文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...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大家不管多忙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都不要忘了找一個時間和朋友聚一聚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或者通個電話問候一下吧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這世界有許多人在關心你，也需要你的關心呢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6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844D-1942-4E5A-9226-07F5E2F99549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聚一聚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42" name="Picture 8" descr="3026017-lg"/>
          <p:cNvPicPr/>
          <p:nvPr/>
        </p:nvPicPr>
        <p:blipFill>
          <a:blip r:embed="rId1"/>
          <a:stretch/>
        </p:blipFill>
        <p:spPr>
          <a:xfrm>
            <a:off x="-144360" y="0"/>
            <a:ext cx="9396360" cy="6875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3429000" y="1066680"/>
            <a:ext cx="526896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不過感謝現在有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這麼方便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雖然隨著時間的流逝友情已不復當年濃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但總是能知道一下對方的消息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有的時候並不是真的寄信的內容多吸引人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4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4FEF-DB09-4D86-AD5B-E09EF5CCDF34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e-mail</a:t>
            </a: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多方便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使用规范说明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6:01:08Z</dcterms:created>
  <dc:creator>Roger@sanshui</dc:creator>
  <dc:description/>
  <cp:keywords/>
  <dc:language>en-US</dc:language>
  <cp:lastModifiedBy>a</cp:lastModifiedBy>
  <dcterms:modified xsi:type="dcterms:W3CDTF">2015-07-21T02:57:52Z</dcterms:modified>
  <cp:revision>97</cp:revision>
  <dc:subject/>
  <dc:title>友好要说出口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