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51657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259D-2872-473D-AB34-791CA7E48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822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87640"/>
            <a:ext cx="822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DF31-0839-47BB-9225-E4101FAE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8764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8764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6969-FB96-4794-A034-5098CA8BA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636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636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8764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8764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8764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8549-CEC0-4166-A1D7-1D4430B6F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A490-52F6-4C1B-A633-D47083408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6360"/>
            <a:ext cx="8229600" cy="34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043B-3B2C-4A74-A405-01351E84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82296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42A3E-969B-43B4-B4BA-B2263F65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16CD-ABD2-494F-B42D-AB1DD5C8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B8E7-FBAF-4754-ABE9-F8773F72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600" cy="39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27FEB-8424-4532-8FCE-A6BCAA2B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8764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CA1F-DE3A-4EC9-8073-3463EE77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6360"/>
            <a:ext cx="8229600" cy="34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5526-8918-48DE-8D50-F389C160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8764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3BD4-40D1-4E00-B351-4C141A8A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87640"/>
            <a:ext cx="822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23A3-9F89-4B9A-94A9-78F8F3E8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822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87640"/>
            <a:ext cx="822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045C-06F6-4A47-9C8D-A6A10614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8764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8764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7979-721B-4EEC-ADC6-6363637C5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636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636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8764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8764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8764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3209D-7AFE-4506-A4AD-BBA6BB418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82296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0585-56FF-4B31-8709-7CA01BE4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D4AB-52B0-4AF7-AFF4-13EE7766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33A6-9A36-4847-ADF2-E9E60C18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600" cy="39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89A4-116B-4E68-B7A6-FDC9085D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8764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9A32-C84D-4507-B645-40B85D63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8764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8865-960E-4BB7-86A4-369E384B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87640"/>
            <a:ext cx="822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0B4B-BF94-423A-987C-60212AD0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6360"/>
            <a:ext cx="82296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04840"/>
            <a:ext cx="213372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04840"/>
            <a:ext cx="28958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04840"/>
            <a:ext cx="213372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FD8F-73CF-4890-9000-6EBB0D28E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6360"/>
            <a:ext cx="82296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872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6040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492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944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944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944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8908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8908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8908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0663-9EDB-4317-98C1-840781ED33A8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"/>
          <p:cNvSpPr/>
          <p:nvPr/>
        </p:nvSpPr>
        <p:spPr>
          <a:xfrm>
            <a:off x="2361960" y="164772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永远的丰碑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"/>
          <p:cNvSpPr/>
          <p:nvPr/>
        </p:nvSpPr>
        <p:spPr>
          <a:xfrm>
            <a:off x="314280" y="482904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106640" y="475452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楷体"/>
                <a:ea typeface="楷体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79600" y="142560"/>
            <a:ext cx="61848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08160" y="956880"/>
            <a:ext cx="672768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6616800" y="250920"/>
            <a:ext cx="104760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06:13:0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6:01:1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