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png" ContentType="image/png"/>
  <Override PartName="/ppt/media/image21.gif" ContentType="image/gif"/>
  <Override PartName="/ppt/media/image10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type.wav" ContentType="audio/x-wav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9E6-CCFC-4558-A4E3-92B03026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094-09E2-4A46-8FBB-015CF32C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DA1BE-8D2E-4114-A342-56F04077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9E7D7-6810-416B-9598-EF6C7AF6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F4501-D1CE-426E-A1EF-81377875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64ABC-0933-4079-8E71-C6364FB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D21AC-4F49-4C03-8E1F-235C5F5D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DC5DA-1629-485C-BB75-F6682FFE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2A2F9-0CBB-4EBF-B34E-821ED43D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9AEDC-1CD8-4966-858A-9C25C2D9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8D3E0-679B-4EBD-B2AF-06986F19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8E0F5-53D3-4859-90EF-F1551D21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2BE-2D34-4B66-966D-3E2E4874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7F3FE-FBB9-4129-86D8-9B82FBF2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48228-B1CC-44A4-887E-286FC94C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A114B-992F-47E6-8667-A72215F5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5C675-546E-4BD9-AB3E-E0B35F55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B65F6-BB94-4C51-8CF4-58508179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AB3FD-10F8-4390-AD34-7B917656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7A084-98A6-4EAA-B799-C2C9096E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AD2AF-848F-4291-BE98-9B198C73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7495B-E641-4AD1-B5A2-856A1548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B321E-8162-4FB1-B194-CE57C062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A20-E297-47C7-A74A-17910D8D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B9265-B23D-4EEB-8685-C5D09E35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A7516-7720-4090-9A6E-B5F2FD69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D4F96-6EF4-481D-923B-9130A547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A4036-53EF-4170-9DF2-E4E1FBD7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E5CC4-588E-429F-B987-0A31F514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F061D-340F-4D94-9C1B-1E9FC868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DDC7A-E5BE-4A53-9FCB-62E5D4D8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F5212-F838-41E6-9BBE-96EEE1BB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F1563-0D98-4A83-96F9-683127F2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14375-AB58-4F0D-AA2D-02FA080E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ABF8-39CF-4F2D-8308-AD5A23F7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845D9-6239-4681-84A1-9FCD9DB3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85025-A5A9-4F4F-A2DA-D427788D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4C016-723E-4876-8B28-B767607E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06CBD-F296-418D-9359-571B16BE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9154B-CD84-4E66-AAE2-595F2A67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D8B6B-9F41-4B1A-A9D2-745E1BD3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370FC-6E3A-459D-A45A-D5CBF7C0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77FA6-8C67-4581-9541-FE64B875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7FD00-C45E-49EC-99BD-77849A42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B4243-5799-4588-AC04-C30C8115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F2D4-3B13-448D-974A-74DE326E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C3E73-48E2-4FB9-9D84-023E2D49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F3240-42AC-45C3-8667-6D24745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C4FBB-6F53-4186-8D69-04DCA63B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C6AA1-DE69-4BEE-B147-EBADAF48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84752-C2F6-4DF4-84E2-982E9026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00DF3-3D01-4C8C-80F7-0701BFAE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93AEF-E58B-4EB5-9456-08CAA0AA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E4FB6-9C3E-4F11-927D-2DB6013C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DBD7D-3C79-401D-AC2C-608B614F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0712A-39DA-4F42-9674-17A052D1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AD4A-EF49-4B11-B997-E76EE749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AE7A4-9856-41D6-B3E8-6726968D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7A09C-113A-4D13-9B27-2A79CB96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55536-A3BE-4092-9FD6-ECACBC89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A798A-FDC6-4739-9741-DDE8208F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74CC1-F4AF-4189-8705-FA1442C3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93A99-19BE-4CBC-B2A2-577ACDC6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91A76-6E90-4F63-A15C-4AA67CE9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64EE-2C18-432C-8F64-77634D85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B81A-64DF-49F1-98C0-7FF7B903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FF95-EE0B-4150-B53F-9D66B24A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CDED-2F4B-46C1-BBCB-D313B84C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112-0751-4097-B269-A7781872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AF79-7CBB-451C-A540-E218583F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0932-42A9-47AD-AFF5-AD9A006F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6A4C-A4BC-4552-B973-FC34B554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410D-B8A1-49E4-B2EB-968C01C0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F72D-D74E-4D0D-809A-94429D50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753F-7868-4025-ABA4-847C8FA4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DE5F-B530-4846-B803-A48AE0E1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60421-ECE1-4739-A3D2-62AC57DE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6A9E-4E8B-4866-8053-99F4DA20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DB67-2368-48CF-B4E5-53C6918A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1B5-CC8E-4AC4-B08C-FD179CC5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5976-B407-4B57-850B-2C375217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5F01-4D1A-4382-A49E-CB95879D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0118-5803-485C-B380-77907663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CA1B6-61A6-478A-8F5D-9A9F89C0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3D07-515A-4429-822E-8E7EFA02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3269-DC93-49CD-8883-B99BA2DD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66E7-C07A-44F6-B489-165570E9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93C4E-A4E0-44AA-8A65-9D141181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F203-E1E5-43A1-8E93-1F029EB7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367A-20DF-4F51-A85E-D039C6ED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64C-8004-4E37-ADB2-A61ACF2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10376-63C7-4E5D-B2C3-A0C75DD9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52BB-9A1E-48FD-8DCD-5A5D82F8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1322E-1511-472B-87D8-DCD3DC12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CD87-F028-46E7-8CC3-1DDA032D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6402-729E-4DCD-802B-3AB356A9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16070-11A5-4DF5-AB23-A8E0F160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02A3D-A2D6-4F43-8252-651E80D9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659C3-1CC5-4DC9-85BD-2A0AC53D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A2BD-A24B-4ADC-8CE5-ECB18A79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E06E4-C65F-4A9C-A9F0-3E1F1929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BE8-E57F-4E82-9860-C811A382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1A5B-F57F-4705-8A55-C7BA49CE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AB76E-C354-4597-97B0-29D18343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E573-D204-48EE-8409-DB6C3CA5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C36D4-9035-4904-98BB-2641FCCB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45606-64B4-4ED4-ADA1-991E6B9D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7C3AF-D8F6-4144-A18D-DC656919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84F55-44BF-406E-AACB-34FD0CA1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673E-C22B-4B11-B799-4EE27A60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A1E3C-AD87-4263-9EF6-0698611D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A667F-0996-4911-85F8-86552E44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F10-CE7A-488B-814D-3D9407D0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EA3A-5F66-4139-9CC3-C6DC79D6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260D8-F52C-4F5F-8666-3D6C9728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0EE07-BA88-4791-9263-805423C2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3CD69-6B02-47CD-A833-16EC3CEE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670DC-B873-4386-BD94-3F8C31D6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797F9-79A7-49D6-BC34-CC7CC0B1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C3568-EC3E-465D-8CA3-02D9C734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A869A-32A5-441D-BC5B-7A34EACB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2020F-6938-40DB-8470-815212A9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4243D-CBC6-497F-B1B6-574D6BDB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C84-E000-493C-8B15-5A436A44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06DD8-E5CA-48CB-9AD5-AA79B63B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815B6-72C0-49DD-9FBA-6937C576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39432-D4C4-4362-BB59-3EA4EB0E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7F7A7-FEE1-4F1E-8E3F-FF595372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2D552-2A5A-4CA2-917B-98D63D0F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02B6-D01B-47C0-A4AB-1C6D2F40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374DD-150C-4E19-BE0C-91FDC25B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CC0F2-967D-4DFA-8DA6-5B0FB45C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3D1B5-E408-4178-863B-BCE215BC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20F0-319A-47D6-9807-3DDF84D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460-9348-4168-926B-4EE3FC35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D9784-DF06-43EF-85B9-49328D4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28022-F144-4BE6-8E69-B1A574E3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27111-B6EA-46A9-A6E5-F7F563AE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A0651-A1E3-4B98-925E-242D5C43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24778-785F-4EF2-B78C-3197385B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F5DA3-BA1F-4022-8BC8-375C4CDC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90893-7176-41A7-B8C4-A7285374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192A8-CEAC-467A-BF7B-01386BE1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B3A75-8A53-49BD-834C-E4F02FA7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9BE4C-EE43-4B88-9BAA-8EB80EEF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A11-44C0-4455-91B1-DF20E75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2C1DE-56CB-4CC9-9876-F878CFA5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110E0-AF37-4256-B540-6156C6F8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A1EB1-89CF-4149-B0E3-C37E77B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07428-2EFB-41AF-8279-49704A54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4865E-9D0F-4752-937E-739FEE9C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2B367-7A19-4C41-B674-F3667364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E258C-75FF-4B8F-835A-7C6CA18B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9168A-4131-40D2-8CE4-F746B65A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D798A-7130-4D9B-A67C-C8758440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4CB3E-5A8D-4AB0-888F-9E581202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B6AD-9580-4076-A87E-3DFBF4F08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2048-6E3D-4861-B077-1D270EC992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A1BC-7CDD-4AEC-9DA3-9FFEB880C3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54C7-EFA8-4F72-A6AA-9642545BCF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35F1-25F0-4F3D-B73C-E9441402AC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0795-E5E7-4D27-9F4B-03E582CDCA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D935-AC19-435A-91F0-4B905E1E91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E3B7-735E-4593-B561-657FA835F4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791C-6C46-4B7C-A6F0-E6EA1483C2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5DAA-DB8D-4F47-A668-6A89B735C6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FD65-ECE8-4143-9F47-E37438CD23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E166-0946-4330-9D0E-7FDE705AC7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0EC9-AB53-4D70-BF04-A09E633530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"/>
          <p:cNvSpPr/>
          <p:nvPr/>
        </p:nvSpPr>
        <p:spPr>
          <a:xfrm>
            <a:off x="2433240" y="1052640"/>
            <a:ext cx="46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夜莺的歌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3"/>
          <p:cNvSpPr/>
          <p:nvPr/>
        </p:nvSpPr>
        <p:spPr>
          <a:xfrm>
            <a:off x="0" y="5364000"/>
            <a:ext cx="914400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大道两旁全是黑色的碎瓦。空旷的花园里，烧焦的树垂头丧气地弯着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4"/>
          <p:cNvPicPr/>
          <p:nvPr/>
        </p:nvPicPr>
        <p:blipFill>
          <a:blip r:embed="rId1"/>
          <a:stretch/>
        </p:blipFill>
        <p:spPr>
          <a:xfrm>
            <a:off x="-304920" y="-28440"/>
            <a:ext cx="9753840" cy="69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1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13weiguo"/>
          <p:cNvPicPr/>
          <p:nvPr/>
        </p:nvPicPr>
        <p:blipFill>
          <a:blip r:embed="rId1"/>
          <a:stretch/>
        </p:blipFill>
        <p:spPr>
          <a:xfrm>
            <a:off x="0" y="-376200"/>
            <a:ext cx="9144000" cy="718812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3"/>
          <p:cNvSpPr/>
          <p:nvPr/>
        </p:nvSpPr>
        <p:spPr>
          <a:xfrm>
            <a:off x="3003840" y="380880"/>
            <a:ext cx="347256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苏联卫国战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2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48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BANR003"/>
          <p:cNvPicPr/>
          <p:nvPr/>
        </p:nvPicPr>
        <p:blipFill>
          <a:blip r:embed="rId2"/>
          <a:stretch/>
        </p:blipFill>
        <p:spPr>
          <a:xfrm>
            <a:off x="1219320" y="609480"/>
            <a:ext cx="7086600" cy="10526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6"/>
          <p:cNvSpPr/>
          <p:nvPr/>
        </p:nvSpPr>
        <p:spPr>
          <a:xfrm>
            <a:off x="1981080" y="76212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3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夜莺的歌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95679ca2cd1076e1c9efd065"/>
          <p:cNvPicPr/>
          <p:nvPr/>
        </p:nvPicPr>
        <p:blipFill>
          <a:blip r:embed="rId1"/>
          <a:srcRect l="0" t="0" r="0" b="59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609480" y="1523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685800" y="112536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默读课文，检测字词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找一找，与我们平时学的课文有什么不同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一想，课文写了一件什么事，是按什么顺序写的，重点写了哪部分内容，每部分写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htp_imgl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479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屑  口哨  甩开  呻吟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蔑  蘑菇  手枪  鬼子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毁  盘问  凝神  宛转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聚精会神    兴致勃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5"/>
          <p:cNvSpPr/>
          <p:nvPr/>
        </p:nvSpPr>
        <p:spPr>
          <a:xfrm>
            <a:off x="324000" y="227664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写了在苏联卫国战争时期，一个小男孩帮助游击队消灭一伙德国法西斯强盗的事。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68360" y="1159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课文写了一件什么事，是按什么顺序写的，每部分写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468360" y="1159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课文写了一件什么事，是按什么顺序写的，每部分写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468360" y="1628640"/>
            <a:ext cx="84963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章是按照事情发展的顺序写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先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夜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歌声引诱敌人上勾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接着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夜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为敌人带路途中以歌声为游击队员传递敌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再写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击队消灭德国兵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最后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写战斗结束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夜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村边小路旁继续吹奏着宛转的歌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6732720" y="2421000"/>
            <a:ext cx="23050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）诱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）带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）歼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）再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8"/>
          <p:cNvSpPr/>
          <p:nvPr/>
        </p:nvSpPr>
        <p:spPr>
          <a:xfrm>
            <a:off x="5651640" y="22766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夜莺又名黄鸟，体长二十五厘米左右，它不但模样漂亮，且善鸣啭，歌喉清脆甜美，是鸟类中有名的歌唱家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3" descr="27鸟"/>
          <p:cNvPicPr/>
          <p:nvPr/>
        </p:nvPicPr>
        <p:blipFill>
          <a:blip r:embed="rId1"/>
          <a:stretch/>
        </p:blipFill>
        <p:spPr>
          <a:xfrm>
            <a:off x="4764240" y="1981080"/>
            <a:ext cx="3578040" cy="39625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BANR003"/>
          <p:cNvPicPr/>
          <p:nvPr/>
        </p:nvPicPr>
        <p:blipFill>
          <a:blip r:embed="rId2"/>
          <a:stretch/>
        </p:blipFill>
        <p:spPr>
          <a:xfrm>
            <a:off x="1219320" y="609480"/>
            <a:ext cx="7086600" cy="10526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5"/>
          <p:cNvSpPr/>
          <p:nvPr/>
        </p:nvSpPr>
        <p:spPr>
          <a:xfrm>
            <a:off x="1981080" y="76212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夜     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95679ca2cd1076e1c9efd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再读课文，你对课文中的小主人公“夜莺”有怎样的印象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4" descr="01300000165486121723443177364"/>
          <p:cNvPicPr/>
          <p:nvPr/>
        </p:nvPicPr>
        <p:blipFill>
          <a:blip r:embed="rId2"/>
          <a:stretch/>
        </p:blipFill>
        <p:spPr>
          <a:xfrm>
            <a:off x="0" y="5445000"/>
            <a:ext cx="1189080" cy="14130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5"/>
          <p:cNvSpPr/>
          <p:nvPr/>
        </p:nvSpPr>
        <p:spPr>
          <a:xfrm>
            <a:off x="1116000" y="2133720"/>
            <a:ext cx="21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机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3708360" y="2133720"/>
            <a:ext cx="18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Arial"/>
                <a:ea typeface="楷体_GB2312"/>
              </a:rPr>
              <a:t>勇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1403280" y="350028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具有很强的爱国主义精神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3aaad526f39a4a188644f9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1187280" y="692280"/>
            <a:ext cx="756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那惊心动魄的卫国战争年代，一个和我们年龄相仿的孩子却如此沉着、机智地与敌人斗智斗勇，在课文字里行间中，你能捕捉到他的机智、勇敢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读边用          画出小夜莺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言</a:t>
            </a:r>
            <a:r>
              <a:rPr b="1" lang="zh-CN" sz="60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3276720" y="4365720"/>
            <a:ext cx="1008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5" descr="20091249133953778012"/>
          <p:cNvPicPr/>
          <p:nvPr/>
        </p:nvPicPr>
        <p:blipFill>
          <a:blip r:embed="rId2"/>
          <a:stretch/>
        </p:blipFill>
        <p:spPr>
          <a:xfrm>
            <a:off x="7164360" y="4869000"/>
            <a:ext cx="1513080" cy="125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p2009122918562665933"/>
          <p:cNvPicPr/>
          <p:nvPr/>
        </p:nvPicPr>
        <p:blipFill>
          <a:blip r:embed="rId1"/>
          <a:stretch/>
        </p:blipFill>
        <p:spPr>
          <a:xfrm>
            <a:off x="0" y="0"/>
            <a:ext cx="9325080" cy="6931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夜莺的歌声打破了夏日的沉寂。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这歌声停了一会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接着又用一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新的劲头唱起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828720" y="31417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但联系上下文，便可发觉其中还有其他的意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“停了一会儿”“新的劲头唱起来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机警的小夜莺已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发觉了敌人，经过思考，他决定去接触敌人，把敌人引入游击队的埋伏圈，消灭敌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863640" y="242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表面上看，这两句话在描写夜莺的歌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p2009122918562665933"/>
          <p:cNvPicPr/>
          <p:nvPr/>
        </p:nvPicPr>
        <p:blipFill>
          <a:blip r:embed="rId1"/>
          <a:stretch/>
        </p:blipFill>
        <p:spPr>
          <a:xfrm>
            <a:off x="0" y="0"/>
            <a:ext cx="9325080" cy="69310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孩子从嘴里掏出一个小玩意儿，递给他，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快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蓝眼睛望着他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539640" y="227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快活”是小孩子的性格特点，快乐、活泼。“快活”在这里反映了“小夜莺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539640" y="227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快活”是小孩子的性格特点，快乐、活泼。“快活”在这里反映了“小夜莺”在敌人面前表现出超乎寻常的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镇静、坦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孩子在凶恶的敌人面前表现得如此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镇定自如、依然快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可见孩子的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胆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p2009122918562665933"/>
          <p:cNvPicPr/>
          <p:nvPr/>
        </p:nvPicPr>
        <p:blipFill>
          <a:blip r:embed="rId1"/>
          <a:stretch/>
        </p:blipFill>
        <p:spPr>
          <a:xfrm>
            <a:off x="0" y="0"/>
            <a:ext cx="9325080" cy="693108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3"/>
          <p:cNvSpPr/>
          <p:nvPr/>
        </p:nvSpPr>
        <p:spPr>
          <a:xfrm>
            <a:off x="539640" y="404640"/>
            <a:ext cx="8353440" cy="532800"/>
          </a:xfrm>
          <a:prstGeom prst="rect">
            <a:avLst/>
          </a:prstGeom>
          <a:gradFill rotWithShape="0">
            <a:gsLst>
              <a:gs pos="0">
                <a:srgbClr val="ffcc99">
                  <a:alpha val="49019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怎么会剩下我一个？这里有麻雀、乌鸦、猫头鹰，多着呢。夜莺倒只有我一个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587520" y="1590840"/>
            <a:ext cx="8232480" cy="971640"/>
          </a:xfrm>
          <a:prstGeom prst="rect">
            <a:avLst/>
          </a:prstGeom>
          <a:gradFill rotWithShape="0">
            <a:gsLst>
              <a:gs pos="0">
                <a:srgbClr val="ffcc99">
                  <a:alpha val="51372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呢？战争一开始这里就没有人了。”小孩不慌不忙地回答，“刚刚一开战，村子就着火了，大家都喊：‘野兽来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野兽来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 ’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都跑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539640" y="3213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小夜莺在回答敌人盘问时，说的几句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一语双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539640" y="32209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小夜莺在回答敌人盘问时，说的几句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一语双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话。小夜莺正是凭借自己天真的话，加之自己一系列貌似顽皮的动作，在敌人不易觉察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戏弄、谩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敌人                 这些话语体现了小夜莺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机智和                 对敌人的憎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p2009122918562665933"/>
          <p:cNvPicPr/>
          <p:nvPr/>
        </p:nvPicPr>
        <p:blipFill>
          <a:blip r:embed="rId1"/>
          <a:stretch/>
        </p:blipFill>
        <p:spPr>
          <a:xfrm>
            <a:off x="0" y="0"/>
            <a:ext cx="9325080" cy="693108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3"/>
          <p:cNvSpPr/>
          <p:nvPr/>
        </p:nvSpPr>
        <p:spPr>
          <a:xfrm>
            <a:off x="539640" y="404640"/>
            <a:ext cx="8353440" cy="532800"/>
          </a:xfrm>
          <a:prstGeom prst="rect">
            <a:avLst/>
          </a:prstGeom>
          <a:gradFill rotWithShape="0">
            <a:gsLst>
              <a:gs pos="0">
                <a:srgbClr val="ffcc99">
                  <a:alpha val="49019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怎么会剩下我一个？这里有麻雀、乌鸦、猫头鹰，多着呢。夜莺倒只有我一个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87520" y="1590840"/>
            <a:ext cx="8232480" cy="971640"/>
          </a:xfrm>
          <a:prstGeom prst="rect">
            <a:avLst/>
          </a:prstGeom>
          <a:gradFill rotWithShape="0">
            <a:gsLst>
              <a:gs pos="0">
                <a:srgbClr val="ffcc99">
                  <a:alpha val="51372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呢？战争一开始这里就没有人了。”小孩不慌不忙地回答，“刚刚一开战，村子就着火了，大家都喊：‘野兽来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野兽来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! ’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都跑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539640" y="3213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村庄里真的有很多鸟吗？联系文章开头，想想“麻雀、乌鸦、猫头鹰”指的是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3"/>
          <p:cNvSpPr/>
          <p:nvPr/>
        </p:nvSpPr>
        <p:spPr>
          <a:xfrm>
            <a:off x="0" y="5484960"/>
            <a:ext cx="914400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大道两旁全是黑色的碎瓦。空旷的花园           里，烧焦的树垂头丧气地弯着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910080" y="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沉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324000" y="1557360"/>
            <a:ext cx="784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这部分写了小夜莺引诱德国兵，并主动和敌人接近，巧妙地回答德国军官的盘问，取得敌人对他的信任，让他带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4" descr="tn004"/>
          <p:cNvPicPr/>
          <p:nvPr/>
        </p:nvPicPr>
        <p:blipFill>
          <a:blip r:embed="rId1"/>
          <a:stretch/>
        </p:blipFill>
        <p:spPr>
          <a:xfrm>
            <a:off x="539640" y="26028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5"/>
          <p:cNvSpPr/>
          <p:nvPr/>
        </p:nvSpPr>
        <p:spPr>
          <a:xfrm>
            <a:off x="900000" y="6206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6"/>
          <p:cNvSpPr/>
          <p:nvPr/>
        </p:nvSpPr>
        <p:spPr>
          <a:xfrm>
            <a:off x="845964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p200991222405282679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3"/>
          <p:cNvSpPr/>
          <p:nvPr/>
        </p:nvSpPr>
        <p:spPr>
          <a:xfrm>
            <a:off x="324000" y="1159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分角色读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0" y="83664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军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“村子里就剩下你一个了吗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夜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“怎么会就剩下我一个？这里有麻雀、乌鸦、猫头鹰，多着呢。夜莺倒是只有我一个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军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“你这个坏家伙！我是问你这里有没有人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夜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“人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争一开始这里就没有人了。刚刚一开火，村子就着火了，大家都喊：‘野兽来了，野兽来了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都跑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军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“蠢东西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军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“你们这里有游击队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夜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“你说的是一种蘑菇吗？没有，我们这里没有这种蘑菇。这里只有红蘑菇、白蘑菇，还有洋蘑菇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3"/>
          <p:cNvSpPr/>
          <p:nvPr/>
        </p:nvSpPr>
        <p:spPr>
          <a:xfrm>
            <a:off x="1066680" y="1066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539640" y="26028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在给敌人带路时，小男孩有哪些言行？你从中体会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684360" y="1628640"/>
            <a:ext cx="7632720" cy="55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孩有时候学夜莺唱，有时候学杜鹃叫，胳膊一甩一甩地打着路旁的树枝，有时候弯下腰去拾球果，还用脚把球果踢起来。他好像把身边的军官完全忘记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6"/>
          <p:cNvSpPr/>
          <p:nvPr/>
        </p:nvSpPr>
        <p:spPr>
          <a:xfrm>
            <a:off x="1187280" y="3429000"/>
            <a:ext cx="1297080" cy="647640"/>
          </a:xfrm>
          <a:prstGeom prst="cloudCallout">
            <a:avLst>
              <a:gd name="adj1" fmla="val -32865"/>
              <a:gd name="adj2" fmla="val -96569"/>
            </a:avLst>
          </a:prstGeom>
          <a:solidFill>
            <a:srgbClr val="cc99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体 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684360" y="4365720"/>
            <a:ext cx="7848360" cy="551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在带路时，小夜莺有时学夜莺唱，有时学杜鹃叫，是为了让德国兵知道，这是自己的习惯爱好，用来麻痹敌人，以后他用鸟声和游击队联系时就不会引起怀疑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8">
            <a:hlinkClick r:id="" action="ppaction://hlinkshowjump?jump=nextslide"/>
          </p:cNvPr>
          <p:cNvSpPr/>
          <p:nvPr/>
        </p:nvSpPr>
        <p:spPr>
          <a:xfrm>
            <a:off x="810108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9"/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杜鹃又名布谷、郭公，属于夏候鸟，也就是说它们夏季在我国境内繁殖，秋季迁往印度和我国南方温暖地区越冬。杜鹃的体形有点像鸽子，只是更细长些。它们喜欢栖居在开阔的林地，常常隐在茂密的树上鸣叫，声音响亮，但很少会让人看见。可谓“不见其人，只闻其声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14" descr="28鸟"/>
          <p:cNvPicPr/>
          <p:nvPr/>
        </p:nvPicPr>
        <p:blipFill>
          <a:blip r:embed="rId1"/>
          <a:stretch/>
        </p:blipFill>
        <p:spPr>
          <a:xfrm>
            <a:off x="4648320" y="1828800"/>
            <a:ext cx="3633840" cy="4114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6" descr="BANR011"/>
          <p:cNvPicPr/>
          <p:nvPr/>
        </p:nvPicPr>
        <p:blipFill>
          <a:blip r:embed="rId2"/>
          <a:stretch/>
        </p:blipFill>
        <p:spPr>
          <a:xfrm>
            <a:off x="1143000" y="457200"/>
            <a:ext cx="7010280" cy="1143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7"/>
          <p:cNvSpPr/>
          <p:nvPr/>
        </p:nvSpPr>
        <p:spPr>
          <a:xfrm>
            <a:off x="1600200" y="60948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杜       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826920" y="3789360"/>
            <a:ext cx="7775640" cy="642600"/>
          </a:xfrm>
          <a:prstGeom prst="rect">
            <a:avLst/>
          </a:prstGeom>
          <a:gradFill rotWithShape="0">
            <a:gsLst>
              <a:gs pos="0">
                <a:srgbClr val="ffcc99">
                  <a:alpha val="7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小夜莺边走边打路旁树枝，拾球果踢，回答问话时就打岔说别的，也都是为了让德国兵认为他贪玩而不加警惕，从而顺利地跟着自己走进游击队的埋伏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4"/>
          <p:cNvSpPr/>
          <p:nvPr/>
        </p:nvSpPr>
        <p:spPr>
          <a:xfrm>
            <a:off x="1116000" y="3068640"/>
            <a:ext cx="1297080" cy="720720"/>
          </a:xfrm>
          <a:prstGeom prst="cloudCallout">
            <a:avLst>
              <a:gd name="adj1" fmla="val -27231"/>
              <a:gd name="adj2" fmla="val -120486"/>
            </a:avLst>
          </a:prstGeom>
          <a:solidFill>
            <a:srgbClr val="cc99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体 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611280" y="1628640"/>
            <a:ext cx="7848360" cy="1440000"/>
          </a:xfrm>
          <a:prstGeom prst="rect">
            <a:avLst/>
          </a:prstGeom>
          <a:solidFill>
            <a:srgbClr val="cc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说的是一种蘑菇吗？没有，我们这里没有这种蘑菇。这里只有红蘑菇、白蘑菇，还有洋蘑菇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6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7"/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539640" y="26028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在给敌人带路时，小男孩有哪些言行？你从中体会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395280" y="549360"/>
            <a:ext cx="822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果你是那位德国军官，从你一碰到这个孩子起，你会想什么？借用课文中的语言，说一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684360" y="2637000"/>
            <a:ext cx="76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一走进沉寂的村庄，听到宛转的夜莺声，我想（       ）。我看到这个男孩（       ），听到他（          ），我觉得（               ）。在路上，男孩（         ），我想尽管山林越来越密，也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3"/>
          <p:cNvSpPr/>
          <p:nvPr/>
        </p:nvSpPr>
        <p:spPr>
          <a:xfrm>
            <a:off x="755640" y="3645000"/>
            <a:ext cx="7561440" cy="83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游击队员听到小夜莺的叫声，知道他已经把敌人带来，通过有节奏的夜莺歌声知道了鬼子人数是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32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个，用两声杜鹃叫是报告有两挺机关枪。一声夜莺叫代表一个敌人，一声杜鹃叫代表一挺机枪。说明了，小夜莺同游击队用这种方式联系，已经不止一次了，他曾多次协助游击队消灭敌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684360" y="549360"/>
            <a:ext cx="76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游击队员是怎么知道敌人情况的？说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755640" y="1052640"/>
            <a:ext cx="7561440" cy="21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那个最先听到夜莺叫的凝神地站着，好像钉在那里似的。他注意数着一声一声的鸟叫：“一，二，三，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边数一边用手打着拍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夜莺的叫声停止了。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鬼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那个人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着传来两声杜鹃叫。“两挺机关枪。”他又补充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6"/>
          <p:cNvSpPr/>
          <p:nvPr/>
        </p:nvSpPr>
        <p:spPr>
          <a:xfrm flipV="1">
            <a:off x="1116000" y="2996640"/>
            <a:ext cx="1224000" cy="647640"/>
          </a:xfrm>
          <a:prstGeom prst="cloudCallout">
            <a:avLst>
              <a:gd name="adj1" fmla="val -45462"/>
              <a:gd name="adj2" fmla="val 81861"/>
            </a:avLst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"/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8"/>
          <p:cNvSpPr/>
          <p:nvPr/>
        </p:nvSpPr>
        <p:spPr>
          <a:xfrm>
            <a:off x="2646720" y="59500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此时，德国军官会想到他在传递信息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吴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3"/>
          <p:cNvSpPr/>
          <p:nvPr/>
        </p:nvSpPr>
        <p:spPr>
          <a:xfrm>
            <a:off x="762120" y="2286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德国兵走到林中空地上的时候，突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松树林里发出一声口哨响，像回声一样回答了孩子。孩子突然站住，转了个身，钻到树林里不见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762120" y="26668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枪声打破了林中的寂静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军官还没来得及抓起手枪，就滚到了路边的尘埃里。被冲锋枪打伤的德国兵一个跟一个地倒下。呻吟声、叫喊声、断断续续的口令声充满了树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场景描写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.2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755640" y="2060640"/>
            <a:ext cx="779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场景是指某一时间和地点，由一定的人物和人物活动所组成的生活画面。常常调动人的各种感官，从视觉、嗅觉、听觉到联想想象，加上各种描写，如肖像描写、行动描写、语言描写、心理描写等，给人一种很直观的画面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3"/>
          <p:cNvSpPr/>
          <p:nvPr/>
        </p:nvSpPr>
        <p:spPr>
          <a:xfrm>
            <a:off x="324000" y="692280"/>
            <a:ext cx="8496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场队伍除法了，行军灶打头，跟着就是小孩和军官，他俩并排着走。小孩有时候学夜莺唱，有时候学杜鹃叫，胳膊一甩一甩地打着路旁的树枝，有时候弯下腰去拾球果，还用脚把球果踢起来。他好像把身边的军官完全忘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林越来越密。弯弯曲曲的小路穿过密密的白桦树林，穿过杂草丛生的空地，又爬上了长满古松的小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24000" y="692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场队伍除法了，行军灶打头，跟着就是小孩和军官，他俩并排着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437040" y="62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整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7"/>
          <p:cNvSpPr/>
          <p:nvPr/>
        </p:nvSpPr>
        <p:spPr>
          <a:xfrm>
            <a:off x="6877080" y="2421000"/>
            <a:ext cx="165744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>
            <a:off x="468360" y="2924280"/>
            <a:ext cx="806436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468360" y="3500280"/>
            <a:ext cx="626436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8593200" y="2205000"/>
            <a:ext cx="5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主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395280" y="452772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~~~~~~~~~~~~~~~~~~~~~~~~~~~~~~~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~~~~~~~~~~~~~~~~~~~~~~~~~~~~~~~~~~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~~~~~~~~~~~~~~~~~~~~~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5940360" y="537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自然景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4"/>
          <p:cNvSpPr/>
          <p:nvPr/>
        </p:nvSpPr>
        <p:spPr>
          <a:xfrm>
            <a:off x="4089600" y="58514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视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395280" y="170028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~~~~~~~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~~~~~~~~~~~~~~~~~~~~~~~~~~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6"/>
          <p:cNvSpPr/>
          <p:nvPr/>
        </p:nvSpPr>
        <p:spPr>
          <a:xfrm>
            <a:off x="-108000" y="1773360"/>
            <a:ext cx="4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黑体"/>
              </a:rPr>
              <a:t>听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7"/>
          <p:cNvSpPr/>
          <p:nvPr/>
        </p:nvSpPr>
        <p:spPr>
          <a:xfrm>
            <a:off x="395280" y="335772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~~~~~~~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~~~~~~~~~~~~~~~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-108000" y="3430440"/>
            <a:ext cx="4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黑体"/>
              </a:rPr>
              <a:t>联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寻找课文中的场景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一说有哪些感官参与描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3"/>
          <p:cNvSpPr/>
          <p:nvPr/>
        </p:nvSpPr>
        <p:spPr>
          <a:xfrm>
            <a:off x="1258920" y="1268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默读课文的开头和结尾，发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1116000" y="2276640"/>
            <a:ext cx="7201080" cy="73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章首尾呼应，浑然一体。同时还告诉我们文中叙述的故事并不是一次偶然的巧遇。小夜莺在村口放哨这是他的职责，以夜莺的歌声传递信息则是他和敌人进行斗争的特殊方式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样更加突出了“小夜莺”的机智勇敢和爱国主义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3"/>
          <p:cNvSpPr/>
          <p:nvPr/>
        </p:nvSpPr>
        <p:spPr>
          <a:xfrm>
            <a:off x="684360" y="249228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课题为什么叫“夜莺的歌声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学了这篇课文，小夜莺给你留下了什么印象？最令你佩服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4"/>
          <p:cNvSpPr/>
          <p:nvPr/>
        </p:nvSpPr>
        <p:spPr>
          <a:xfrm>
            <a:off x="1979640" y="620640"/>
            <a:ext cx="2879640" cy="1079640"/>
          </a:xfrm>
          <a:prstGeom prst="cloudCallout">
            <a:avLst>
              <a:gd name="adj1" fmla="val -46583"/>
              <a:gd name="adj2" fmla="val 111472"/>
            </a:avLst>
          </a:prstGeom>
          <a:solidFill>
            <a:srgbClr val="ccffcc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总结课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FR_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3"/>
          <p:cNvSpPr/>
          <p:nvPr/>
        </p:nvSpPr>
        <p:spPr>
          <a:xfrm>
            <a:off x="1295280" y="1219320"/>
            <a:ext cx="6705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题包含两个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是孩子用夜莺的歌声诱惑敌人，取得敌人的信任，并用歌声向游击队报告情况，帮助游击队歼灭了德国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是孩子被游击队员亲切地称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夜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夜莺的歌声是动听的，美好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4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teacher"/>
          <p:cNvPicPr/>
          <p:nvPr/>
        </p:nvPicPr>
        <p:blipFill>
          <a:blip r:embed="rId1"/>
          <a:srcRect l="10223" t="10094" r="14168" b="184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1332000" y="1700280"/>
            <a:ext cx="6985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德国法西斯在已经占领了欧洲许多国家之后，突然进攻苏联。苏联人民在以斯大林为首的党和政府的领导下，开始了卫国战争。第二次世界大战进入了新的阶段，后来苏联军队经过在莫斯科和斯大林格勒的大会战，歼灭了德军主力，根本扭转了战局，转入反攻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苏联发起总反攻，全部收复沦陷的土地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苏军攻克柏林，迫使德国无条件投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4" descr="BANR012"/>
          <p:cNvPicPr/>
          <p:nvPr/>
        </p:nvPicPr>
        <p:blipFill>
          <a:blip r:embed="rId2"/>
          <a:stretch/>
        </p:blipFill>
        <p:spPr>
          <a:xfrm>
            <a:off x="1692360" y="907920"/>
            <a:ext cx="6408720" cy="7430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2381400" y="9270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时   代   背   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5" descr="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6"/>
          <p:cNvSpPr/>
          <p:nvPr/>
        </p:nvSpPr>
        <p:spPr>
          <a:xfrm>
            <a:off x="2666880" y="2209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机智、勇敢、热爱祖国。是个小英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7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4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"/>
          <p:cNvSpPr/>
          <p:nvPr/>
        </p:nvSpPr>
        <p:spPr>
          <a:xfrm>
            <a:off x="1523880" y="1371600"/>
            <a:ext cx="6019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划去下面括号里不正确的读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削木头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āo   xu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   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ōng   kò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ào     sà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声        木  屑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āo     xi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在括号里填上适当的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的小路                  （       ）地回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的空地                  （       ）地站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的焦木                  （       ）地唱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395280" y="40464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Times New Roman"/>
              </a:rPr>
              <a:t>课外作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395280" y="1700280"/>
            <a:ext cx="8353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积累课文两个场景描写，并写写校园生活中的一个场景，如比赛开始前，期末考试前的校园等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阅读课外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卓娅和舒拉的故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4" descr="c75c10385343fbf2a724dd6eb07eca8065388f76"/>
          <p:cNvPicPr/>
          <p:nvPr/>
        </p:nvPicPr>
        <p:blipFill>
          <a:blip r:embed="rId1"/>
          <a:stretch/>
        </p:blipFill>
        <p:spPr>
          <a:xfrm rot="589800">
            <a:off x="539640" y="357336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Img214602905"/>
          <p:cNvPicPr/>
          <p:nvPr/>
        </p:nvPicPr>
        <p:blipFill>
          <a:blip r:embed="rId1"/>
          <a:stretch/>
        </p:blipFill>
        <p:spPr>
          <a:xfrm>
            <a:off x="3708360" y="189000"/>
            <a:ext cx="5262480" cy="422892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3"/>
          <p:cNvSpPr/>
          <p:nvPr/>
        </p:nvSpPr>
        <p:spPr>
          <a:xfrm>
            <a:off x="4693320" y="5229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世界杯乒乓球比赛场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4" descr="xin_0821004131042656307899"/>
          <p:cNvPicPr/>
          <p:nvPr/>
        </p:nvPicPr>
        <p:blipFill>
          <a:blip r:embed="rId2"/>
          <a:stretch/>
        </p:blipFill>
        <p:spPr>
          <a:xfrm>
            <a:off x="179280" y="1052640"/>
            <a:ext cx="3349800" cy="54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684360" y="141300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励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随着观众此起彼伏的呐喊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杯乒乓球决赛被我国选手王励勤与韩国选手柳承敏推向高潮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赛场内的热浪冲上了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在电视机前的我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得也目不转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、爸爸、哥哥戴着头巾，挥舞着乒乓拍，用力捶着茶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起场外拉拉队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王励勤又胜一局，在加油声中一路高歌的时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方柳承敏奋起反击，几个短摆，直线，反手对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很快把比分赶上，这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一家急得直跺脚，索性脱掉外套在手中挥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终于，王励勤不负众望，在掌声与欢呼中尽显他的王者风范，一声大叫，一个手势，最终赢得了比赛。霎时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场内沸腾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一家也抑制不住兴奋之情，拥抱在一起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2103480" y="12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916360" y="549360"/>
            <a:ext cx="45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文段阅读悟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2"/>
          <p:cNvSpPr/>
          <p:nvPr/>
        </p:nvSpPr>
        <p:spPr>
          <a:xfrm>
            <a:off x="684360" y="141300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励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随着观众此起彼伏的呐喊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杯乒乓球决赛被我国选手王励勤与韩国选手柳承敏推向高潮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赛场内的热浪冲上了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坐在电视机前的我们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看得也目不转睛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、爸爸、哥哥戴着头巾，挥舞着乒乓拍，用力捶着茶几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当起场外拉拉队来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王励勤又胜一局，在加油声中一路高歌的时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方柳承敏奋起反击，几个短摆，直线，反手对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很快把比分赶上，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这时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们一家急得直跺脚，索性脱掉外套在手中挥舞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终于，王励勤不负众望，在掌声与欢呼中尽显他的王者风范，一声大叫，一个手势，最终赢得了比赛。霎时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场内沸腾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们一家也抑制不住兴奋之情，拥抱在一起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2103480" y="12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2916360" y="549360"/>
            <a:ext cx="45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文段阅读悟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运用“场面描写”知识结构点评作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3"/>
          <p:cNvSpPr/>
          <p:nvPr/>
        </p:nvSpPr>
        <p:spPr>
          <a:xfrm>
            <a:off x="539640" y="3213000"/>
            <a:ext cx="1152720" cy="11527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4"/>
          <p:cNvSpPr/>
          <p:nvPr/>
        </p:nvSpPr>
        <p:spPr>
          <a:xfrm flipV="1">
            <a:off x="1619280" y="2707920"/>
            <a:ext cx="108108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5"/>
          <p:cNvSpPr/>
          <p:nvPr/>
        </p:nvSpPr>
        <p:spPr>
          <a:xfrm>
            <a:off x="2700360" y="2060640"/>
            <a:ext cx="1224000" cy="934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4284720" y="270828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7"/>
          <p:cNvSpPr/>
          <p:nvPr/>
        </p:nvSpPr>
        <p:spPr>
          <a:xfrm flipV="1">
            <a:off x="1692360" y="3573360"/>
            <a:ext cx="100800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8"/>
          <p:cNvGrpSpPr/>
          <p:nvPr/>
        </p:nvGrpSpPr>
        <p:grpSpPr>
          <a:xfrm>
            <a:off x="2700360" y="2276640"/>
            <a:ext cx="1295280" cy="1799640"/>
            <a:chOff x="2700360" y="2276640"/>
            <a:chExt cx="1295280" cy="1799640"/>
          </a:xfrm>
        </p:grpSpPr>
        <p:sp>
          <p:nvSpPr>
            <p:cNvPr id="725" name="Text Box 9"/>
            <p:cNvSpPr/>
            <p:nvPr/>
          </p:nvSpPr>
          <p:spPr>
            <a:xfrm>
              <a:off x="2771640" y="227664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选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700360" y="3141360"/>
              <a:ext cx="1152360" cy="93492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表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Line 11"/>
          <p:cNvSpPr/>
          <p:nvPr/>
        </p:nvSpPr>
        <p:spPr>
          <a:xfrm>
            <a:off x="1619280" y="4076640"/>
            <a:ext cx="115236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12"/>
          <p:cNvSpPr/>
          <p:nvPr/>
        </p:nvSpPr>
        <p:spPr>
          <a:xfrm>
            <a:off x="2771640" y="4221000"/>
            <a:ext cx="1152720" cy="8636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3"/>
          <p:cNvSpPr/>
          <p:nvPr/>
        </p:nvSpPr>
        <p:spPr>
          <a:xfrm>
            <a:off x="2771640" y="4292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4"/>
          <p:cNvSpPr/>
          <p:nvPr/>
        </p:nvSpPr>
        <p:spPr>
          <a:xfrm>
            <a:off x="1547640" y="4149720"/>
            <a:ext cx="129564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15"/>
          <p:cNvSpPr/>
          <p:nvPr/>
        </p:nvSpPr>
        <p:spPr>
          <a:xfrm>
            <a:off x="2843280" y="5300640"/>
            <a:ext cx="1079280" cy="8636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2843280" y="53737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7"/>
          <p:cNvSpPr/>
          <p:nvPr/>
        </p:nvSpPr>
        <p:spPr>
          <a:xfrm flipV="1">
            <a:off x="3851280" y="2060640"/>
            <a:ext cx="43344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8"/>
          <p:cNvSpPr/>
          <p:nvPr/>
        </p:nvSpPr>
        <p:spPr>
          <a:xfrm>
            <a:off x="5219640" y="1413000"/>
            <a:ext cx="47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围绕中心选取材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合理安排详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9"/>
          <p:cNvSpPr/>
          <p:nvPr/>
        </p:nvSpPr>
        <p:spPr>
          <a:xfrm flipV="1">
            <a:off x="3851280" y="3357720"/>
            <a:ext cx="360360" cy="14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0"/>
          <p:cNvSpPr/>
          <p:nvPr/>
        </p:nvSpPr>
        <p:spPr>
          <a:xfrm>
            <a:off x="4643280" y="2852640"/>
            <a:ext cx="475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综合运用多种表达方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写出特定的气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3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人物描写，环境描写相结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21"/>
          <p:cNvSpPr/>
          <p:nvPr/>
        </p:nvSpPr>
        <p:spPr>
          <a:xfrm>
            <a:off x="3924360" y="4653000"/>
            <a:ext cx="50328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5292720" y="465300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按照一定顺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点面结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23"/>
          <p:cNvSpPr/>
          <p:nvPr/>
        </p:nvSpPr>
        <p:spPr>
          <a:xfrm>
            <a:off x="3924360" y="587700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5219640" y="5734080"/>
            <a:ext cx="35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生动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质朴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凝练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清丽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豪放、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、婉约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539640" y="342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26"/>
          <p:cNvSpPr/>
          <p:nvPr/>
        </p:nvSpPr>
        <p:spPr>
          <a:xfrm>
            <a:off x="5076720" y="1484280"/>
            <a:ext cx="71640" cy="863640"/>
          </a:xfrm>
          <a:custGeom>
            <a:avLst/>
            <a:gdLst>
              <a:gd name="textAreaLeft" fmla="*/ 45720 w 71640"/>
              <a:gd name="textAreaRight" fmla="*/ 72000 w 71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27"/>
          <p:cNvSpPr/>
          <p:nvPr/>
        </p:nvSpPr>
        <p:spPr>
          <a:xfrm>
            <a:off x="5003640" y="285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28"/>
          <p:cNvSpPr/>
          <p:nvPr/>
        </p:nvSpPr>
        <p:spPr>
          <a:xfrm>
            <a:off x="5076720" y="573408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4284720" y="155736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黑体"/>
              </a:rPr>
              <a:t>真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黑体"/>
              </a:rPr>
              <a:t>典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4211640" y="263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4356000" y="4797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黑体"/>
              </a:rPr>
              <a:t>完整巧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4284720" y="29973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黑体"/>
              </a:rPr>
              <a:t>合理出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4356000" y="5734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黑体"/>
              </a:rPr>
              <a:t>通顺传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84360" y="4508640"/>
            <a:ext cx="122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深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135040" y="4836240"/>
            <a:ext cx="49680" cy="558720"/>
          </a:xfrm>
          <a:prstGeom prst="rect">
            <a:avLst/>
          </a:prstGeom>
          <a:noFill/>
          <a:ln w="25560">
            <a:solidFill>
              <a:srgbClr val="000000"/>
            </a:solidFill>
            <a:beve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1116000" y="645336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134_105214"/>
          <p:cNvPicPr/>
          <p:nvPr/>
        </p:nvPicPr>
        <p:blipFill>
          <a:blip r:embed="rId1"/>
          <a:stretch/>
        </p:blipFill>
        <p:spPr>
          <a:xfrm>
            <a:off x="-324000" y="-243000"/>
            <a:ext cx="9468000" cy="73803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4527360" y="2306520"/>
            <a:ext cx="546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德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4"/>
          <p:cNvGrpSpPr/>
          <p:nvPr/>
        </p:nvGrpSpPr>
        <p:grpSpPr>
          <a:xfrm>
            <a:off x="4572000" y="1371600"/>
            <a:ext cx="2209680" cy="3276720"/>
            <a:chOff x="4572000" y="1371600"/>
            <a:chExt cx="2209680" cy="3276720"/>
          </a:xfrm>
        </p:grpSpPr>
        <p:sp>
          <p:nvSpPr>
            <p:cNvPr id="551" name="Line 5"/>
            <p:cNvSpPr/>
            <p:nvPr/>
          </p:nvSpPr>
          <p:spPr>
            <a:xfrm>
              <a:off x="4724280" y="2819520"/>
              <a:ext cx="190512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>
              <a:off x="5181480" y="2743200"/>
              <a:ext cx="10670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7"/>
            <p:cNvSpPr/>
            <p:nvPr/>
          </p:nvSpPr>
          <p:spPr>
            <a:xfrm flipV="1">
              <a:off x="5257800" y="182844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"/>
            <p:cNvSpPr/>
            <p:nvPr/>
          </p:nvSpPr>
          <p:spPr>
            <a:xfrm>
              <a:off x="4572000" y="2666880"/>
              <a:ext cx="13716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9"/>
            <p:cNvSpPr/>
            <p:nvPr/>
          </p:nvSpPr>
          <p:spPr>
            <a:xfrm>
              <a:off x="5029200" y="2819520"/>
              <a:ext cx="16002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0"/>
            <p:cNvSpPr/>
            <p:nvPr/>
          </p:nvSpPr>
          <p:spPr>
            <a:xfrm>
              <a:off x="4572000" y="2819520"/>
              <a:ext cx="9144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1"/>
            <p:cNvSpPr/>
            <p:nvPr/>
          </p:nvSpPr>
          <p:spPr>
            <a:xfrm flipV="1">
              <a:off x="5181480" y="1371600"/>
              <a:ext cx="16002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Text Box 12"/>
          <p:cNvSpPr/>
          <p:nvPr/>
        </p:nvSpPr>
        <p:spPr>
          <a:xfrm>
            <a:off x="685800" y="1143000"/>
            <a:ext cx="24382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德国法西斯占领欧洲许多国家之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134_105214"/>
          <p:cNvPicPr/>
          <p:nvPr/>
        </p:nvPicPr>
        <p:blipFill>
          <a:blip r:embed="rId1"/>
          <a:stretch/>
        </p:blipFill>
        <p:spPr>
          <a:xfrm>
            <a:off x="-324000" y="-243000"/>
            <a:ext cx="9468000" cy="73803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3"/>
          <p:cNvSpPr/>
          <p:nvPr/>
        </p:nvSpPr>
        <p:spPr>
          <a:xfrm>
            <a:off x="4527360" y="2306520"/>
            <a:ext cx="546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德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4"/>
          <p:cNvSpPr/>
          <p:nvPr/>
        </p:nvSpPr>
        <p:spPr>
          <a:xfrm>
            <a:off x="4572000" y="2819520"/>
            <a:ext cx="9144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5"/>
          <p:cNvGrpSpPr/>
          <p:nvPr/>
        </p:nvGrpSpPr>
        <p:grpSpPr>
          <a:xfrm>
            <a:off x="4572000" y="1371600"/>
            <a:ext cx="2209680" cy="3276720"/>
            <a:chOff x="4572000" y="1371600"/>
            <a:chExt cx="2209680" cy="3276720"/>
          </a:xfrm>
        </p:grpSpPr>
        <p:sp>
          <p:nvSpPr>
            <p:cNvPr id="563" name="Line 6"/>
            <p:cNvSpPr/>
            <p:nvPr/>
          </p:nvSpPr>
          <p:spPr>
            <a:xfrm>
              <a:off x="4724280" y="2819520"/>
              <a:ext cx="190512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7"/>
            <p:cNvSpPr/>
            <p:nvPr/>
          </p:nvSpPr>
          <p:spPr>
            <a:xfrm>
              <a:off x="5181480" y="2743200"/>
              <a:ext cx="10670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8"/>
            <p:cNvSpPr/>
            <p:nvPr/>
          </p:nvSpPr>
          <p:spPr>
            <a:xfrm flipV="1">
              <a:off x="5257800" y="182844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"/>
            <p:cNvSpPr/>
            <p:nvPr/>
          </p:nvSpPr>
          <p:spPr>
            <a:xfrm>
              <a:off x="4572000" y="2666880"/>
              <a:ext cx="13716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0"/>
            <p:cNvSpPr/>
            <p:nvPr/>
          </p:nvSpPr>
          <p:spPr>
            <a:xfrm>
              <a:off x="5029200" y="2819520"/>
              <a:ext cx="16002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1"/>
            <p:cNvSpPr/>
            <p:nvPr/>
          </p:nvSpPr>
          <p:spPr>
            <a:xfrm flipV="1">
              <a:off x="5181480" y="1371600"/>
              <a:ext cx="16002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Text Box 12"/>
          <p:cNvSpPr/>
          <p:nvPr/>
        </p:nvSpPr>
        <p:spPr>
          <a:xfrm>
            <a:off x="685800" y="1143000"/>
            <a:ext cx="24382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德国法西斯占领欧洲许多国家之后，又突然进攻前苏联，妄想三个月征服前苏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Group 13"/>
          <p:cNvGrpSpPr/>
          <p:nvPr/>
        </p:nvGrpSpPr>
        <p:grpSpPr>
          <a:xfrm>
            <a:off x="5181480" y="1925640"/>
            <a:ext cx="2944800" cy="664920"/>
            <a:chOff x="5181480" y="1925640"/>
            <a:chExt cx="2944800" cy="664920"/>
          </a:xfrm>
        </p:grpSpPr>
        <p:sp>
          <p:nvSpPr>
            <p:cNvPr id="571" name="Text Box 14"/>
            <p:cNvSpPr/>
            <p:nvPr/>
          </p:nvSpPr>
          <p:spPr>
            <a:xfrm>
              <a:off x="7579800" y="1925640"/>
              <a:ext cx="546480" cy="459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苏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5"/>
            <p:cNvSpPr/>
            <p:nvPr/>
          </p:nvSpPr>
          <p:spPr>
            <a:xfrm flipV="1">
              <a:off x="5181480" y="2285640"/>
              <a:ext cx="20574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134_105214"/>
          <p:cNvPicPr/>
          <p:nvPr/>
        </p:nvPicPr>
        <p:blipFill>
          <a:blip r:embed="rId1"/>
          <a:stretch/>
        </p:blipFill>
        <p:spPr>
          <a:xfrm>
            <a:off x="-324000" y="-243000"/>
            <a:ext cx="9468000" cy="73803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4527360" y="2306520"/>
            <a:ext cx="546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德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4572000" y="1371600"/>
            <a:ext cx="2209680" cy="3276720"/>
            <a:chOff x="4572000" y="1371600"/>
            <a:chExt cx="2209680" cy="3276720"/>
          </a:xfrm>
        </p:grpSpPr>
        <p:sp>
          <p:nvSpPr>
            <p:cNvPr id="576" name="Line 5"/>
            <p:cNvSpPr/>
            <p:nvPr/>
          </p:nvSpPr>
          <p:spPr>
            <a:xfrm>
              <a:off x="4724280" y="2819520"/>
              <a:ext cx="190512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6"/>
            <p:cNvSpPr/>
            <p:nvPr/>
          </p:nvSpPr>
          <p:spPr>
            <a:xfrm>
              <a:off x="5181480" y="2743200"/>
              <a:ext cx="10670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7"/>
            <p:cNvSpPr/>
            <p:nvPr/>
          </p:nvSpPr>
          <p:spPr>
            <a:xfrm flipV="1">
              <a:off x="5257800" y="182844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4572000" y="2666880"/>
              <a:ext cx="13716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9"/>
            <p:cNvSpPr/>
            <p:nvPr/>
          </p:nvSpPr>
          <p:spPr>
            <a:xfrm>
              <a:off x="5029200" y="2819520"/>
              <a:ext cx="16002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0"/>
            <p:cNvSpPr/>
            <p:nvPr/>
          </p:nvSpPr>
          <p:spPr>
            <a:xfrm>
              <a:off x="4572000" y="2819520"/>
              <a:ext cx="9144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1"/>
            <p:cNvSpPr/>
            <p:nvPr/>
          </p:nvSpPr>
          <p:spPr>
            <a:xfrm flipV="1">
              <a:off x="5181480" y="1371600"/>
              <a:ext cx="16002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Text Box 12"/>
          <p:cNvSpPr/>
          <p:nvPr/>
        </p:nvSpPr>
        <p:spPr>
          <a:xfrm>
            <a:off x="7580160" y="1925640"/>
            <a:ext cx="5464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苏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685800" y="1143000"/>
            <a:ext cx="24382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德国法西斯占领欧洲许多国家之后，又突然进攻前苏联，妄想三个月征服前苏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4"/>
          <p:cNvSpPr/>
          <p:nvPr/>
        </p:nvSpPr>
        <p:spPr>
          <a:xfrm flipV="1">
            <a:off x="5181480" y="2285640"/>
            <a:ext cx="205740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685800" y="3429000"/>
            <a:ext cx="24382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，对前苏联狂轰滥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萧条的景象充斥着人们的双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4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9:19:32Z</dcterms:created>
  <dc:creator/>
  <dc:description/>
  <cp:keywords>幻灯片之家 http:/www.eeppt.com</cp:keywords>
  <dc:language>en-US</dc:language>
  <cp:lastModifiedBy/>
  <dcterms:modified xsi:type="dcterms:W3CDTF">2015-07-20T04:26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