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C710D-7B64-4ABF-8569-ED57671D0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B8C1-F77E-4EA2-BE3D-1E9797DE0D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C1CEFA-E727-4887-B6D9-3808EA1B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C59438-789C-451B-9F9C-ACFEA135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6E9E7B-022A-47DD-960B-15DCA584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567599-DF88-41F6-BE60-989F0FB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3C98D8-3408-4EB5-BA4E-9C1AF8A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23CB4D-33C2-47E8-9A9C-F5C965F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11F7A7-BDA7-4714-A129-88BB828D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8C819F-59C2-4AFF-998E-B0B8519A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DF5C0-AAB7-407A-98AE-0E47A85B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2B2909-4ADD-4277-B185-DCC56D57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D10B-3630-4D5D-B9EC-EDA1C74636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997509-3712-46AB-BBDC-89757668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CA8F18-C73E-454A-AC58-9F4702F7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ECBF0-A9DA-4A35-B56D-3D2FF43B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03FE03-8A4F-4F14-A5CD-B8DCA58E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5675F1-4BB4-47BA-B877-37FD8174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3C5851-9E5C-4128-A3EC-BFE73DE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705529-A01A-4B04-9139-5242674C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0A8628-98F6-4AFD-A49A-A338CBD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5509BF-347E-4C87-993A-5112BB1A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D8DA34-B912-4908-99D9-1CD11470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71C9-7C8C-4850-9273-BE611ADA9A0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D6FCDC-CC48-40FE-AEB9-D02D7B41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35AA28-ADF4-4F1F-A92F-A0A83784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5507C7-993E-46CD-BF70-3E5A4F09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79F5FB-2A68-480C-BE2A-3CD85EFD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5044FE-D210-4A5B-8C09-6D4B9136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38C510-1CD8-4F80-8D24-376F715A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04BD4B-FE08-4040-A536-D4C4B14A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29F071-C9EE-465E-8478-CF3513E1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600EBC-3026-456F-98AB-2DEF84D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984843-78DC-4561-A55F-71F6693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7A5-6262-4A05-A515-2DB85E4B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0743FF-0C30-40AA-85D2-6A315608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E8977-0B52-49EB-ACF2-622FFCB4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945CDD-E5E3-48A5-80CE-C1786B09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186017-6DB5-4E74-8F75-FDB26F6B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EF431C-D4C3-4CBA-B07E-F687D122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8FA4EA-FD3D-474F-893E-F148E23F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3AE4D3-5EE7-42CA-91CE-B2D522FC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75866E-A1D0-441F-96B2-0599AE0E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7CA508-D284-4A94-B96F-03413D60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EA3089-66AD-4648-876F-4F63817F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F21-8879-4F97-B836-F4B40AC3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348BA0-4F6C-4372-B7DF-DEC0BFC0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B3585A-8891-48CB-B2F5-E9BF06E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609DF0-F68D-404D-B5FF-8855929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586DF4-9D0F-4EEC-8C2E-1B60F303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6448E6-1720-4101-81CF-5B37DBB3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B5AC6B-8F13-4477-99AF-98FD1542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A57E0C-9FAC-4C0D-BA91-14AD5FC0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E08EBC-54A8-4D89-94CA-B1B7BE30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08CAF0-F18B-4BD9-BBA9-3EE4247D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FB7D00-3DFC-483D-A5F9-712F830E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312-3368-449C-AC4E-3A293F65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64051C-5079-4C3A-B5CB-3D98799C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A91A65-AAC7-4035-A9F7-19832A62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6D1977-FA1E-4F38-8B8D-AF95201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C2728A-B9AE-4843-B4BB-C60A9F7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20B71-EF41-4B11-BCE9-103EB969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E14178-F0BA-4AE4-B700-67DE5922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686486-0893-4A30-9DF1-30E30084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1ED817-1E86-4B78-BF64-BA23FBB2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AC0839-1414-4F66-98E8-BBB5BA1C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736810-7EC1-4F85-998C-9D6407CE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E59-9DFF-44F7-8660-094572B3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8D0F47-D0CC-4723-BA93-B1BAA627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30CD8C-A421-4CE2-A155-4837307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B125B4-B6F9-42B3-BFA3-DBAF08D6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9D37C2-01FD-450E-90D8-B38FE068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1EFC9B-EF7D-4F4B-A8E6-C8EBFAC8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DDFE3B-7E9C-427A-8FCF-D73FD8A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80C7BC-DB1D-432C-8E64-3CFE46EC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845358-BCED-4D99-AB7E-5CA79165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5DDDCD-C43B-461D-96C9-8001CDD2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F42-80A7-48FF-87C8-5B5F21CC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27F-0C5D-41E6-9D4D-F45F25A6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68F-5E59-47DD-AD6C-0A50EE6D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27BF-C42B-4B68-A845-4D139FF8B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0C6-9516-4006-84E1-F83EAC80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F16-C832-4337-99AF-10DB6CD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6B1-644E-4C18-99BB-69E8125E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E80-BE88-47CB-9B20-2D60A41E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12E-4EEF-4EEE-A025-C3B854D1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35A55-F13B-40B0-9C44-A13ECA2E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2D956-D2A0-4135-8957-EB4BB94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55F01-8B53-4B46-9788-66DDA48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42D76-6645-4FF4-9E12-C5A457C8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D7F6F-3A71-47EE-8CEA-4BE08470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8ED5-1B71-471B-8BDA-F42A5DB42F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C5A65-1014-45C9-9DB3-E511F565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37B8A-FC3B-42D8-90D7-31953B9F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82D2B-D500-4028-912A-F2AA45E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DBB2F-4BF1-458B-B697-2183BF4B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323C1-623D-432F-B30B-54AFAE42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6365C-E8C8-4068-B551-12E7E36B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97494-F279-4680-AD99-F34708A6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44BF1-4FB1-468E-A0CE-ABE75193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FC5AE-8842-4D21-A235-60639A65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E5E92-BF7F-49F6-A7F6-937374EA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EC93-B4FF-47B7-BAEC-8280AB5372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9B743-434A-4595-A21E-DD8F6F49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74DCC-547D-4B7B-9C1C-1CAB788C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D44B3-D364-4FF6-ABAD-5DABC0AB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301FE-E277-4866-8714-D161FD3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7EB58-E279-45FC-BC67-5063BA41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74C37-A705-49F3-92AE-52B01D0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D03F8-1F81-47BA-A239-1E0E4F7C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98D09-DD5B-4218-8D8D-D8A4F639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B8477-6B2D-445A-9F4B-1902FBE1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3859F-A637-47AD-ABE6-00DE27DF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292E-D05A-4510-8979-D3C31E1DD16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A353A-730E-45A5-9AE8-897C0A7B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E60FA-0278-4C54-AECD-41A14691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3CD99-F882-4B34-AB67-03570B42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CA80B-28D5-47A2-809C-793A7EE2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CD14C-1211-4F2D-BC18-794C5C30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CC909-4F65-44AB-9018-7BD94E4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793C2-56D2-498A-934E-41A19329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C086A-156F-4387-8415-82DAFDA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2FDAB-B385-4984-97B3-170FD965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37934-88B0-4659-BAF2-8378DC1B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957D-4A96-404B-A2F7-CDCE19681B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DE0E1-A041-4CB7-BA72-08BEDF94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EB521-2A36-42D6-8D7A-281C0CA9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EE5E7-D3A7-410C-98BA-81CEA054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DA717-38E4-4C50-BAC9-47AD19AA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3A787-0B84-4FB9-9AD9-0F899F50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2D1B7-D26D-49B7-B398-278E2383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B9BF0-DF00-452D-AF30-0710C746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AA59C-D2BB-4FCF-ABC4-C2A3D059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FEC5A-E80A-4FB7-AF17-E7B69C3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12653-3328-40BA-AE66-BF4B7A7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D89E-A829-4B3A-B536-6B6EF2CC197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6CECE-524F-4970-BF8E-F1141514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D3118-2EE6-4D76-810B-6688BC9E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F7F03-CD29-4D3A-96F2-59005AA7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8249F-F3E7-45ED-8383-0372FB0E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95A42-EEDF-4843-A60C-60DA22D6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9F66F-D96A-4B73-9D03-2841637C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85356-4734-43AC-A1CC-B960BCAD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BD8D3-FE81-479D-9412-E23B5335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A5176-1B30-4108-9289-30FEED90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A5428-2488-42DC-B82D-AF64445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4FEB-0282-4C03-95CA-D1BE1F986E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1CD5A-7100-489C-8586-1476F7B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B3382-89A1-4421-B8E9-EC3447C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599EE-328A-40D3-8C9F-C482F4C3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D876C-DA90-4A1B-B152-C067A162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5E5A1-4FD1-4E80-BC26-EE381564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0CD434-EF2E-43F7-A0B5-2183BEEC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A547C-9011-453E-860D-B784AD8B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5D0341-6843-4FC7-B3DB-AB62CA4C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177C4C-FD6C-4662-B13E-10ACA62A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E83515-DB6B-4FEA-8B44-0BEB1EC4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7A15-422F-479E-8134-92C7B548379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495CE-69F7-46CE-A47D-AE637DD9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1BA5B-CF90-4913-902E-12F1060D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78CCC-6D80-4B94-AE93-1718D71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D52B0-1B01-4960-8B11-70BD1673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E4A728-D2F9-45C8-9DBE-C15AFCA2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FD07A-D41F-47FC-BB3B-7BA8FD23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1493AD-E04E-4BBA-AAB5-BBB2DF71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F3B381-7B4D-4250-A00F-77C2874D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9887D5-A5DB-41C6-87C6-461BC139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8A7995-C125-408B-B1BB-6735170C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A865-00FD-4729-8145-D45A802D2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94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12C9-D889-4A36-8247-8311CF682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38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BA71-36CC-4FC8-B928-40182033B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82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1018-5B18-4B87-B667-A466BD6FA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26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6948-3A05-43A2-B6E6-424F14FEE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70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718-7528-4034-98CB-282C233B5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00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183"/>
          <p:cNvSpPr txBox="1"/>
          <p:nvPr/>
        </p:nvSpPr>
        <p:spPr>
          <a:xfrm>
            <a:off x="595440" y="476280"/>
            <a:ext cx="1152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Impact"/>
              </a:rPr>
              <a:t>' LOGO '</a:t>
            </a:r>
            <a:endParaRPr b="0" lang="en-US" sz="14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9A24-A7CA-48C8-839B-81D642134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00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01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9254-6421-408E-BC0A-0D7A57FDC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0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3F38-B85E-4616-972A-AF28B6547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74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102E-40CA-41ED-842F-7D8D20D87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18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92D3-5845-49FD-A1E0-2ECF9FC3B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62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16D1-6DAA-4062-BD8F-30335EC3A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06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0C96-4FDD-40E3-9FB5-AE282D5D5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50" name="Picture 79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D789-D997-4CE3-82D7-989CDAFA8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8"/>
          <p:cNvSpPr txBox="1"/>
          <p:nvPr/>
        </p:nvSpPr>
        <p:spPr>
          <a:xfrm>
            <a:off x="179280" y="210960"/>
            <a:ext cx="5472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12"/>
          <p:cNvSpPr txBox="1"/>
          <p:nvPr/>
        </p:nvSpPr>
        <p:spPr>
          <a:xfrm>
            <a:off x="179280" y="155520"/>
            <a:ext cx="547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6" name="矩形 5"/>
          <p:cNvSpPr/>
          <p:nvPr/>
        </p:nvSpPr>
        <p:spPr>
          <a:xfrm>
            <a:off x="108000" y="659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ffff"/>
                </a:solidFill>
                <a:latin typeface="Gulim"/>
              </a:rPr>
              <a:t>使用规范说明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8BFB4-FE7A-46D4-B895-DBB6E892221F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-7920" y="0"/>
            <a:ext cx="8466120" cy="6858000"/>
            <a:chOff x="-7920" y="0"/>
            <a:chExt cx="8466120" cy="6858000"/>
          </a:xfrm>
        </p:grpSpPr>
        <p:sp>
          <p:nvSpPr>
            <p:cNvPr id="624" name="矩形 4"/>
            <p:cNvSpPr/>
            <p:nvPr/>
          </p:nvSpPr>
          <p:spPr>
            <a:xfrm>
              <a:off x="5702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6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-79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Box 7"/>
            <p:cNvSpPr/>
            <p:nvPr/>
          </p:nvSpPr>
          <p:spPr>
            <a:xfrm rot="20926800">
              <a:off x="19130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6:36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