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1C69-A87F-4EC2-B7D5-4D20BE35E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E64B-1E8A-40ED-BE7F-13B6F3D6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64AD-4D40-43CF-806C-A7521972A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DA03-9E35-47AD-BA23-9323E1320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CC3D-D4AF-405E-8561-6A188634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F8C5-7B5C-4E01-ACB7-5C7AC8BC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CA11-75A1-4AF5-B6C2-DD70D6751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EC6A-44D4-448B-BE0F-41F94077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EB19-0EB4-4F1B-90F4-B40A4DB6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6423-230A-4C5A-95F8-28896ADD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8FCF-0835-4465-AAFB-5F84E331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2B996-946D-4618-88AB-5C233F33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D649-B3FA-421E-9A17-C53092AA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54E4-9D1B-468C-B9A4-4EE9E245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7152-A482-46A2-B57D-8637D1BF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185C-4014-4DC7-8B67-DF877C62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3857-D263-479D-887E-815EEC9F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7ABC-A4CC-460D-9F39-4EF863768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C4F7-F081-4725-9C38-6F5497671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16F0-F699-44D8-9026-FC54DF1F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7A7E-D70F-4A75-8D63-99B7A2D4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8173-A0FA-4984-B864-B450C871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85CE-4F49-4EF0-AC14-0265851C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DBAA-11AC-4DDA-B88A-0F28F614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1280"/>
            <a:ext cx="7772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1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9960"/>
            <a:ext cx="19051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9960"/>
            <a:ext cx="28958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9960"/>
            <a:ext cx="19051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1C6D-9356-4A10-BD49-57A40641A1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75B4-AEB7-4AF2-AD7B-CEA6565B498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WordArt 5" descr=""/>
          <p:cNvPicPr/>
          <p:nvPr/>
        </p:nvPicPr>
        <p:blipFill>
          <a:blip r:embed="rId2"/>
          <a:stretch/>
        </p:blipFill>
        <p:spPr>
          <a:xfrm>
            <a:off x="743040" y="2481120"/>
            <a:ext cx="8040600" cy="1779840"/>
          </a:xfrm>
          <a:prstGeom prst="rect">
            <a:avLst/>
          </a:prstGeom>
          <a:ln w="0">
            <a:noFill/>
          </a:ln>
        </p:spPr>
      </p:pic>
      <p:sp>
        <p:nvSpPr>
          <p:cNvPr id="159" name="矩形 3"/>
          <p:cNvSpPr/>
          <p:nvPr/>
        </p:nvSpPr>
        <p:spPr>
          <a:xfrm>
            <a:off x="203040" y="65041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11280"/>
            <a:ext cx="777240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                         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难词</a:t>
            </a:r>
            <a:endParaRPr b="1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633420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Times New Roman"/>
              </a:rPr>
              <a:t>定理：已经证明具有正确性、可以作为原则或规律的命题或公式，如，几何定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Times New Roman"/>
              </a:rPr>
              <a:t>　　定律：科学上对某种客观规律的概括，反映事物在一定条件下发生一定变化过程的必然关系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Times New Roman"/>
              </a:rPr>
              <a:t>　　学说：指学术上自成理论体系的主张或见解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Times New Roman"/>
              </a:rPr>
              <a:t>　　司空见惯：看得多了，不以为奇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Times New Roman"/>
              </a:rPr>
              <a:t>　　追根求源：追溯事物发生的根源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Times New Roman"/>
              </a:rPr>
              <a:t>　　敏锐：感觉灵敏，眼光尖锐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Times New Roman"/>
              </a:rPr>
              <a:t>　　无独有偶：虽然罕见，但是不止一个，还有一个可以成对儿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Times New Roman"/>
              </a:rPr>
              <a:t>　　百思不得其解：百：多次；解：理解。百般思索也无法理解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Times New Roman"/>
              </a:rPr>
              <a:t>　　打破砂锅问到底：比喻追究事情的根源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Times New Roman"/>
              </a:rPr>
              <a:t>　　见微知著：微：隐约；著：明显。见到事情的苗头，就能知道它的实质和发展趋势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Times New Roman"/>
              </a:rPr>
              <a:t>　　锲而不舍：锲：雕刻；舍：停止。比喻有恒心，有毅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5" dur="20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2349000"/>
            <a:ext cx="5830920" cy="17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9900"/>
                </a:solidFill>
                <a:latin typeface="Times New Roman"/>
              </a:rPr>
              <a:t>用简单的话与概括三个故事内容</a:t>
            </a:r>
            <a:endParaRPr b="1" lang="en-US" sz="8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39280" y="1196640"/>
            <a:ext cx="633420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谢皮罗教授从洗澡水的漩涡中发现问题，通过反复的试验和研究，发现水漩涡的旋转方向和地球的自转有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化学家波义耳偶然发现盐酸会使花瓣变红，继而进行了许多试验，终于发现了酸碱试纸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奥地利医生从儿子做梦时眼球转动这个现象，经过反复观察和分析，推断出凡睡者眼球转动时都表示在做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250920" y="476280"/>
          <a:ext cx="8642160" cy="5904000"/>
        </p:xfrm>
        <a:graphic>
          <a:graphicData uri="http://schemas.openxmlformats.org/drawingml/2006/table">
            <a:tbl>
              <a:tblPr/>
              <a:tblGrid>
                <a:gridCol w="1441440"/>
                <a:gridCol w="1942920"/>
                <a:gridCol w="2952720"/>
                <a:gridCol w="230508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e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e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6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e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36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de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20" name="Text Box 29"/>
          <p:cNvSpPr/>
          <p:nvPr/>
        </p:nvSpPr>
        <p:spPr>
          <a:xfrm>
            <a:off x="395280" y="549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人 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0"/>
          <p:cNvSpPr/>
          <p:nvPr/>
        </p:nvSpPr>
        <p:spPr>
          <a:xfrm>
            <a:off x="1835280" y="549360"/>
            <a:ext cx="165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现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1"/>
          <p:cNvSpPr/>
          <p:nvPr/>
        </p:nvSpPr>
        <p:spPr>
          <a:xfrm>
            <a:off x="4284720" y="5493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断发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2"/>
          <p:cNvSpPr/>
          <p:nvPr/>
        </p:nvSpPr>
        <p:spPr>
          <a:xfrm>
            <a:off x="6877080" y="5493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找到真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3"/>
          <p:cNvSpPr/>
          <p:nvPr/>
        </p:nvSpPr>
        <p:spPr>
          <a:xfrm>
            <a:off x="250920" y="1557360"/>
            <a:ext cx="14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谢皮罗教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4"/>
          <p:cNvSpPr/>
          <p:nvPr/>
        </p:nvSpPr>
        <p:spPr>
          <a:xfrm>
            <a:off x="1763640" y="127008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洗澡水的漩涡总是逆时针方向旋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5"/>
          <p:cNvSpPr/>
          <p:nvPr/>
        </p:nvSpPr>
        <p:spPr>
          <a:xfrm>
            <a:off x="3851280" y="1413000"/>
            <a:ext cx="23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总朝逆时针方向旋转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6"/>
          <p:cNvSpPr/>
          <p:nvPr/>
        </p:nvSpPr>
        <p:spPr>
          <a:xfrm>
            <a:off x="6732720" y="141300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的漩涡的方向与地球的自转有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7"/>
          <p:cNvSpPr/>
          <p:nvPr/>
        </p:nvSpPr>
        <p:spPr>
          <a:xfrm>
            <a:off x="468360" y="3284640"/>
            <a:ext cx="10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学家波义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8"/>
          <p:cNvSpPr/>
          <p:nvPr/>
        </p:nvSpPr>
        <p:spPr>
          <a:xfrm>
            <a:off x="1835280" y="3141720"/>
            <a:ext cx="15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溅上盐酸的紫罗兰花瓣变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9"/>
          <p:cNvSpPr/>
          <p:nvPr/>
        </p:nvSpPr>
        <p:spPr>
          <a:xfrm>
            <a:off x="3635280" y="2492280"/>
            <a:ext cx="2808360" cy="17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紫罗兰中有一种什么物质遇到盐酸会变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别的植物中会不会有同样的物质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别的酸对这种物质会有什么反应？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0"/>
          <p:cNvSpPr/>
          <p:nvPr/>
        </p:nvSpPr>
        <p:spPr>
          <a:xfrm>
            <a:off x="6659640" y="242100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明了酸碱试纸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石蕊试纸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1"/>
          <p:cNvSpPr/>
          <p:nvPr/>
        </p:nvSpPr>
        <p:spPr>
          <a:xfrm>
            <a:off x="250920" y="544500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奥地利医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2"/>
          <p:cNvSpPr/>
          <p:nvPr/>
        </p:nvSpPr>
        <p:spPr>
          <a:xfrm>
            <a:off x="1835280" y="5157720"/>
            <a:ext cx="165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儿子睡觉时眼珠转动起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3"/>
          <p:cNvSpPr/>
          <p:nvPr/>
        </p:nvSpPr>
        <p:spPr>
          <a:xfrm>
            <a:off x="3851280" y="5157720"/>
            <a:ext cx="23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眼珠转动会不会与做梦有关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4"/>
          <p:cNvSpPr/>
          <p:nvPr/>
        </p:nvSpPr>
        <p:spPr>
          <a:xfrm>
            <a:off x="6659640" y="5084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凡睡者眼珠转动时都表示在做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45"/>
          <p:cNvSpPr/>
          <p:nvPr/>
        </p:nvSpPr>
        <p:spPr>
          <a:xfrm>
            <a:off x="7524720" y="6093000"/>
            <a:ext cx="1295280" cy="576000"/>
          </a:xfrm>
          <a:prstGeom prst="ellips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WordArt 46"/>
          <p:cNvSpPr txBox="1"/>
          <p:nvPr/>
        </p:nvSpPr>
        <p:spPr>
          <a:xfrm>
            <a:off x="2050920" y="-1317600"/>
            <a:ext cx="1812960" cy="805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？</a:t>
            </a:r>
            <a:endParaRPr b="1" lang="en-US" sz="1800" spc="1" strike="noStrike">
              <a:ln w="9360">
                <a:solidFill>
                  <a:srgbClr val="99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38" name="WordArt 47"/>
          <p:cNvSpPr txBox="1"/>
          <p:nvPr/>
        </p:nvSpPr>
        <p:spPr>
          <a:xfrm>
            <a:off x="7020000" y="-1389240"/>
            <a:ext cx="1812960" cy="805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！</a:t>
            </a:r>
            <a:endParaRPr b="1" lang="en-US" sz="1800" spc="1" strike="noStrike">
              <a:ln w="9360">
                <a:solidFill>
                  <a:srgbClr val="99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7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7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396720" y="1628640"/>
            <a:ext cx="6480360" cy="23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瓦特发现热水开了，冲开了壶盖，经过研究发明了蒸汽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042920" y="62064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你还能举几个这样的例子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755640" y="1197000"/>
            <a:ext cx="6121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牛顿在树下，被苹果砸了头，后来发现了万有引力定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612720" y="3933720"/>
            <a:ext cx="6408720" cy="15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鲁班上山，手被植物叶划伤，后来发明了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11280"/>
            <a:ext cx="777240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                       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句子赏析</a:t>
            </a:r>
            <a:endParaRPr b="1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633420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99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最后把 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 ？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 拉直变成了 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 ！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 ，找到了真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ff99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9900"/>
                </a:solidFill>
                <a:latin typeface="黑体"/>
                <a:ea typeface="黑体"/>
              </a:rPr>
              <a:t>？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ff9900"/>
                </a:solidFill>
                <a:latin typeface="黑体"/>
                <a:ea typeface="黑体"/>
              </a:rPr>
              <a:t> 是发现的问题，是不断的追问，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ff9900"/>
                </a:solidFill>
                <a:latin typeface="黑体"/>
                <a:ea typeface="黑体"/>
              </a:rPr>
              <a:t> ！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ff9900"/>
                </a:solidFill>
                <a:latin typeface="黑体"/>
                <a:ea typeface="黑体"/>
              </a:rPr>
              <a:t> 是通过探索，解决了疑问，发现了真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11280"/>
            <a:ext cx="777240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句子赏析</a:t>
            </a:r>
            <a:endParaRPr b="1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633420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善于“打破沙锅问到底”的人，却从中有所发现，有所发明，有所创造，有所成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　“打破沙锅问到底”是一句俗语，形象表达了锲而不舍、不断探索的精神，“发现”“发明”“创造”“成就”这四个词按收获由小到大排列，也说明平常的事情中蕴含着真理，蕴含着伟大的成就，而这些只有“打破沙锅问到底”的人才能做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11280"/>
            <a:ext cx="777240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句子赏析</a:t>
            </a:r>
            <a:endParaRPr b="1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6720" y="1982880"/>
            <a:ext cx="662472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只要你见微知著，善于发问并不断探索，那么，当你解答了若干个问号之后，就能发现真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这句话用“只要……就……”的句式说明“科学并不神秘，真理并不遥远”，发现真理的前提条件就是“见微知著”，能从平常的现象中发现问题，看到本质，并“不断探索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11280"/>
            <a:ext cx="777240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句子赏析</a:t>
            </a:r>
            <a:endParaRPr b="1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633420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Times New Roman"/>
              </a:rPr>
              <a:t>如果说，科学领域的发现有什么偶然的机遇的话，那么这种“偶然的机遇”只能给那些有准备的人，给那些善于独立思考的人，给那些具有锲而不舍精神的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这句话对发现真理的条件作了说明，科学发现中存在“偶然的机遇”，说明科学真理就存在于我们身边，它并不神秘；“只能给……”说明科学发现也并不容易，指出了科学真理的发现是有条件的，那就是给那些“有准备”“独立思考”“锲而不舍”的人。“真理诞生于一百个问号之后”就是要敏锐地发现问题，坚持不懈地思考，深入地解决问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11280"/>
            <a:ext cx="777240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句子赏析</a:t>
            </a:r>
            <a:endParaRPr b="1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633420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二段中的“发现者”与“创立者”的位置能不能换？说说你的理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发现”与上文的“定理、定律”相对应，“创立”与上文的“学说”相对应，如果调换了，搭配就不恰当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8"/>
          <p:cNvSpPr/>
          <p:nvPr/>
        </p:nvSpPr>
        <p:spPr>
          <a:xfrm>
            <a:off x="2268360" y="1027080"/>
            <a:ext cx="6606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5440" y="1980720"/>
            <a:ext cx="3814920" cy="41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1600" spc="-1" strike="noStrike">
                <a:solidFill>
                  <a:srgbClr val="9900ff"/>
                </a:solidFill>
                <a:latin typeface="Times New Roman"/>
              </a:rPr>
              <a:t>叶永烈，温州人，笔名萧通、久远、叶杨、叶艇，生于</a:t>
            </a:r>
            <a:r>
              <a:rPr b="0" lang="zh-CN" sz="1600" spc="-1" strike="noStrike">
                <a:solidFill>
                  <a:srgbClr val="9900ff"/>
                </a:solidFill>
                <a:latin typeface="Times New Roman"/>
              </a:rPr>
              <a:t>1940</a:t>
            </a:r>
            <a:r>
              <a:rPr b="0" lang="zh-CN" sz="1600" spc="-1" strike="noStrike">
                <a:solidFill>
                  <a:srgbClr val="9900ff"/>
                </a:solidFill>
                <a:latin typeface="Times New Roman"/>
              </a:rPr>
              <a:t>年</a:t>
            </a:r>
            <a:r>
              <a:rPr b="0" lang="zh-CN" sz="1600" spc="-1" strike="noStrike">
                <a:solidFill>
                  <a:srgbClr val="9900ff"/>
                </a:solidFill>
                <a:latin typeface="Times New Roman"/>
              </a:rPr>
              <a:t>8</a:t>
            </a:r>
            <a:r>
              <a:rPr b="0" lang="zh-CN" sz="1600" spc="-1" strike="noStrike">
                <a:solidFill>
                  <a:srgbClr val="9900ff"/>
                </a:solidFill>
                <a:latin typeface="Times New Roman"/>
              </a:rPr>
              <a:t>月</a:t>
            </a:r>
            <a:r>
              <a:rPr b="0" lang="zh-CN" sz="1600" spc="-1" strike="noStrike">
                <a:solidFill>
                  <a:srgbClr val="9900ff"/>
                </a:solidFill>
                <a:latin typeface="Times New Roman"/>
              </a:rPr>
              <a:t>30</a:t>
            </a:r>
            <a:r>
              <a:rPr b="0" lang="zh-CN" sz="1600" spc="-1" strike="noStrike">
                <a:solidFill>
                  <a:srgbClr val="9900ff"/>
                </a:solidFill>
                <a:latin typeface="Times New Roman"/>
              </a:rPr>
              <a:t>日，现职作家、教授、科普文艺作家、报告文学作家。曾先后创作科幻小说、科学童话、科学小品、科普读物</a:t>
            </a:r>
            <a:r>
              <a:rPr b="0" lang="zh-CN" sz="1600" spc="-1" strike="noStrike">
                <a:solidFill>
                  <a:srgbClr val="9900ff"/>
                </a:solidFill>
                <a:latin typeface="Times New Roman"/>
              </a:rPr>
              <a:t>700</a:t>
            </a:r>
            <a:r>
              <a:rPr b="0" lang="zh-CN" sz="1600" spc="-1" strike="noStrike">
                <a:solidFill>
                  <a:srgbClr val="9900ff"/>
                </a:solidFill>
                <a:latin typeface="Times New Roman"/>
              </a:rPr>
              <a:t>多万字。曾任中国科协委员、全国青联常委、上海市科协常委、上海市科普创作协会副理事长、世界科幻小说协会理事。后来转向纪实文学创作。主要新著为作家出版社出版的</a:t>
            </a:r>
            <a:r>
              <a:rPr b="0" lang="zh-CN" sz="1600" spc="-1" strike="noStrike">
                <a:solidFill>
                  <a:srgbClr val="9900ff"/>
                </a:solidFill>
                <a:latin typeface="Times New Roman"/>
              </a:rPr>
              <a:t>6</a:t>
            </a:r>
            <a:r>
              <a:rPr b="0" lang="zh-CN" sz="1600" spc="-1" strike="noStrike">
                <a:solidFill>
                  <a:srgbClr val="9900ff"/>
                </a:solidFill>
                <a:latin typeface="Times New Roman"/>
              </a:rPr>
              <a:t>卷本《叶永烈自选集》；此外，还有《毛泽东的秘书们》《陈云全传》《叶永烈采访手记》《星条旗下的中国人》《我的家一半在美国》《一九九七逼近香港》《商品房大战》《何智丽风波》等。其作品《国宝——大熊猫》被选入七年级下册苏教版语文教科书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00ff"/>
                </a:solidFill>
                <a:latin typeface="Times New Roman"/>
              </a:rPr>
              <a:t>　　曾先后创作科幻小说、科学童话、科学小品、科普读物</a:t>
            </a:r>
            <a:r>
              <a:rPr b="0" lang="zh-CN" sz="1600" spc="-1" strike="noStrike">
                <a:solidFill>
                  <a:srgbClr val="9900ff"/>
                </a:solidFill>
                <a:latin typeface="Times New Roman"/>
              </a:rPr>
              <a:t>700</a:t>
            </a:r>
            <a:r>
              <a:rPr b="0" lang="zh-CN" sz="1600" spc="-1" strike="noStrike">
                <a:solidFill>
                  <a:srgbClr val="9900ff"/>
                </a:solidFill>
                <a:latin typeface="Times New Roman"/>
              </a:rPr>
              <a:t>多万字。曾任中国  叶永烈科协委员、全国青联常委、上海市科协常委、上海市科普创作协会副理事长、世界科幻小说协会理事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685800" y="611280"/>
            <a:ext cx="7772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3" name="WordArt 4"/>
          <p:cNvSpPr txBox="1"/>
          <p:nvPr/>
        </p:nvSpPr>
        <p:spPr>
          <a:xfrm>
            <a:off x="2771640" y="274680"/>
            <a:ext cx="4465800" cy="8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课外知识之作者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64" name="Picture 5" descr="2f9cbdcccfce3c5101e928f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396720" y="620640"/>
            <a:ext cx="633600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纵观千百年来的科学技术发展史，那些定理、定律、学说的发现者、创立者，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差不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都善于从细小的、司空见惯的自然现象中看出问题，不断发问，不断解决疑问，追根求源，最后把“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？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”拉直变成“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”，找到了真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文中的“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差不多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”一词能不能去掉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755640" y="1413000"/>
            <a:ext cx="6194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不能去掉，因为并不是所有的定理、定律、学说的发现者、创造者都是从细小的、司空见惯的现象中看出问题的。加上“差不多”体现了作者用词的准确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4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6200" y="260280"/>
            <a:ext cx="830268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科学家的这些事例</a:t>
            </a:r>
            <a:br>
              <a:rPr sz="3200"/>
            </a:b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说明了什么道理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44680" y="1692360"/>
            <a:ext cx="787392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科学并不神秘，真理并不遥远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只要你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见微知著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善于发问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并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不断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索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那么，当你解答了若干个问号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后，就能发现真理。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4"/>
          <p:cNvGrpSpPr/>
          <p:nvPr/>
        </p:nvGrpSpPr>
        <p:grpSpPr>
          <a:xfrm>
            <a:off x="3043800" y="35640"/>
            <a:ext cx="4670280" cy="2991240"/>
            <a:chOff x="3043800" y="35640"/>
            <a:chExt cx="4670280" cy="2991240"/>
          </a:xfrm>
        </p:grpSpPr>
        <p:sp>
          <p:nvSpPr>
            <p:cNvPr id="259" name="AutoShape 5"/>
            <p:cNvSpPr/>
            <p:nvPr/>
          </p:nvSpPr>
          <p:spPr>
            <a:xfrm rot="21360000">
              <a:off x="3131640" y="189000"/>
              <a:ext cx="4493880" cy="2684160"/>
            </a:xfrm>
            <a:prstGeom prst="cloudCallout">
              <a:avLst>
                <a:gd name="adj1" fmla="val -40856"/>
                <a:gd name="adj2" fmla="val 6485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6"/>
            <p:cNvSpPr/>
            <p:nvPr/>
          </p:nvSpPr>
          <p:spPr>
            <a:xfrm rot="21360000">
              <a:off x="3607200" y="684720"/>
              <a:ext cx="3535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800" spc="-1" strike="noStrike">
                  <a:solidFill>
                    <a:srgbClr val="000066"/>
                  </a:solidFill>
                  <a:latin typeface="楷体_GB2312"/>
                  <a:ea typeface="新宋体"/>
                </a:rPr>
                <a:t>微：隐约。著：明显。见到事情的苗头，就能够知道他的实质和发展方向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Text Box 7"/>
          <p:cNvSpPr/>
          <p:nvPr/>
        </p:nvSpPr>
        <p:spPr>
          <a:xfrm>
            <a:off x="466560" y="2638440"/>
            <a:ext cx="1081080" cy="6426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7338960" y="3713040"/>
            <a:ext cx="576360" cy="6426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4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11280"/>
            <a:ext cx="7772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1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22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如果说，科学领域的发现有什么偶然的机遇的话，那么这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偶然的机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只能给那些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有准备的人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给那些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善于独立思考的人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给那些具有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锲而不舍精神的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8" dur="2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11280"/>
            <a:ext cx="7772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1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4" descr="02"/>
          <p:cNvPicPr/>
          <p:nvPr/>
        </p:nvPicPr>
        <p:blipFill>
          <a:blip r:embed="rId1"/>
          <a:stretch/>
        </p:blipFill>
        <p:spPr>
          <a:xfrm>
            <a:off x="0" y="0"/>
            <a:ext cx="9468000" cy="71740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" descr="08032205"/>
          <p:cNvPicPr/>
          <p:nvPr/>
        </p:nvPicPr>
        <p:blipFill>
          <a:blip r:embed="rId2"/>
          <a:stretch/>
        </p:blipFill>
        <p:spPr>
          <a:xfrm>
            <a:off x="108000" y="3429000"/>
            <a:ext cx="4608360" cy="384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2009110131519734"/>
          <p:cNvPicPr/>
          <p:nvPr/>
        </p:nvPicPr>
        <p:blipFill>
          <a:blip r:embed="rId3"/>
          <a:stretch/>
        </p:blipFill>
        <p:spPr>
          <a:xfrm>
            <a:off x="108000" y="0"/>
            <a:ext cx="4608360" cy="32860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200803242004185323a"/>
          <p:cNvPicPr/>
          <p:nvPr/>
        </p:nvPicPr>
        <p:blipFill>
          <a:blip r:embed="rId4"/>
          <a:stretch/>
        </p:blipFill>
        <p:spPr>
          <a:xfrm>
            <a:off x="5219640" y="3500280"/>
            <a:ext cx="3924360" cy="36021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372840752007061711314502_640"/>
          <p:cNvPicPr/>
          <p:nvPr/>
        </p:nvPicPr>
        <p:blipFill>
          <a:blip r:embed="rId5"/>
          <a:stretch/>
        </p:blipFill>
        <p:spPr>
          <a:xfrm>
            <a:off x="5219640" y="0"/>
            <a:ext cx="3924360" cy="335772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9"/>
          <p:cNvSpPr/>
          <p:nvPr/>
        </p:nvSpPr>
        <p:spPr>
          <a:xfrm>
            <a:off x="3849120" y="2133720"/>
            <a:ext cx="911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新宋体"/>
              </a:rPr>
              <a:t>爱迪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8464680" y="142920"/>
            <a:ext cx="5461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新宋体"/>
              </a:rPr>
              <a:t>爱因斯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183600" y="5445000"/>
            <a:ext cx="60696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牛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8456040" y="3670200"/>
            <a:ext cx="606960" cy="17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袁隆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777240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Times New Roman"/>
                <a:ea typeface="黑体"/>
              </a:rPr>
              <a:t>文章 写法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50920" y="1752120"/>
            <a:ext cx="676728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黑体"/>
              </a:rPr>
              <a:t>这篇课文首先开门见山提出“真理诞生于一百个问号之后”这一观点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黑体"/>
              </a:rPr>
              <a:t>然后列举具体事实加以证明，即是“用事实说明观点”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黑体"/>
              </a:rPr>
              <a:t>最后总结作者的理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32960" y="549000"/>
            <a:ext cx="57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00"/>
                </a:solidFill>
                <a:latin typeface="Times New Roman"/>
                <a:ea typeface="黑体"/>
              </a:rPr>
              <a:t>五、小练笔</a:t>
            </a:r>
            <a:endParaRPr b="1" lang="en-US" sz="4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539640" y="2276640"/>
            <a:ext cx="64803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仿照课文中的写法写一段话，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用具体事实说明一个观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。（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功夫不负有心人”“虚心使人进步，骄傲使人落后”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539640" y="4870440"/>
            <a:ext cx="64803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提出观点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---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论证观点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---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总结观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685440" y="1980720"/>
            <a:ext cx="6334200" cy="41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Times New Roman"/>
              </a:rPr>
              <a:t>学习了这篇课文，你有什么收获？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WordArt 4" descr="白色大理石"/>
          <p:cNvPicPr/>
          <p:nvPr/>
        </p:nvPicPr>
        <p:blipFill>
          <a:blip r:embed="rId1"/>
          <a:stretch/>
        </p:blipFill>
        <p:spPr>
          <a:xfrm>
            <a:off x="1749600" y="438120"/>
            <a:ext cx="368136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1" dur="2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WordArt 4"/>
          <p:cNvSpPr txBox="1"/>
          <p:nvPr/>
        </p:nvSpPr>
        <p:spPr>
          <a:xfrm>
            <a:off x="1332000" y="2278080"/>
            <a:ext cx="623088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再见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1106640" y="6118200"/>
            <a:ext cx="675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200812220254763_2"/>
          <p:cNvPicPr/>
          <p:nvPr/>
        </p:nvPicPr>
        <p:blipFill>
          <a:blip r:embed="rId1"/>
          <a:stretch/>
        </p:blipFill>
        <p:spPr>
          <a:xfrm>
            <a:off x="433440" y="1474920"/>
            <a:ext cx="6450120" cy="5113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MCj04326690000[1]"/>
          <p:cNvPicPr/>
          <p:nvPr/>
        </p:nvPicPr>
        <p:blipFill>
          <a:blip r:embed="rId2"/>
          <a:stretch/>
        </p:blipFill>
        <p:spPr>
          <a:xfrm>
            <a:off x="7093080" y="5373720"/>
            <a:ext cx="1214280" cy="1214280"/>
          </a:xfrm>
          <a:prstGeom prst="rect">
            <a:avLst/>
          </a:prstGeom>
          <a:ln w="0">
            <a:noFill/>
          </a:ln>
        </p:spPr>
      </p:pic>
      <p:sp>
        <p:nvSpPr>
          <p:cNvPr id="167" name="WordArt 4"/>
          <p:cNvSpPr txBox="1"/>
          <p:nvPr/>
        </p:nvSpPr>
        <p:spPr>
          <a:xfrm>
            <a:off x="1692360" y="316080"/>
            <a:ext cx="4824360" cy="11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宋体"/>
              </a:rPr>
              <a:t>课外连接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38160" dir="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012"/>
          <p:cNvPicPr/>
          <p:nvPr/>
        </p:nvPicPr>
        <p:blipFill>
          <a:blip r:embed="rId1"/>
          <a:stretch/>
        </p:blipFill>
        <p:spPr>
          <a:xfrm>
            <a:off x="1476360" y="2492280"/>
            <a:ext cx="1600200" cy="1765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01"/>
          <p:cNvPicPr/>
          <p:nvPr/>
        </p:nvPicPr>
        <p:blipFill>
          <a:blip r:embed="rId2"/>
          <a:stretch/>
        </p:blipFill>
        <p:spPr>
          <a:xfrm>
            <a:off x="684360" y="1305000"/>
            <a:ext cx="2676240" cy="2952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无标题啊啊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3708360" y="765000"/>
            <a:ext cx="3495600" cy="42865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MCj04326690000[1]"/>
          <p:cNvPicPr/>
          <p:nvPr/>
        </p:nvPicPr>
        <p:blipFill>
          <a:blip r:embed="rId4"/>
          <a:stretch/>
        </p:blipFill>
        <p:spPr>
          <a:xfrm>
            <a:off x="7524720" y="5445000"/>
            <a:ext cx="121464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2"/>
          <p:cNvSpPr txBox="1"/>
          <p:nvPr/>
        </p:nvSpPr>
        <p:spPr>
          <a:xfrm>
            <a:off x="3348000" y="47628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相关链接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73" name="Picture 3" descr="t579b"/>
          <p:cNvPicPr/>
          <p:nvPr/>
        </p:nvPicPr>
        <p:blipFill>
          <a:blip r:embed="rId1"/>
          <a:srcRect l="10224" t="16784" r="13565" b="14780"/>
          <a:stretch/>
        </p:blipFill>
        <p:spPr>
          <a:xfrm>
            <a:off x="2340000" y="3573360"/>
            <a:ext cx="4464000" cy="26686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755640" y="1125360"/>
            <a:ext cx="83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石蕊试纸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石蕊是一种枝状地衣，可提炼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红紫色的结晶粉末，粉末的主要成分是碱性碳酸盐；这种粉末微溶于水，易溶于酒精。将粉末溶于酒精溶液等，形成一种混合物，就是石蕊色素染料；把滤纸浸在染料中，干燥后便成了石蕊试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684360" y="765000"/>
            <a:ext cx="41050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石蕊试纸常用来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定物质的酸碱性。如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将石蕊试纸放入酸性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液中，试纸就会转为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色；若放入碱性溶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中，试纸则变成蓝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石蕊"/>
          <p:cNvPicPr/>
          <p:nvPr/>
        </p:nvPicPr>
        <p:blipFill>
          <a:blip r:embed="rId1">
            <a:lum bright="12000"/>
          </a:blip>
          <a:srcRect l="0" t="2021" r="14266" b="0"/>
          <a:stretch/>
        </p:blipFill>
        <p:spPr>
          <a:xfrm>
            <a:off x="4572000" y="836640"/>
            <a:ext cx="3282840" cy="48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11280"/>
            <a:ext cx="777240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                          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阅读课文</a:t>
            </a:r>
            <a:endParaRPr b="1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6334200" cy="41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、最后把“？” 拉直变成“！”，找到了真理。这里的 “？”“！”各指的是什么？作者这样表述有什么好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、三个事例中的主人公是怎样把“？”拉直变成“！”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活动策划方案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card1321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900000" y="549360"/>
            <a:ext cx="741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755640" y="2492280"/>
            <a:ext cx="849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诞生  洗澡  机械  漩涡  玫瑰   领域  逆时针  追根索源  锲而不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无独有偶  见微知著 司空见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5"/>
          <p:cNvSpPr/>
          <p:nvPr/>
        </p:nvSpPr>
        <p:spPr>
          <a:xfrm>
            <a:off x="7524720" y="5877000"/>
            <a:ext cx="1079640" cy="4316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755640" y="5445000"/>
            <a:ext cx="33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百思不得其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4067280" y="544500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破沙锅问到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8"/>
          <p:cNvGrpSpPr/>
          <p:nvPr/>
        </p:nvGrpSpPr>
        <p:grpSpPr>
          <a:xfrm>
            <a:off x="1476360" y="3284640"/>
            <a:ext cx="4535640" cy="1728720"/>
            <a:chOff x="1476360" y="3284640"/>
            <a:chExt cx="4535640" cy="1728720"/>
          </a:xfrm>
        </p:grpSpPr>
        <p:sp>
          <p:nvSpPr>
            <p:cNvPr id="189" name="AutoShape 9"/>
            <p:cNvSpPr/>
            <p:nvPr/>
          </p:nvSpPr>
          <p:spPr>
            <a:xfrm>
              <a:off x="1476360" y="3284640"/>
              <a:ext cx="4535640" cy="172872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0"/>
            <p:cNvSpPr/>
            <p:nvPr/>
          </p:nvSpPr>
          <p:spPr>
            <a:xfrm>
              <a:off x="1908000" y="3357720"/>
              <a:ext cx="3672000" cy="13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思考了很久还是找不到答案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11"/>
          <p:cNvGrpSpPr/>
          <p:nvPr/>
        </p:nvGrpSpPr>
        <p:grpSpPr>
          <a:xfrm>
            <a:off x="4284720" y="2852640"/>
            <a:ext cx="4859280" cy="1873080"/>
            <a:chOff x="4284720" y="2852640"/>
            <a:chExt cx="4859280" cy="1873080"/>
          </a:xfrm>
        </p:grpSpPr>
        <p:sp>
          <p:nvSpPr>
            <p:cNvPr id="192" name="AutoShape 12"/>
            <p:cNvSpPr/>
            <p:nvPr/>
          </p:nvSpPr>
          <p:spPr>
            <a:xfrm>
              <a:off x="4284720" y="2852640"/>
              <a:ext cx="4859280" cy="1873080"/>
            </a:xfrm>
            <a:prstGeom prst="cloudCallout">
              <a:avLst>
                <a:gd name="adj1" fmla="val -39972"/>
                <a:gd name="adj2" fmla="val 76101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3"/>
            <p:cNvSpPr/>
            <p:nvPr/>
          </p:nvSpPr>
          <p:spPr>
            <a:xfrm>
              <a:off x="5004000" y="3068640"/>
              <a:ext cx="3744720" cy="13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追根刨底直到把问题弄明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14"/>
          <p:cNvGrpSpPr/>
          <p:nvPr/>
        </p:nvGrpSpPr>
        <p:grpSpPr>
          <a:xfrm>
            <a:off x="5724360" y="2492280"/>
            <a:ext cx="3635280" cy="1584360"/>
            <a:chOff x="5724360" y="2492280"/>
            <a:chExt cx="3635280" cy="1584360"/>
          </a:xfrm>
        </p:grpSpPr>
        <p:sp>
          <p:nvSpPr>
            <p:cNvPr id="195" name="AutoShape 15"/>
            <p:cNvSpPr/>
            <p:nvPr/>
          </p:nvSpPr>
          <p:spPr>
            <a:xfrm>
              <a:off x="5724360" y="2492280"/>
              <a:ext cx="3635280" cy="1584360"/>
            </a:xfrm>
            <a:prstGeom prst="cloudCallout">
              <a:avLst>
                <a:gd name="adj1" fmla="val -39083"/>
                <a:gd name="adj2" fmla="val 74550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6"/>
            <p:cNvSpPr/>
            <p:nvPr/>
          </p:nvSpPr>
          <p:spPr>
            <a:xfrm>
              <a:off x="6300720" y="2781360"/>
              <a:ext cx="2843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表示看惯了就不觉得奇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17"/>
          <p:cNvGrpSpPr/>
          <p:nvPr/>
        </p:nvGrpSpPr>
        <p:grpSpPr>
          <a:xfrm>
            <a:off x="1258920" y="2421000"/>
            <a:ext cx="4392720" cy="1944720"/>
            <a:chOff x="1258920" y="2421000"/>
            <a:chExt cx="4392720" cy="1944720"/>
          </a:xfrm>
        </p:grpSpPr>
        <p:sp>
          <p:nvSpPr>
            <p:cNvPr id="198" name="AutoShape 18"/>
            <p:cNvSpPr/>
            <p:nvPr/>
          </p:nvSpPr>
          <p:spPr>
            <a:xfrm>
              <a:off x="1258920" y="2421000"/>
              <a:ext cx="4392720" cy="1944720"/>
            </a:xfrm>
            <a:prstGeom prst="cloudCallout">
              <a:avLst>
                <a:gd name="adj1" fmla="val -40856"/>
                <a:gd name="adj2" fmla="val 64856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19"/>
            <p:cNvSpPr/>
            <p:nvPr/>
          </p:nvSpPr>
          <p:spPr>
            <a:xfrm>
              <a:off x="1763640" y="2781360"/>
              <a:ext cx="345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某种少见的情况，偏有类似的出现，配成一对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20"/>
          <p:cNvGrpSpPr/>
          <p:nvPr/>
        </p:nvGrpSpPr>
        <p:grpSpPr>
          <a:xfrm>
            <a:off x="5003640" y="1557360"/>
            <a:ext cx="4391280" cy="1944720"/>
            <a:chOff x="5003640" y="1557360"/>
            <a:chExt cx="4391280" cy="1944720"/>
          </a:xfrm>
        </p:grpSpPr>
        <p:sp>
          <p:nvSpPr>
            <p:cNvPr id="201" name="AutoShape 21"/>
            <p:cNvSpPr/>
            <p:nvPr/>
          </p:nvSpPr>
          <p:spPr>
            <a:xfrm>
              <a:off x="5003640" y="1557360"/>
              <a:ext cx="4391280" cy="1944720"/>
            </a:xfrm>
            <a:prstGeom prst="cloudCallout">
              <a:avLst>
                <a:gd name="adj1" fmla="val -40856"/>
                <a:gd name="adj2" fmla="val 64856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22"/>
            <p:cNvSpPr/>
            <p:nvPr/>
          </p:nvSpPr>
          <p:spPr>
            <a:xfrm>
              <a:off x="5508000" y="1917720"/>
              <a:ext cx="345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追索事物发生的根源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23"/>
          <p:cNvGrpSpPr/>
          <p:nvPr/>
        </p:nvGrpSpPr>
        <p:grpSpPr>
          <a:xfrm>
            <a:off x="3995640" y="2205000"/>
            <a:ext cx="4392720" cy="1944720"/>
            <a:chOff x="3995640" y="2205000"/>
            <a:chExt cx="4392720" cy="1944720"/>
          </a:xfrm>
        </p:grpSpPr>
        <p:sp>
          <p:nvSpPr>
            <p:cNvPr id="204" name="AutoShape 24"/>
            <p:cNvSpPr/>
            <p:nvPr/>
          </p:nvSpPr>
          <p:spPr>
            <a:xfrm>
              <a:off x="3995640" y="2205000"/>
              <a:ext cx="4392720" cy="1944720"/>
            </a:xfrm>
            <a:prstGeom prst="cloudCallout">
              <a:avLst>
                <a:gd name="adj1" fmla="val -40856"/>
                <a:gd name="adj2" fmla="val 64856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25"/>
            <p:cNvSpPr/>
            <p:nvPr/>
          </p:nvSpPr>
          <p:spPr>
            <a:xfrm>
              <a:off x="4500360" y="2565360"/>
              <a:ext cx="345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微：隐约。著：明显。见到事情的苗头，就能够知道他的实质和发展方向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26"/>
          <p:cNvGrpSpPr/>
          <p:nvPr/>
        </p:nvGrpSpPr>
        <p:grpSpPr>
          <a:xfrm>
            <a:off x="7164360" y="333360"/>
            <a:ext cx="2449440" cy="2804760"/>
            <a:chOff x="7164360" y="333360"/>
            <a:chExt cx="2449440" cy="2804760"/>
          </a:xfrm>
        </p:grpSpPr>
        <p:sp>
          <p:nvSpPr>
            <p:cNvPr id="207" name="AutoShape 27"/>
            <p:cNvSpPr/>
            <p:nvPr/>
          </p:nvSpPr>
          <p:spPr>
            <a:xfrm>
              <a:off x="7164360" y="333360"/>
              <a:ext cx="2449440" cy="2804760"/>
            </a:xfrm>
            <a:prstGeom prst="cloudCallout">
              <a:avLst>
                <a:gd name="adj1" fmla="val -40856"/>
                <a:gd name="adj2" fmla="val 64856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28"/>
            <p:cNvSpPr/>
            <p:nvPr/>
          </p:nvSpPr>
          <p:spPr>
            <a:xfrm>
              <a:off x="7445520" y="852840"/>
              <a:ext cx="192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8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锲：镂刻。舍：停止。比喻有恒心，有毅力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29"/>
          <p:cNvSpPr/>
          <p:nvPr/>
        </p:nvSpPr>
        <p:spPr>
          <a:xfrm>
            <a:off x="2771640" y="2060640"/>
            <a:ext cx="116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z</a:t>
            </a:r>
            <a:r>
              <a:rPr b="0" lang="zh-CN" sz="3200" spc="-1" strike="noStrike">
                <a:solidFill>
                  <a:srgbClr val="ff3300"/>
                </a:solidFill>
                <a:latin typeface="Comic Sans MS"/>
                <a:ea typeface="宋体"/>
              </a:rPr>
              <a:t>ă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0"/>
          <p:cNvSpPr/>
          <p:nvPr/>
        </p:nvSpPr>
        <p:spPr>
          <a:xfrm>
            <a:off x="4213080" y="2060640"/>
            <a:ext cx="115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xi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1"/>
          <p:cNvSpPr/>
          <p:nvPr/>
        </p:nvSpPr>
        <p:spPr>
          <a:xfrm>
            <a:off x="2413080" y="3070080"/>
            <a:ext cx="11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Dotum"/>
                <a:ea typeface="宋体"/>
              </a:rPr>
              <a:t>n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2"/>
          <p:cNvSpPr/>
          <p:nvPr/>
        </p:nvSpPr>
        <p:spPr>
          <a:xfrm>
            <a:off x="6804000" y="2205000"/>
            <a:ext cx="116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mé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3"/>
          <p:cNvSpPr/>
          <p:nvPr/>
        </p:nvSpPr>
        <p:spPr>
          <a:xfrm>
            <a:off x="1187280" y="3141720"/>
            <a:ext cx="116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y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3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5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7" dur="1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1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3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1T20:16:08Z</dcterms:created>
  <dc:creator/>
  <dc:description/>
  <cp:keywords>幻灯片之家 http:/www.eeppt.com</cp:keywords>
  <dc:language>en-US</dc:language>
  <cp:lastModifiedBy/>
  <dcterms:modified xsi:type="dcterms:W3CDTF">2015-07-20T06:12:4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